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DCE1-CF2D-41F4-AEAB-1173907CE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ABB3-431E-4BBD-BA0E-3A627C368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3B7D-32A4-489B-9E75-1127E1BAD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DFAE-7362-48FA-BDE9-7CF161E34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FC66-13FC-4ED0-8904-C2EE54E32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9848-BA7D-4F30-B078-4143F4008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4E86-1001-416C-A019-3134923BD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598D-0FD3-4F13-9609-DF7EC313C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A4B4-6DE2-4365-BFD2-792E5417F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4558-E1CD-470C-9DFE-055E7F2CD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9E34-A5C6-4084-A40F-4EA471FE6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E6B6-C5F3-4D89-A490-313FC242E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D44DE-228E-4A4A-A396-5CE9EC37C6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6: Geome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: Students will identify and describe the parts of a circle and their relationships to one ano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4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ircumference (C): the distance around a circl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ircumference = pi ● diamet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l-GR" sz="3600" spc="-1" strike="noStrike">
                <a:solidFill>
                  <a:srgbClr val="000000"/>
                </a:solidFill>
                <a:latin typeface="Comic Sans MS"/>
              </a:rPr>
              <a:t>π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ircumference = 2 ● pi ● radi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l-GR" sz="3600" spc="-1" strike="noStrike">
                <a:solidFill>
                  <a:srgbClr val="000000"/>
                </a:solidFill>
                <a:latin typeface="Comic Sans MS"/>
              </a:rPr>
              <a:t>π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228600"/>
            <a:ext cx="8686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: Students will identify and describe the parts of a circle and their relationships to one ano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ircumfer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1,45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,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1,45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,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1,45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,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1,45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,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1,45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,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: Students will identify and describe the parts of a circle and their relationships to one another.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d the circumference of the cir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1.) d = 12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 = circum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12) =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14(12)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7.68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2.) r = 8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= circum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(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(8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.28(8)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0.24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,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8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8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8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8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8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8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80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: Students will identify and describe the parts of a circle and their relationships to one another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 the circum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) r = 5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) d = 13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) d = 20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) r = 7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2280" y="482760"/>
            <a:ext cx="1098720" cy="642600"/>
          </a:xfrm>
          <a:custGeom>
            <a:avLst/>
            <a:gdLst/>
            <a:ahLst/>
            <a:rect l="l" t="t" r="r" b="b"/>
            <a:pathLst>
              <a:path w="3052" h="1787">
                <a:moveTo>
                  <a:pt x="1017" y="2084"/>
                </a:moveTo>
                <a:cubicBezTo>
                  <a:pt x="1055" y="2121"/>
                  <a:pt x="1074" y="2144"/>
                  <a:pt x="1091" y="2183"/>
                </a:cubicBezTo>
                <a:cubicBezTo>
                  <a:pt x="1035" y="2059"/>
                  <a:pt x="970" y="1922"/>
                  <a:pt x="819" y="2059"/>
                </a:cubicBezTo>
                <a:cubicBezTo>
                  <a:pt x="594" y="2263"/>
                  <a:pt x="226" y="2805"/>
                  <a:pt x="496" y="3101"/>
                </a:cubicBezTo>
                <a:cubicBezTo>
                  <a:pt x="712" y="3337"/>
                  <a:pt x="1043" y="2831"/>
                  <a:pt x="1141" y="2729"/>
                </a:cubicBezTo>
                <a:cubicBezTo>
                  <a:pt x="1149" y="2729"/>
                  <a:pt x="1158" y="2729"/>
                  <a:pt x="1166" y="2729"/>
                </a:cubicBezTo>
              </a:path>
              <a:path w="3052" h="1787">
                <a:moveTo>
                  <a:pt x="1463" y="2208"/>
                </a:moveTo>
                <a:cubicBezTo>
                  <a:pt x="1536" y="2174"/>
                  <a:pt x="1585" y="2146"/>
                  <a:pt x="1662" y="2133"/>
                </a:cubicBezTo>
              </a:path>
              <a:path w="3052" h="1787">
                <a:moveTo>
                  <a:pt x="1389" y="2480"/>
                </a:moveTo>
                <a:cubicBezTo>
                  <a:pt x="1525" y="2447"/>
                  <a:pt x="1652" y="2376"/>
                  <a:pt x="1786" y="2332"/>
                </a:cubicBezTo>
                <a:cubicBezTo>
                  <a:pt x="1819" y="2324"/>
                  <a:pt x="1852" y="2315"/>
                  <a:pt x="1885" y="2307"/>
                </a:cubicBezTo>
              </a:path>
              <a:path w="3052" h="1787">
                <a:moveTo>
                  <a:pt x="2257" y="1935"/>
                </a:moveTo>
                <a:cubicBezTo>
                  <a:pt x="2257" y="2050"/>
                  <a:pt x="2237" y="2570"/>
                  <a:pt x="2282" y="2555"/>
                </a:cubicBezTo>
              </a:path>
              <a:path w="3052" h="1787">
                <a:moveTo>
                  <a:pt x="2580" y="1786"/>
                </a:moveTo>
                <a:cubicBezTo>
                  <a:pt x="2615" y="2027"/>
                  <a:pt x="2641" y="2268"/>
                  <a:pt x="2679" y="2505"/>
                </a:cubicBezTo>
              </a:path>
              <a:path w="3052" h="1787">
                <a:moveTo>
                  <a:pt x="1910" y="2108"/>
                </a:moveTo>
                <a:cubicBezTo>
                  <a:pt x="1929" y="1979"/>
                  <a:pt x="1971" y="1927"/>
                  <a:pt x="2084" y="1860"/>
                </a:cubicBezTo>
                <a:cubicBezTo>
                  <a:pt x="2255" y="1759"/>
                  <a:pt x="2291" y="1846"/>
                  <a:pt x="2431" y="1935"/>
                </a:cubicBezTo>
                <a:cubicBezTo>
                  <a:pt x="2617" y="2053"/>
                  <a:pt x="2714" y="1862"/>
                  <a:pt x="2803" y="1736"/>
                </a:cubicBezTo>
                <a:cubicBezTo>
                  <a:pt x="2833" y="1693"/>
                  <a:pt x="2824" y="1699"/>
                  <a:pt x="2778" y="1687"/>
                </a:cubicBezTo>
              </a:path>
              <a:path w="3052" h="1787">
                <a:moveTo>
                  <a:pt x="3398" y="2034"/>
                </a:moveTo>
                <a:cubicBezTo>
                  <a:pt x="3423" y="1921"/>
                  <a:pt x="3383" y="1822"/>
                  <a:pt x="3249" y="1786"/>
                </a:cubicBezTo>
                <a:cubicBezTo>
                  <a:pt x="3064" y="1737"/>
                  <a:pt x="2938" y="1947"/>
                  <a:pt x="2952" y="2108"/>
                </a:cubicBezTo>
                <a:cubicBezTo>
                  <a:pt x="2968" y="2141"/>
                  <a:pt x="2985" y="2175"/>
                  <a:pt x="3001" y="2208"/>
                </a:cubicBezTo>
                <a:cubicBezTo>
                  <a:pt x="3219" y="2259"/>
                  <a:pt x="3405" y="2236"/>
                  <a:pt x="3473" y="1960"/>
                </a:cubicBezTo>
                <a:cubicBezTo>
                  <a:pt x="3473" y="1894"/>
                  <a:pt x="3473" y="1827"/>
                  <a:pt x="3473" y="1761"/>
                </a:cubicBezTo>
              </a:path>
              <a:path w="3052" h="1787">
                <a:moveTo>
                  <a:pt x="3274" y="1339"/>
                </a:moveTo>
                <a:cubicBezTo>
                  <a:pt x="3274" y="1524"/>
                  <a:pt x="3302" y="1682"/>
                  <a:pt x="3349" y="1860"/>
                </a:cubicBezTo>
                <a:cubicBezTo>
                  <a:pt x="3382" y="1984"/>
                  <a:pt x="3417" y="2072"/>
                  <a:pt x="3473" y="218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463840" y="1785960"/>
            <a:ext cx="546120" cy="233280"/>
          </a:xfrm>
          <a:custGeom>
            <a:avLst/>
            <a:gdLst/>
            <a:ahLst/>
            <a:rect l="l" t="t" r="r" b="b"/>
            <a:pathLst>
              <a:path w="1514" h="646">
                <a:moveTo>
                  <a:pt x="7193" y="5407"/>
                </a:moveTo>
                <a:cubicBezTo>
                  <a:pt x="7193" y="5338"/>
                  <a:pt x="7199" y="5244"/>
                  <a:pt x="7094" y="5234"/>
                </a:cubicBezTo>
                <a:cubicBezTo>
                  <a:pt x="6987" y="5224"/>
                  <a:pt x="6857" y="5427"/>
                  <a:pt x="6846" y="5507"/>
                </a:cubicBezTo>
                <a:cubicBezTo>
                  <a:pt x="6824" y="5660"/>
                  <a:pt x="7091" y="5592"/>
                  <a:pt x="7144" y="5531"/>
                </a:cubicBezTo>
                <a:cubicBezTo>
                  <a:pt x="7152" y="5506"/>
                  <a:pt x="7161" y="5482"/>
                  <a:pt x="7169" y="5457"/>
                </a:cubicBezTo>
              </a:path>
              <a:path w="1514" h="646">
                <a:moveTo>
                  <a:pt x="7119" y="4961"/>
                </a:moveTo>
                <a:cubicBezTo>
                  <a:pt x="7119" y="5141"/>
                  <a:pt x="7147" y="5304"/>
                  <a:pt x="7169" y="5482"/>
                </a:cubicBezTo>
                <a:cubicBezTo>
                  <a:pt x="7169" y="5498"/>
                  <a:pt x="7169" y="5515"/>
                  <a:pt x="7169" y="5531"/>
                </a:cubicBezTo>
              </a:path>
              <a:path w="1514" h="646">
                <a:moveTo>
                  <a:pt x="7441" y="5184"/>
                </a:moveTo>
                <a:cubicBezTo>
                  <a:pt x="7491" y="5159"/>
                  <a:pt x="7529" y="5159"/>
                  <a:pt x="7590" y="5159"/>
                </a:cubicBezTo>
              </a:path>
              <a:path w="1514" h="646">
                <a:moveTo>
                  <a:pt x="7441" y="5283"/>
                </a:moveTo>
                <a:cubicBezTo>
                  <a:pt x="7514" y="5301"/>
                  <a:pt x="7565" y="5308"/>
                  <a:pt x="7640" y="5308"/>
                </a:cubicBezTo>
              </a:path>
              <a:path w="1514" h="646">
                <a:moveTo>
                  <a:pt x="7863" y="5035"/>
                </a:moveTo>
                <a:cubicBezTo>
                  <a:pt x="7842" y="5141"/>
                  <a:pt x="7838" y="5245"/>
                  <a:pt x="7838" y="5358"/>
                </a:cubicBezTo>
                <a:cubicBezTo>
                  <a:pt x="7838" y="5399"/>
                  <a:pt x="7838" y="5473"/>
                  <a:pt x="7838" y="5432"/>
                </a:cubicBezTo>
              </a:path>
              <a:path w="1514" h="646">
                <a:moveTo>
                  <a:pt x="8136" y="5060"/>
                </a:moveTo>
                <a:cubicBezTo>
                  <a:pt x="8088" y="4988"/>
                  <a:pt x="8023" y="5090"/>
                  <a:pt x="8012" y="5159"/>
                </a:cubicBezTo>
                <a:cubicBezTo>
                  <a:pt x="7989" y="5305"/>
                  <a:pt x="8032" y="5370"/>
                  <a:pt x="8186" y="5358"/>
                </a:cubicBezTo>
                <a:cubicBezTo>
                  <a:pt x="8333" y="5347"/>
                  <a:pt x="8409" y="5261"/>
                  <a:pt x="8359" y="5110"/>
                </a:cubicBezTo>
                <a:cubicBezTo>
                  <a:pt x="8324" y="5003"/>
                  <a:pt x="8240" y="5020"/>
                  <a:pt x="8161" y="50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25360" y="2125800"/>
            <a:ext cx="1054440" cy="268200"/>
          </a:xfrm>
          <a:custGeom>
            <a:avLst/>
            <a:gdLst/>
            <a:ahLst/>
            <a:rect l="l" t="t" r="r" b="b"/>
            <a:pathLst>
              <a:path w="2928" h="745">
                <a:moveTo>
                  <a:pt x="3522" y="6102"/>
                </a:moveTo>
                <a:cubicBezTo>
                  <a:pt x="3545" y="6149"/>
                  <a:pt x="3488" y="6044"/>
                  <a:pt x="3398" y="6028"/>
                </a:cubicBezTo>
                <a:cubicBezTo>
                  <a:pt x="3216" y="5995"/>
                  <a:pt x="3092" y="6414"/>
                  <a:pt x="3125" y="6548"/>
                </a:cubicBezTo>
                <a:cubicBezTo>
                  <a:pt x="3190" y="6811"/>
                  <a:pt x="3613" y="6569"/>
                  <a:pt x="3721" y="6499"/>
                </a:cubicBezTo>
                <a:cubicBezTo>
                  <a:pt x="3759" y="6461"/>
                  <a:pt x="3777" y="6438"/>
                  <a:pt x="3795" y="6400"/>
                </a:cubicBezTo>
              </a:path>
              <a:path w="2928" h="745">
                <a:moveTo>
                  <a:pt x="4093" y="6152"/>
                </a:moveTo>
                <a:cubicBezTo>
                  <a:pt x="4196" y="6110"/>
                  <a:pt x="4274" y="6057"/>
                  <a:pt x="4316" y="6127"/>
                </a:cubicBezTo>
              </a:path>
              <a:path w="2928" h="745">
                <a:moveTo>
                  <a:pt x="4043" y="6375"/>
                </a:moveTo>
                <a:cubicBezTo>
                  <a:pt x="4162" y="6342"/>
                  <a:pt x="4269" y="6314"/>
                  <a:pt x="4390" y="6300"/>
                </a:cubicBezTo>
              </a:path>
              <a:path w="2928" h="745">
                <a:moveTo>
                  <a:pt x="4936" y="6077"/>
                </a:moveTo>
                <a:cubicBezTo>
                  <a:pt x="4944" y="6190"/>
                  <a:pt x="4949" y="6328"/>
                  <a:pt x="4986" y="6424"/>
                </a:cubicBezTo>
              </a:path>
              <a:path w="2928" h="745">
                <a:moveTo>
                  <a:pt x="5209" y="6077"/>
                </a:moveTo>
                <a:cubicBezTo>
                  <a:pt x="5225" y="6187"/>
                  <a:pt x="5234" y="6288"/>
                  <a:pt x="5234" y="6400"/>
                </a:cubicBezTo>
                <a:cubicBezTo>
                  <a:pt x="5234" y="6408"/>
                  <a:pt x="5234" y="6416"/>
                  <a:pt x="5234" y="6424"/>
                </a:cubicBezTo>
              </a:path>
              <a:path w="2928" h="745">
                <a:moveTo>
                  <a:pt x="4688" y="6226"/>
                </a:moveTo>
                <a:cubicBezTo>
                  <a:pt x="4758" y="6099"/>
                  <a:pt x="4853" y="6070"/>
                  <a:pt x="4986" y="6003"/>
                </a:cubicBezTo>
                <a:cubicBezTo>
                  <a:pt x="5077" y="5957"/>
                  <a:pt x="5159" y="6010"/>
                  <a:pt x="5234" y="6052"/>
                </a:cubicBezTo>
                <a:cubicBezTo>
                  <a:pt x="5305" y="6091"/>
                  <a:pt x="5468" y="6186"/>
                  <a:pt x="5531" y="6077"/>
                </a:cubicBezTo>
                <a:cubicBezTo>
                  <a:pt x="5586" y="5981"/>
                  <a:pt x="5527" y="5988"/>
                  <a:pt x="5457" y="5953"/>
                </a:cubicBezTo>
              </a:path>
              <a:path w="2928" h="745">
                <a:moveTo>
                  <a:pt x="5953" y="6251"/>
                </a:moveTo>
                <a:cubicBezTo>
                  <a:pt x="5953" y="6171"/>
                  <a:pt x="5914" y="6143"/>
                  <a:pt x="5829" y="6152"/>
                </a:cubicBezTo>
                <a:cubicBezTo>
                  <a:pt x="5729" y="6163"/>
                  <a:pt x="5546" y="6333"/>
                  <a:pt x="5606" y="6449"/>
                </a:cubicBezTo>
                <a:cubicBezTo>
                  <a:pt x="5680" y="6593"/>
                  <a:pt x="5927" y="6509"/>
                  <a:pt x="6003" y="6424"/>
                </a:cubicBezTo>
                <a:cubicBezTo>
                  <a:pt x="6019" y="6391"/>
                  <a:pt x="6036" y="6358"/>
                  <a:pt x="6052" y="6325"/>
                </a:cubicBezTo>
              </a:path>
              <a:path w="2928" h="745">
                <a:moveTo>
                  <a:pt x="5928" y="5904"/>
                </a:moveTo>
                <a:cubicBezTo>
                  <a:pt x="5928" y="6053"/>
                  <a:pt x="5962" y="6160"/>
                  <a:pt x="6003" y="6300"/>
                </a:cubicBezTo>
                <a:cubicBezTo>
                  <a:pt x="6022" y="6378"/>
                  <a:pt x="6014" y="6395"/>
                  <a:pt x="6052" y="64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60640" y="2517840"/>
            <a:ext cx="188640" cy="179280"/>
          </a:xfrm>
          <a:custGeom>
            <a:avLst/>
            <a:gdLst/>
            <a:ahLst/>
            <a:rect l="l" t="t" r="r" b="b"/>
            <a:pathLst>
              <a:path w="522" h="497">
                <a:moveTo>
                  <a:pt x="3572" y="7020"/>
                </a:moveTo>
                <a:cubicBezTo>
                  <a:pt x="3572" y="7045"/>
                  <a:pt x="3572" y="7053"/>
                  <a:pt x="3597" y="7045"/>
                </a:cubicBezTo>
                <a:cubicBezTo>
                  <a:pt x="3528" y="7045"/>
                  <a:pt x="3542" y="7007"/>
                  <a:pt x="3473" y="6995"/>
                </a:cubicBezTo>
                <a:cubicBezTo>
                  <a:pt x="3374" y="6978"/>
                  <a:pt x="3274" y="7178"/>
                  <a:pt x="3249" y="7243"/>
                </a:cubicBezTo>
                <a:cubicBezTo>
                  <a:pt x="3156" y="7485"/>
                  <a:pt x="3297" y="7488"/>
                  <a:pt x="3497" y="7466"/>
                </a:cubicBezTo>
                <a:cubicBezTo>
                  <a:pt x="3569" y="7458"/>
                  <a:pt x="3723" y="7437"/>
                  <a:pt x="3746" y="736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446120" y="2394000"/>
            <a:ext cx="1098720" cy="276120"/>
          </a:xfrm>
          <a:custGeom>
            <a:avLst/>
            <a:gdLst/>
            <a:ahLst/>
            <a:rect l="l" t="t" r="r" b="b"/>
            <a:pathLst>
              <a:path w="3052" h="770">
                <a:moveTo>
                  <a:pt x="4018" y="7094"/>
                </a:moveTo>
                <a:cubicBezTo>
                  <a:pt x="4110" y="7071"/>
                  <a:pt x="4196" y="7045"/>
                  <a:pt x="4291" y="7045"/>
                </a:cubicBezTo>
              </a:path>
              <a:path w="3052" h="770">
                <a:moveTo>
                  <a:pt x="4118" y="7218"/>
                </a:moveTo>
                <a:cubicBezTo>
                  <a:pt x="4179" y="7201"/>
                  <a:pt x="4206" y="7193"/>
                  <a:pt x="4266" y="7193"/>
                </a:cubicBezTo>
              </a:path>
              <a:path w="3052" h="770">
                <a:moveTo>
                  <a:pt x="4564" y="6921"/>
                </a:moveTo>
                <a:cubicBezTo>
                  <a:pt x="4594" y="6897"/>
                  <a:pt x="4797" y="6732"/>
                  <a:pt x="4812" y="6846"/>
                </a:cubicBezTo>
                <a:cubicBezTo>
                  <a:pt x="4827" y="6960"/>
                  <a:pt x="4784" y="6973"/>
                  <a:pt x="4713" y="7045"/>
                </a:cubicBezTo>
                <a:cubicBezTo>
                  <a:pt x="4705" y="7053"/>
                  <a:pt x="4696" y="7061"/>
                  <a:pt x="4688" y="7069"/>
                </a:cubicBezTo>
                <a:cubicBezTo>
                  <a:pt x="4714" y="7063"/>
                  <a:pt x="4834" y="7002"/>
                  <a:pt x="4837" y="7069"/>
                </a:cubicBezTo>
                <a:cubicBezTo>
                  <a:pt x="4844" y="7230"/>
                  <a:pt x="4630" y="7342"/>
                  <a:pt x="4490" y="7342"/>
                </a:cubicBezTo>
                <a:cubicBezTo>
                  <a:pt x="4490" y="7314"/>
                  <a:pt x="4488" y="7303"/>
                  <a:pt x="4465" y="7293"/>
                </a:cubicBezTo>
              </a:path>
              <a:path w="3052" h="770">
                <a:moveTo>
                  <a:pt x="5085" y="7243"/>
                </a:moveTo>
                <a:cubicBezTo>
                  <a:pt x="5085" y="7251"/>
                  <a:pt x="5085" y="7260"/>
                  <a:pt x="5085" y="7268"/>
                </a:cubicBezTo>
              </a:path>
              <a:path w="3052" h="770">
                <a:moveTo>
                  <a:pt x="5159" y="6846"/>
                </a:moveTo>
                <a:cubicBezTo>
                  <a:pt x="5184" y="6936"/>
                  <a:pt x="5166" y="7059"/>
                  <a:pt x="5209" y="7144"/>
                </a:cubicBezTo>
                <a:cubicBezTo>
                  <a:pt x="5238" y="7202"/>
                  <a:pt x="5247" y="7122"/>
                  <a:pt x="5259" y="7094"/>
                </a:cubicBezTo>
              </a:path>
              <a:path w="3052" h="770">
                <a:moveTo>
                  <a:pt x="5358" y="6772"/>
                </a:moveTo>
                <a:cubicBezTo>
                  <a:pt x="5358" y="6835"/>
                  <a:pt x="5329" y="6927"/>
                  <a:pt x="5383" y="6945"/>
                </a:cubicBezTo>
                <a:cubicBezTo>
                  <a:pt x="5469" y="6974"/>
                  <a:pt x="5521" y="6945"/>
                  <a:pt x="5606" y="6945"/>
                </a:cubicBezTo>
              </a:path>
              <a:path w="3052" h="770">
                <a:moveTo>
                  <a:pt x="5606" y="6747"/>
                </a:moveTo>
                <a:cubicBezTo>
                  <a:pt x="5556" y="6863"/>
                  <a:pt x="5558" y="7035"/>
                  <a:pt x="5531" y="7169"/>
                </a:cubicBezTo>
                <a:cubicBezTo>
                  <a:pt x="5513" y="7243"/>
                  <a:pt x="5505" y="7250"/>
                  <a:pt x="5507" y="7293"/>
                </a:cubicBezTo>
              </a:path>
              <a:path w="3052" h="770">
                <a:moveTo>
                  <a:pt x="6028" y="6672"/>
                </a:moveTo>
                <a:cubicBezTo>
                  <a:pt x="5974" y="6690"/>
                  <a:pt x="5922" y="6836"/>
                  <a:pt x="5904" y="6896"/>
                </a:cubicBezTo>
                <a:cubicBezTo>
                  <a:pt x="5855" y="7059"/>
                  <a:pt x="5905" y="7194"/>
                  <a:pt x="6003" y="7317"/>
                </a:cubicBezTo>
                <a:cubicBezTo>
                  <a:pt x="6032" y="7353"/>
                  <a:pt x="6033" y="7366"/>
                  <a:pt x="6052" y="7392"/>
                </a:cubicBezTo>
                <a:cubicBezTo>
                  <a:pt x="6060" y="7400"/>
                  <a:pt x="6069" y="7409"/>
                  <a:pt x="6077" y="7417"/>
                </a:cubicBezTo>
              </a:path>
              <a:path w="3052" h="770">
                <a:moveTo>
                  <a:pt x="6300" y="6846"/>
                </a:moveTo>
                <a:cubicBezTo>
                  <a:pt x="6261" y="6912"/>
                  <a:pt x="6265" y="7109"/>
                  <a:pt x="6251" y="7218"/>
                </a:cubicBezTo>
                <a:cubicBezTo>
                  <a:pt x="6251" y="7246"/>
                  <a:pt x="6253" y="7252"/>
                  <a:pt x="6276" y="7218"/>
                </a:cubicBezTo>
              </a:path>
              <a:path w="3052" h="770">
                <a:moveTo>
                  <a:pt x="6524" y="6896"/>
                </a:moveTo>
                <a:cubicBezTo>
                  <a:pt x="6497" y="6991"/>
                  <a:pt x="6482" y="7052"/>
                  <a:pt x="6499" y="7144"/>
                </a:cubicBezTo>
                <a:cubicBezTo>
                  <a:pt x="6641" y="7166"/>
                  <a:pt x="6770" y="7140"/>
                  <a:pt x="6722" y="6945"/>
                </a:cubicBezTo>
                <a:cubicBezTo>
                  <a:pt x="6670" y="6868"/>
                  <a:pt x="6650" y="6844"/>
                  <a:pt x="6573" y="6871"/>
                </a:cubicBezTo>
              </a:path>
              <a:path w="3052" h="770">
                <a:moveTo>
                  <a:pt x="6747" y="6648"/>
                </a:moveTo>
                <a:cubicBezTo>
                  <a:pt x="6952" y="6738"/>
                  <a:pt x="7146" y="6878"/>
                  <a:pt x="7045" y="7144"/>
                </a:cubicBezTo>
                <a:cubicBezTo>
                  <a:pt x="7020" y="7211"/>
                  <a:pt x="6926" y="7287"/>
                  <a:pt x="6871" y="734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70120" y="2384280"/>
            <a:ext cx="108000" cy="115920"/>
          </a:xfrm>
          <a:custGeom>
            <a:avLst/>
            <a:gdLst/>
            <a:ahLst/>
            <a:rect l="l" t="t" r="r" b="b"/>
            <a:pathLst>
              <a:path w="298" h="323">
                <a:moveTo>
                  <a:pt x="7417" y="6623"/>
                </a:moveTo>
                <a:cubicBezTo>
                  <a:pt x="7519" y="6654"/>
                  <a:pt x="7605" y="6719"/>
                  <a:pt x="7689" y="6796"/>
                </a:cubicBezTo>
                <a:cubicBezTo>
                  <a:pt x="7717" y="6824"/>
                  <a:pt x="7726" y="6828"/>
                  <a:pt x="7714" y="6772"/>
                </a:cubicBezTo>
              </a:path>
              <a:path w="298" h="323">
                <a:moveTo>
                  <a:pt x="7640" y="6623"/>
                </a:moveTo>
                <a:cubicBezTo>
                  <a:pt x="7595" y="6729"/>
                  <a:pt x="7544" y="6834"/>
                  <a:pt x="7516" y="694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94040" y="2017800"/>
            <a:ext cx="527040" cy="304560"/>
          </a:xfrm>
          <a:custGeom>
            <a:avLst/>
            <a:gdLst/>
            <a:ahLst/>
            <a:rect l="l" t="t" r="r" b="b"/>
            <a:pathLst>
              <a:path w="1464" h="844">
                <a:moveTo>
                  <a:pt x="8260" y="5953"/>
                </a:moveTo>
                <a:cubicBezTo>
                  <a:pt x="8331" y="5906"/>
                  <a:pt x="8353" y="5890"/>
                  <a:pt x="8409" y="5879"/>
                </a:cubicBezTo>
                <a:cubicBezTo>
                  <a:pt x="8457" y="6005"/>
                  <a:pt x="8424" y="6113"/>
                  <a:pt x="8285" y="6176"/>
                </a:cubicBezTo>
                <a:cubicBezTo>
                  <a:pt x="8268" y="6176"/>
                  <a:pt x="8252" y="6176"/>
                  <a:pt x="8235" y="6176"/>
                </a:cubicBezTo>
                <a:cubicBezTo>
                  <a:pt x="8328" y="6135"/>
                  <a:pt x="8612" y="6025"/>
                  <a:pt x="8508" y="6251"/>
                </a:cubicBezTo>
                <a:cubicBezTo>
                  <a:pt x="8463" y="6348"/>
                  <a:pt x="8018" y="6529"/>
                  <a:pt x="8037" y="6400"/>
                </a:cubicBezTo>
                <a:cubicBezTo>
                  <a:pt x="8062" y="6375"/>
                  <a:pt x="8086" y="6350"/>
                  <a:pt x="8111" y="6325"/>
                </a:cubicBezTo>
              </a:path>
              <a:path w="1464" h="844">
                <a:moveTo>
                  <a:pt x="8954" y="6226"/>
                </a:moveTo>
                <a:lnTo>
                  <a:pt x="8954" y="6226"/>
                </a:lnTo>
              </a:path>
              <a:path w="1464" h="844">
                <a:moveTo>
                  <a:pt x="8930" y="5854"/>
                </a:moveTo>
                <a:cubicBezTo>
                  <a:pt x="8966" y="6009"/>
                  <a:pt x="9004" y="6140"/>
                  <a:pt x="9004" y="6300"/>
                </a:cubicBezTo>
                <a:cubicBezTo>
                  <a:pt x="9004" y="6292"/>
                  <a:pt x="9004" y="6284"/>
                  <a:pt x="9004" y="6276"/>
                </a:cubicBezTo>
              </a:path>
              <a:path w="1464" h="844">
                <a:moveTo>
                  <a:pt x="9153" y="5829"/>
                </a:moveTo>
                <a:cubicBezTo>
                  <a:pt x="9188" y="5952"/>
                  <a:pt x="9187" y="6031"/>
                  <a:pt x="9327" y="6052"/>
                </a:cubicBezTo>
                <a:cubicBezTo>
                  <a:pt x="9423" y="6052"/>
                  <a:pt x="9453" y="6054"/>
                  <a:pt x="9500" y="6003"/>
                </a:cubicBezTo>
              </a:path>
              <a:path w="1464" h="844">
                <a:moveTo>
                  <a:pt x="9451" y="5606"/>
                </a:moveTo>
                <a:cubicBezTo>
                  <a:pt x="9427" y="5793"/>
                  <a:pt x="9461" y="5984"/>
                  <a:pt x="9475" y="6176"/>
                </a:cubicBezTo>
                <a:cubicBezTo>
                  <a:pt x="9475" y="6201"/>
                  <a:pt x="9475" y="6226"/>
                  <a:pt x="9475" y="6251"/>
                </a:cubicBezTo>
              </a:path>
              <a:path w="1464" h="844">
                <a:moveTo>
                  <a:pt x="8781" y="6375"/>
                </a:moveTo>
                <a:cubicBezTo>
                  <a:pt x="8773" y="6367"/>
                  <a:pt x="8764" y="6358"/>
                  <a:pt x="8756" y="635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204920" y="2768760"/>
            <a:ext cx="152280" cy="152280"/>
          </a:xfrm>
          <a:custGeom>
            <a:avLst/>
            <a:gdLst/>
            <a:ahLst/>
            <a:rect l="l" t="t" r="r" b="b"/>
            <a:pathLst>
              <a:path w="422" h="423">
                <a:moveTo>
                  <a:pt x="3597" y="7789"/>
                </a:moveTo>
                <a:cubicBezTo>
                  <a:pt x="3543" y="7735"/>
                  <a:pt x="3517" y="7721"/>
                  <a:pt x="3448" y="7689"/>
                </a:cubicBezTo>
                <a:cubicBezTo>
                  <a:pt x="3372" y="7781"/>
                  <a:pt x="3244" y="8018"/>
                  <a:pt x="3423" y="8111"/>
                </a:cubicBezTo>
                <a:cubicBezTo>
                  <a:pt x="3539" y="8171"/>
                  <a:pt x="3685" y="8039"/>
                  <a:pt x="3770" y="798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46120" y="2768760"/>
            <a:ext cx="54000" cy="71280"/>
          </a:xfrm>
          <a:custGeom>
            <a:avLst/>
            <a:gdLst/>
            <a:ahLst/>
            <a:rect l="l" t="t" r="r" b="b"/>
            <a:pathLst>
              <a:path w="150" h="200">
                <a:moveTo>
                  <a:pt x="4068" y="7689"/>
                </a:moveTo>
                <a:cubicBezTo>
                  <a:pt x="4126" y="7689"/>
                  <a:pt x="4150" y="7673"/>
                  <a:pt x="4142" y="7714"/>
                </a:cubicBezTo>
              </a:path>
              <a:path w="150" h="200">
                <a:moveTo>
                  <a:pt x="4018" y="7888"/>
                </a:moveTo>
                <a:cubicBezTo>
                  <a:pt x="4093" y="7863"/>
                  <a:pt x="4117" y="7855"/>
                  <a:pt x="4167" y="7838"/>
                </a:cubicBezTo>
              </a:path>
              <a:path w="150" h="200">
                <a:moveTo>
                  <a:pt x="4167" y="7838"/>
                </a:moveTo>
                <a:lnTo>
                  <a:pt x="4167" y="7838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08120" y="2705040"/>
            <a:ext cx="88920" cy="152640"/>
          </a:xfrm>
          <a:custGeom>
            <a:avLst/>
            <a:gdLst/>
            <a:ahLst/>
            <a:rect l="l" t="t" r="r" b="b"/>
            <a:pathLst>
              <a:path w="249" h="423">
                <a:moveTo>
                  <a:pt x="4465" y="7590"/>
                </a:moveTo>
                <a:cubicBezTo>
                  <a:pt x="4473" y="7558"/>
                  <a:pt x="4570" y="7472"/>
                  <a:pt x="4589" y="7516"/>
                </a:cubicBezTo>
                <a:cubicBezTo>
                  <a:pt x="4612" y="7569"/>
                  <a:pt x="4590" y="7606"/>
                  <a:pt x="4564" y="7640"/>
                </a:cubicBezTo>
                <a:cubicBezTo>
                  <a:pt x="4649" y="7640"/>
                  <a:pt x="4740" y="7661"/>
                  <a:pt x="4713" y="7789"/>
                </a:cubicBezTo>
                <a:cubicBezTo>
                  <a:pt x="4701" y="7846"/>
                  <a:pt x="4529" y="8030"/>
                  <a:pt x="4465" y="7938"/>
                </a:cubicBezTo>
                <a:cubicBezTo>
                  <a:pt x="4465" y="7921"/>
                  <a:pt x="4465" y="7905"/>
                  <a:pt x="4465" y="78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85960" y="2670120"/>
            <a:ext cx="420840" cy="179280"/>
          </a:xfrm>
          <a:custGeom>
            <a:avLst/>
            <a:gdLst/>
            <a:ahLst/>
            <a:rect l="l" t="t" r="r" b="b"/>
            <a:pathLst>
              <a:path w="1167" h="497">
                <a:moveTo>
                  <a:pt x="4961" y="7491"/>
                </a:moveTo>
                <a:cubicBezTo>
                  <a:pt x="4994" y="7606"/>
                  <a:pt x="5024" y="7720"/>
                  <a:pt x="5035" y="7838"/>
                </a:cubicBezTo>
              </a:path>
              <a:path w="1167" h="497">
                <a:moveTo>
                  <a:pt x="5234" y="7813"/>
                </a:moveTo>
                <a:lnTo>
                  <a:pt x="5234" y="7813"/>
                </a:lnTo>
              </a:path>
              <a:path w="1167" h="497">
                <a:moveTo>
                  <a:pt x="5482" y="7541"/>
                </a:moveTo>
                <a:cubicBezTo>
                  <a:pt x="5482" y="7599"/>
                  <a:pt x="5482" y="7656"/>
                  <a:pt x="5482" y="7714"/>
                </a:cubicBezTo>
                <a:cubicBezTo>
                  <a:pt x="5558" y="7714"/>
                  <a:pt x="5615" y="7686"/>
                  <a:pt x="5680" y="7665"/>
                </a:cubicBezTo>
                <a:cubicBezTo>
                  <a:pt x="5688" y="7665"/>
                  <a:pt x="5697" y="7665"/>
                  <a:pt x="5705" y="7665"/>
                </a:cubicBezTo>
              </a:path>
              <a:path w="1167" h="497">
                <a:moveTo>
                  <a:pt x="5779" y="7417"/>
                </a:moveTo>
                <a:cubicBezTo>
                  <a:pt x="5727" y="7561"/>
                  <a:pt x="5723" y="7711"/>
                  <a:pt x="5705" y="7863"/>
                </a:cubicBezTo>
                <a:cubicBezTo>
                  <a:pt x="5705" y="7888"/>
                  <a:pt x="5705" y="7896"/>
                  <a:pt x="5705" y="7913"/>
                </a:cubicBezTo>
              </a:path>
              <a:path w="1167" h="497">
                <a:moveTo>
                  <a:pt x="5978" y="7565"/>
                </a:moveTo>
                <a:cubicBezTo>
                  <a:pt x="5933" y="7675"/>
                  <a:pt x="5862" y="7764"/>
                  <a:pt x="5928" y="7888"/>
                </a:cubicBezTo>
                <a:cubicBezTo>
                  <a:pt x="5936" y="7888"/>
                  <a:pt x="5945" y="7888"/>
                  <a:pt x="5953" y="7888"/>
                </a:cubicBezTo>
                <a:cubicBezTo>
                  <a:pt x="6100" y="7863"/>
                  <a:pt x="6148" y="7805"/>
                  <a:pt x="6127" y="7640"/>
                </a:cubicBezTo>
                <a:cubicBezTo>
                  <a:pt x="6116" y="7554"/>
                  <a:pt x="6075" y="7555"/>
                  <a:pt x="6003" y="754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313000" y="2714760"/>
            <a:ext cx="17280" cy="134640"/>
          </a:xfrm>
          <a:custGeom>
            <a:avLst/>
            <a:gdLst/>
            <a:ahLst/>
            <a:rect l="l" t="t" r="r" b="b"/>
            <a:pathLst>
              <a:path w="51" h="373">
                <a:moveTo>
                  <a:pt x="6424" y="7714"/>
                </a:moveTo>
                <a:cubicBezTo>
                  <a:pt x="6454" y="7744"/>
                  <a:pt x="6464" y="7846"/>
                  <a:pt x="6474" y="7913"/>
                </a:cubicBezTo>
              </a:path>
              <a:path w="51" h="373">
                <a:moveTo>
                  <a:pt x="6449" y="7565"/>
                </a:moveTo>
                <a:cubicBezTo>
                  <a:pt x="6449" y="7557"/>
                  <a:pt x="6449" y="7549"/>
                  <a:pt x="6449" y="754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428920" y="2768760"/>
            <a:ext cx="98280" cy="106200"/>
          </a:xfrm>
          <a:custGeom>
            <a:avLst/>
            <a:gdLst/>
            <a:ahLst/>
            <a:rect l="l" t="t" r="r" b="b"/>
            <a:pathLst>
              <a:path w="274" h="299">
                <a:moveTo>
                  <a:pt x="6772" y="7838"/>
                </a:moveTo>
                <a:cubicBezTo>
                  <a:pt x="6772" y="7858"/>
                  <a:pt x="6788" y="7943"/>
                  <a:pt x="6772" y="7888"/>
                </a:cubicBezTo>
                <a:cubicBezTo>
                  <a:pt x="6745" y="7796"/>
                  <a:pt x="6774" y="7768"/>
                  <a:pt x="6796" y="7714"/>
                </a:cubicBezTo>
                <a:cubicBezTo>
                  <a:pt x="6831" y="7629"/>
                  <a:pt x="6940" y="7736"/>
                  <a:pt x="6970" y="7789"/>
                </a:cubicBezTo>
                <a:cubicBezTo>
                  <a:pt x="7005" y="7851"/>
                  <a:pt x="7020" y="7918"/>
                  <a:pt x="7020" y="798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938320" y="2830680"/>
            <a:ext cx="115920" cy="125280"/>
          </a:xfrm>
          <a:custGeom>
            <a:avLst/>
            <a:gdLst/>
            <a:ahLst/>
            <a:rect l="l" t="t" r="r" b="b"/>
            <a:pathLst>
              <a:path w="323" h="348">
                <a:moveTo>
                  <a:pt x="8161" y="7913"/>
                </a:moveTo>
                <a:cubicBezTo>
                  <a:pt x="8226" y="7913"/>
                  <a:pt x="8275" y="7890"/>
                  <a:pt x="8334" y="7863"/>
                </a:cubicBezTo>
                <a:cubicBezTo>
                  <a:pt x="8362" y="7904"/>
                  <a:pt x="8428" y="7979"/>
                  <a:pt x="8384" y="8012"/>
                </a:cubicBezTo>
                <a:cubicBezTo>
                  <a:pt x="8367" y="8020"/>
                  <a:pt x="8351" y="8029"/>
                  <a:pt x="8334" y="8037"/>
                </a:cubicBezTo>
                <a:cubicBezTo>
                  <a:pt x="8388" y="8042"/>
                  <a:pt x="8553" y="8061"/>
                  <a:pt x="8458" y="8161"/>
                </a:cubicBezTo>
                <a:cubicBezTo>
                  <a:pt x="8388" y="8235"/>
                  <a:pt x="8299" y="8210"/>
                  <a:pt x="8210" y="821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43160" y="2741760"/>
            <a:ext cx="357120" cy="160200"/>
          </a:xfrm>
          <a:custGeom>
            <a:avLst/>
            <a:gdLst/>
            <a:ahLst/>
            <a:rect l="l" t="t" r="r" b="b"/>
            <a:pathLst>
              <a:path w="993" h="448">
                <a:moveTo>
                  <a:pt x="9575" y="7640"/>
                </a:moveTo>
                <a:cubicBezTo>
                  <a:pt x="9641" y="7617"/>
                  <a:pt x="9575" y="7635"/>
                  <a:pt x="9525" y="7714"/>
                </a:cubicBezTo>
                <a:cubicBezTo>
                  <a:pt x="9480" y="7803"/>
                  <a:pt x="9466" y="7826"/>
                  <a:pt x="9451" y="7888"/>
                </a:cubicBezTo>
                <a:cubicBezTo>
                  <a:pt x="9535" y="7925"/>
                  <a:pt x="9697" y="7922"/>
                  <a:pt x="9723" y="7789"/>
                </a:cubicBezTo>
                <a:cubicBezTo>
                  <a:pt x="9699" y="7714"/>
                  <a:pt x="9691" y="7689"/>
                  <a:pt x="9624" y="7689"/>
                </a:cubicBezTo>
              </a:path>
              <a:path w="993" h="448">
                <a:moveTo>
                  <a:pt x="9103" y="7739"/>
                </a:moveTo>
                <a:cubicBezTo>
                  <a:pt x="9069" y="7788"/>
                  <a:pt x="9039" y="7840"/>
                  <a:pt x="9004" y="7888"/>
                </a:cubicBezTo>
                <a:cubicBezTo>
                  <a:pt x="9101" y="7888"/>
                  <a:pt x="9183" y="7883"/>
                  <a:pt x="9277" y="7863"/>
                </a:cubicBezTo>
              </a:path>
              <a:path w="993" h="448">
                <a:moveTo>
                  <a:pt x="9376" y="7665"/>
                </a:moveTo>
                <a:cubicBezTo>
                  <a:pt x="9313" y="7764"/>
                  <a:pt x="9287" y="7874"/>
                  <a:pt x="9252" y="7987"/>
                </a:cubicBezTo>
              </a:path>
              <a:path w="993" h="448">
                <a:moveTo>
                  <a:pt x="8806" y="7838"/>
                </a:moveTo>
                <a:cubicBezTo>
                  <a:pt x="8806" y="7830"/>
                  <a:pt x="8806" y="7821"/>
                  <a:pt x="8806" y="7813"/>
                </a:cubicBezTo>
                <a:cubicBezTo>
                  <a:pt x="8806" y="7887"/>
                  <a:pt x="8769" y="7900"/>
                  <a:pt x="8756" y="7962"/>
                </a:cubicBezTo>
                <a:cubicBezTo>
                  <a:pt x="8756" y="7987"/>
                  <a:pt x="8756" y="7995"/>
                  <a:pt x="8731" y="7987"/>
                </a:cubicBezTo>
              </a:path>
              <a:path w="993" h="448">
                <a:moveTo>
                  <a:pt x="8954" y="8062"/>
                </a:moveTo>
                <a:cubicBezTo>
                  <a:pt x="8979" y="8062"/>
                  <a:pt x="8987" y="8062"/>
                  <a:pt x="8979" y="80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276200" y="3054240"/>
            <a:ext cx="2367000" cy="1000080"/>
          </a:xfrm>
          <a:custGeom>
            <a:avLst/>
            <a:gdLst/>
            <a:ahLst/>
            <a:rect l="l" t="t" r="r" b="b"/>
            <a:pathLst>
              <a:path w="6574" h="2779">
                <a:moveTo>
                  <a:pt x="3870" y="10021"/>
                </a:moveTo>
                <a:cubicBezTo>
                  <a:pt x="3804" y="9988"/>
                  <a:pt x="3771" y="9971"/>
                  <a:pt x="3721" y="9947"/>
                </a:cubicBezTo>
                <a:cubicBezTo>
                  <a:pt x="3577" y="10113"/>
                  <a:pt x="3549" y="10247"/>
                  <a:pt x="3572" y="10468"/>
                </a:cubicBezTo>
                <a:cubicBezTo>
                  <a:pt x="3737" y="10479"/>
                  <a:pt x="3842" y="10398"/>
                  <a:pt x="3994" y="10319"/>
                </a:cubicBezTo>
              </a:path>
              <a:path w="6574" h="2779">
                <a:moveTo>
                  <a:pt x="4068" y="10145"/>
                </a:moveTo>
                <a:cubicBezTo>
                  <a:pt x="4110" y="10138"/>
                  <a:pt x="4150" y="10127"/>
                  <a:pt x="4192" y="10120"/>
                </a:cubicBezTo>
              </a:path>
              <a:path w="6574" h="2779">
                <a:moveTo>
                  <a:pt x="3944" y="10344"/>
                </a:moveTo>
                <a:cubicBezTo>
                  <a:pt x="4063" y="10316"/>
                  <a:pt x="4175" y="10283"/>
                  <a:pt x="4291" y="10244"/>
                </a:cubicBezTo>
              </a:path>
              <a:path w="6574" h="2779">
                <a:moveTo>
                  <a:pt x="4564" y="9947"/>
                </a:moveTo>
                <a:cubicBezTo>
                  <a:pt x="4465" y="9914"/>
                  <a:pt x="4667" y="9922"/>
                  <a:pt x="4688" y="9922"/>
                </a:cubicBezTo>
                <a:cubicBezTo>
                  <a:pt x="4681" y="10028"/>
                  <a:pt x="4703" y="10104"/>
                  <a:pt x="4589" y="10120"/>
                </a:cubicBezTo>
                <a:cubicBezTo>
                  <a:pt x="4635" y="10105"/>
                  <a:pt x="4778" y="10134"/>
                  <a:pt x="4762" y="10220"/>
                </a:cubicBezTo>
                <a:cubicBezTo>
                  <a:pt x="4742" y="10327"/>
                  <a:pt x="4616" y="10388"/>
                  <a:pt x="4514" y="10344"/>
                </a:cubicBezTo>
                <a:cubicBezTo>
                  <a:pt x="4506" y="10336"/>
                  <a:pt x="4498" y="10327"/>
                  <a:pt x="4490" y="10319"/>
                </a:cubicBezTo>
              </a:path>
              <a:path w="6574" h="2779">
                <a:moveTo>
                  <a:pt x="4961" y="10220"/>
                </a:moveTo>
                <a:lnTo>
                  <a:pt x="4961" y="10220"/>
                </a:lnTo>
              </a:path>
              <a:path w="6574" h="2779">
                <a:moveTo>
                  <a:pt x="5110" y="9996"/>
                </a:moveTo>
                <a:cubicBezTo>
                  <a:pt x="5110" y="10095"/>
                  <a:pt x="5110" y="10195"/>
                  <a:pt x="5110" y="10294"/>
                </a:cubicBezTo>
              </a:path>
              <a:path w="6574" h="2779">
                <a:moveTo>
                  <a:pt x="5234" y="9996"/>
                </a:moveTo>
                <a:cubicBezTo>
                  <a:pt x="5234" y="10034"/>
                  <a:pt x="5228" y="10109"/>
                  <a:pt x="5283" y="10120"/>
                </a:cubicBezTo>
                <a:cubicBezTo>
                  <a:pt x="5363" y="10137"/>
                  <a:pt x="5467" y="10124"/>
                  <a:pt x="5507" y="10071"/>
                </a:cubicBezTo>
              </a:path>
              <a:path w="6574" h="2779">
                <a:moveTo>
                  <a:pt x="5507" y="9798"/>
                </a:moveTo>
                <a:cubicBezTo>
                  <a:pt x="5507" y="9959"/>
                  <a:pt x="5511" y="10111"/>
                  <a:pt x="5531" y="10269"/>
                </a:cubicBezTo>
                <a:cubicBezTo>
                  <a:pt x="5531" y="10294"/>
                  <a:pt x="5531" y="10302"/>
                  <a:pt x="5531" y="10319"/>
                </a:cubicBezTo>
              </a:path>
              <a:path w="6574" h="2779">
                <a:moveTo>
                  <a:pt x="5854" y="9773"/>
                </a:moveTo>
                <a:cubicBezTo>
                  <a:pt x="5854" y="9684"/>
                  <a:pt x="5804" y="9886"/>
                  <a:pt x="5779" y="9971"/>
                </a:cubicBezTo>
                <a:cubicBezTo>
                  <a:pt x="5732" y="10136"/>
                  <a:pt x="5656" y="10307"/>
                  <a:pt x="5854" y="10368"/>
                </a:cubicBezTo>
                <a:cubicBezTo>
                  <a:pt x="5892" y="10380"/>
                  <a:pt x="5895" y="10369"/>
                  <a:pt x="5904" y="10344"/>
                </a:cubicBezTo>
              </a:path>
              <a:path w="6574" h="2779">
                <a:moveTo>
                  <a:pt x="6052" y="9947"/>
                </a:moveTo>
                <a:cubicBezTo>
                  <a:pt x="6037" y="10018"/>
                  <a:pt x="5988" y="10218"/>
                  <a:pt x="6003" y="10269"/>
                </a:cubicBezTo>
                <a:cubicBezTo>
                  <a:pt x="6011" y="10269"/>
                  <a:pt x="6020" y="10269"/>
                  <a:pt x="6028" y="10269"/>
                </a:cubicBezTo>
              </a:path>
              <a:path w="6574" h="2779">
                <a:moveTo>
                  <a:pt x="6127" y="9922"/>
                </a:moveTo>
                <a:cubicBezTo>
                  <a:pt x="6229" y="9890"/>
                  <a:pt x="6375" y="9822"/>
                  <a:pt x="6300" y="9996"/>
                </a:cubicBezTo>
                <a:cubicBezTo>
                  <a:pt x="6276" y="10021"/>
                  <a:pt x="6268" y="10030"/>
                  <a:pt x="6251" y="10046"/>
                </a:cubicBezTo>
                <a:cubicBezTo>
                  <a:pt x="6243" y="10046"/>
                  <a:pt x="6234" y="10046"/>
                  <a:pt x="6226" y="10046"/>
                </a:cubicBezTo>
                <a:cubicBezTo>
                  <a:pt x="6332" y="10031"/>
                  <a:pt x="6435" y="9994"/>
                  <a:pt x="6424" y="10145"/>
                </a:cubicBezTo>
                <a:cubicBezTo>
                  <a:pt x="6418" y="10232"/>
                  <a:pt x="6269" y="10341"/>
                  <a:pt x="6201" y="10244"/>
                </a:cubicBezTo>
                <a:cubicBezTo>
                  <a:pt x="6201" y="10228"/>
                  <a:pt x="6201" y="10211"/>
                  <a:pt x="6201" y="10195"/>
                </a:cubicBezTo>
              </a:path>
              <a:path w="6574" h="2779">
                <a:moveTo>
                  <a:pt x="6350" y="9624"/>
                </a:moveTo>
                <a:cubicBezTo>
                  <a:pt x="6525" y="9775"/>
                  <a:pt x="6653" y="9921"/>
                  <a:pt x="6623" y="10170"/>
                </a:cubicBezTo>
                <a:cubicBezTo>
                  <a:pt x="6610" y="10274"/>
                  <a:pt x="6545" y="10376"/>
                  <a:pt x="6499" y="10468"/>
                </a:cubicBezTo>
              </a:path>
              <a:path w="6574" h="2779">
                <a:moveTo>
                  <a:pt x="8334" y="8830"/>
                </a:moveTo>
                <a:cubicBezTo>
                  <a:pt x="8414" y="8815"/>
                  <a:pt x="8616" y="8752"/>
                  <a:pt x="8508" y="8930"/>
                </a:cubicBezTo>
                <a:cubicBezTo>
                  <a:pt x="8440" y="8998"/>
                  <a:pt x="8423" y="9020"/>
                  <a:pt x="8359" y="9029"/>
                </a:cubicBezTo>
                <a:cubicBezTo>
                  <a:pt x="8392" y="9012"/>
                  <a:pt x="8425" y="8996"/>
                  <a:pt x="8458" y="8979"/>
                </a:cubicBezTo>
                <a:cubicBezTo>
                  <a:pt x="8555" y="9117"/>
                  <a:pt x="8566" y="9190"/>
                  <a:pt x="8384" y="9252"/>
                </a:cubicBezTo>
                <a:cubicBezTo>
                  <a:pt x="8226" y="9306"/>
                  <a:pt x="8100" y="9251"/>
                  <a:pt x="8334" y="9178"/>
                </a:cubicBezTo>
              </a:path>
              <a:path w="6574" h="2779">
                <a:moveTo>
                  <a:pt x="8781" y="9203"/>
                </a:moveTo>
                <a:lnTo>
                  <a:pt x="8781" y="9203"/>
                </a:lnTo>
              </a:path>
              <a:path w="6574" h="2779">
                <a:moveTo>
                  <a:pt x="8880" y="8880"/>
                </a:moveTo>
                <a:cubicBezTo>
                  <a:pt x="8880" y="8971"/>
                  <a:pt x="8880" y="9062"/>
                  <a:pt x="8880" y="9153"/>
                </a:cubicBezTo>
              </a:path>
              <a:path w="6574" h="2779">
                <a:moveTo>
                  <a:pt x="9079" y="8855"/>
                </a:moveTo>
                <a:cubicBezTo>
                  <a:pt x="9103" y="8905"/>
                  <a:pt x="9111" y="8921"/>
                  <a:pt x="9079" y="8954"/>
                </a:cubicBezTo>
                <a:cubicBezTo>
                  <a:pt x="9175" y="8954"/>
                  <a:pt x="9261" y="8956"/>
                  <a:pt x="9351" y="8930"/>
                </a:cubicBezTo>
              </a:path>
              <a:path w="6574" h="2779">
                <a:moveTo>
                  <a:pt x="9277" y="8657"/>
                </a:moveTo>
                <a:cubicBezTo>
                  <a:pt x="9298" y="8801"/>
                  <a:pt x="9282" y="8932"/>
                  <a:pt x="9277" y="9079"/>
                </a:cubicBezTo>
                <a:cubicBezTo>
                  <a:pt x="9277" y="9095"/>
                  <a:pt x="9277" y="9112"/>
                  <a:pt x="9277" y="9128"/>
                </a:cubicBezTo>
              </a:path>
              <a:path w="6574" h="2779">
                <a:moveTo>
                  <a:pt x="7813" y="9451"/>
                </a:moveTo>
                <a:cubicBezTo>
                  <a:pt x="7846" y="9532"/>
                  <a:pt x="7940" y="9595"/>
                  <a:pt x="7987" y="9674"/>
                </a:cubicBezTo>
                <a:cubicBezTo>
                  <a:pt x="7987" y="9707"/>
                  <a:pt x="7987" y="9707"/>
                  <a:pt x="7987" y="9649"/>
                </a:cubicBezTo>
              </a:path>
              <a:path w="6574" h="2779">
                <a:moveTo>
                  <a:pt x="7987" y="9376"/>
                </a:moveTo>
                <a:cubicBezTo>
                  <a:pt x="7932" y="9476"/>
                  <a:pt x="7885" y="9571"/>
                  <a:pt x="7838" y="9674"/>
                </a:cubicBezTo>
              </a:path>
              <a:path w="6574" h="2779">
                <a:moveTo>
                  <a:pt x="8979" y="9302"/>
                </a:moveTo>
                <a:cubicBezTo>
                  <a:pt x="8979" y="9378"/>
                  <a:pt x="8969" y="9424"/>
                  <a:pt x="8954" y="9500"/>
                </a:cubicBezTo>
              </a:path>
              <a:path w="6574" h="2779">
                <a:moveTo>
                  <a:pt x="9252" y="9277"/>
                </a:moveTo>
                <a:cubicBezTo>
                  <a:pt x="9320" y="9231"/>
                  <a:pt x="9381" y="9205"/>
                  <a:pt x="9451" y="9227"/>
                </a:cubicBezTo>
                <a:cubicBezTo>
                  <a:pt x="9441" y="9307"/>
                  <a:pt x="9431" y="9314"/>
                  <a:pt x="9376" y="9376"/>
                </a:cubicBezTo>
                <a:cubicBezTo>
                  <a:pt x="9425" y="9339"/>
                  <a:pt x="9501" y="9318"/>
                  <a:pt x="9525" y="9401"/>
                </a:cubicBezTo>
                <a:cubicBezTo>
                  <a:pt x="9559" y="9518"/>
                  <a:pt x="9487" y="9525"/>
                  <a:pt x="9401" y="9525"/>
                </a:cubicBezTo>
              </a:path>
              <a:path w="6574" h="2779">
                <a:moveTo>
                  <a:pt x="8037" y="9823"/>
                </a:moveTo>
                <a:cubicBezTo>
                  <a:pt x="8069" y="9791"/>
                  <a:pt x="8069" y="9786"/>
                  <a:pt x="8136" y="9773"/>
                </a:cubicBezTo>
                <a:cubicBezTo>
                  <a:pt x="8441" y="9715"/>
                  <a:pt x="8768" y="9729"/>
                  <a:pt x="9079" y="9699"/>
                </a:cubicBezTo>
                <a:cubicBezTo>
                  <a:pt x="9312" y="9677"/>
                  <a:pt x="9539" y="9674"/>
                  <a:pt x="9773" y="9674"/>
                </a:cubicBezTo>
                <a:cubicBezTo>
                  <a:pt x="9798" y="9674"/>
                  <a:pt x="9822" y="9674"/>
                  <a:pt x="9847" y="9674"/>
                </a:cubicBezTo>
              </a:path>
              <a:path w="6574" h="2779">
                <a:moveTo>
                  <a:pt x="9525" y="9996"/>
                </a:moveTo>
                <a:cubicBezTo>
                  <a:pt x="9525" y="9904"/>
                  <a:pt x="9644" y="9905"/>
                  <a:pt x="9748" y="9897"/>
                </a:cubicBezTo>
                <a:cubicBezTo>
                  <a:pt x="9716" y="9995"/>
                  <a:pt x="9522" y="10057"/>
                  <a:pt x="9575" y="10145"/>
                </a:cubicBezTo>
                <a:cubicBezTo>
                  <a:pt x="9590" y="10170"/>
                  <a:pt x="9745" y="10123"/>
                  <a:pt x="9773" y="10120"/>
                </a:cubicBezTo>
              </a:path>
              <a:path w="6574" h="2779">
                <a:moveTo>
                  <a:pt x="8682" y="8483"/>
                </a:moveTo>
                <a:cubicBezTo>
                  <a:pt x="8654" y="8567"/>
                  <a:pt x="8666" y="8600"/>
                  <a:pt x="8682" y="8682"/>
                </a:cubicBezTo>
              </a:path>
              <a:path w="6574" h="2779">
                <a:moveTo>
                  <a:pt x="9054" y="9823"/>
                </a:moveTo>
                <a:cubicBezTo>
                  <a:pt x="9054" y="9782"/>
                  <a:pt x="9010" y="9907"/>
                  <a:pt x="8979" y="9947"/>
                </a:cubicBezTo>
                <a:cubicBezTo>
                  <a:pt x="9037" y="9947"/>
                  <a:pt x="9095" y="9947"/>
                  <a:pt x="9153" y="9947"/>
                </a:cubicBezTo>
              </a:path>
              <a:path w="6574" h="2779">
                <a:moveTo>
                  <a:pt x="9227" y="9748"/>
                </a:moveTo>
                <a:cubicBezTo>
                  <a:pt x="9172" y="9859"/>
                  <a:pt x="9182" y="10022"/>
                  <a:pt x="9128" y="10120"/>
                </a:cubicBezTo>
                <a:cubicBezTo>
                  <a:pt x="9120" y="10120"/>
                  <a:pt x="9111" y="10120"/>
                  <a:pt x="9103" y="10120"/>
                </a:cubicBezTo>
              </a:path>
              <a:path w="6574" h="2779">
                <a:moveTo>
                  <a:pt x="8682" y="9922"/>
                </a:moveTo>
                <a:cubicBezTo>
                  <a:pt x="8682" y="9850"/>
                  <a:pt x="8663" y="9864"/>
                  <a:pt x="8607" y="9823"/>
                </a:cubicBezTo>
                <a:cubicBezTo>
                  <a:pt x="8565" y="9792"/>
                  <a:pt x="8506" y="9801"/>
                  <a:pt x="8483" y="9872"/>
                </a:cubicBezTo>
                <a:cubicBezTo>
                  <a:pt x="8483" y="9940"/>
                  <a:pt x="8480" y="9959"/>
                  <a:pt x="8508" y="9996"/>
                </a:cubicBezTo>
                <a:cubicBezTo>
                  <a:pt x="8630" y="9982"/>
                  <a:pt x="8634" y="9963"/>
                  <a:pt x="8682" y="9872"/>
                </a:cubicBezTo>
                <a:cubicBezTo>
                  <a:pt x="8704" y="9850"/>
                  <a:pt x="8712" y="9845"/>
                  <a:pt x="8706" y="9823"/>
                </a:cubicBezTo>
                <a:cubicBezTo>
                  <a:pt x="8706" y="9922"/>
                  <a:pt x="8706" y="10021"/>
                  <a:pt x="8706" y="10120"/>
                </a:cubicBezTo>
              </a:path>
              <a:path w="6574" h="2779">
                <a:moveTo>
                  <a:pt x="9674" y="10195"/>
                </a:moveTo>
                <a:cubicBezTo>
                  <a:pt x="9709" y="10195"/>
                  <a:pt x="9610" y="10305"/>
                  <a:pt x="9624" y="10393"/>
                </a:cubicBezTo>
                <a:cubicBezTo>
                  <a:pt x="9633" y="10449"/>
                  <a:pt x="9798" y="10471"/>
                  <a:pt x="9823" y="10418"/>
                </a:cubicBezTo>
                <a:cubicBezTo>
                  <a:pt x="9888" y="10280"/>
                  <a:pt x="9812" y="10257"/>
                  <a:pt x="9699" y="10244"/>
                </a:cubicBezTo>
              </a:path>
              <a:path w="6574" h="2779">
                <a:moveTo>
                  <a:pt x="9153" y="10294"/>
                </a:moveTo>
                <a:cubicBezTo>
                  <a:pt x="9153" y="10247"/>
                  <a:pt x="9110" y="10370"/>
                  <a:pt x="9103" y="10393"/>
                </a:cubicBezTo>
                <a:cubicBezTo>
                  <a:pt x="9067" y="10511"/>
                  <a:pt x="9332" y="10364"/>
                  <a:pt x="9376" y="10344"/>
                </a:cubicBezTo>
              </a:path>
              <a:path w="6574" h="2779">
                <a:moveTo>
                  <a:pt x="9376" y="10145"/>
                </a:moveTo>
                <a:cubicBezTo>
                  <a:pt x="9362" y="10246"/>
                  <a:pt x="9298" y="10345"/>
                  <a:pt x="9252" y="10443"/>
                </a:cubicBezTo>
              </a:path>
              <a:path w="6574" h="2779">
                <a:moveTo>
                  <a:pt x="8880" y="10195"/>
                </a:moveTo>
                <a:cubicBezTo>
                  <a:pt x="8880" y="10121"/>
                  <a:pt x="8831" y="10412"/>
                  <a:pt x="8830" y="10418"/>
                </a:cubicBezTo>
                <a:cubicBezTo>
                  <a:pt x="8830" y="10426"/>
                  <a:pt x="8830" y="10435"/>
                  <a:pt x="8830" y="10443"/>
                </a:cubicBezTo>
              </a:path>
              <a:path w="6574" h="2779">
                <a:moveTo>
                  <a:pt x="8186" y="10269"/>
                </a:moveTo>
                <a:cubicBezTo>
                  <a:pt x="8178" y="10269"/>
                  <a:pt x="8169" y="10269"/>
                  <a:pt x="8161" y="10269"/>
                </a:cubicBezTo>
                <a:cubicBezTo>
                  <a:pt x="8198" y="10239"/>
                  <a:pt x="8284" y="10179"/>
                  <a:pt x="8334" y="10220"/>
                </a:cubicBezTo>
                <a:cubicBezTo>
                  <a:pt x="8387" y="10263"/>
                  <a:pt x="8278" y="10358"/>
                  <a:pt x="8260" y="10368"/>
                </a:cubicBezTo>
                <a:cubicBezTo>
                  <a:pt x="8278" y="10316"/>
                  <a:pt x="8338" y="10346"/>
                  <a:pt x="8384" y="10368"/>
                </a:cubicBezTo>
                <a:cubicBezTo>
                  <a:pt x="8344" y="10527"/>
                  <a:pt x="8333" y="10406"/>
                  <a:pt x="8235" y="10418"/>
                </a:cubicBezTo>
                <a:cubicBezTo>
                  <a:pt x="8235" y="10426"/>
                  <a:pt x="8235" y="10435"/>
                  <a:pt x="8235" y="10443"/>
                </a:cubicBezTo>
              </a:path>
              <a:path w="6574" h="2779">
                <a:moveTo>
                  <a:pt x="8161" y="10616"/>
                </a:moveTo>
                <a:cubicBezTo>
                  <a:pt x="8543" y="10616"/>
                  <a:pt x="8921" y="10603"/>
                  <a:pt x="9302" y="10592"/>
                </a:cubicBezTo>
                <a:cubicBezTo>
                  <a:pt x="9574" y="10584"/>
                  <a:pt x="9848" y="10592"/>
                  <a:pt x="10120" y="10592"/>
                </a:cubicBezTo>
              </a:path>
              <a:path w="6574" h="2779">
                <a:moveTo>
                  <a:pt x="9723" y="10790"/>
                </a:moveTo>
                <a:cubicBezTo>
                  <a:pt x="9781" y="10771"/>
                  <a:pt x="9850" y="10712"/>
                  <a:pt x="9922" y="10740"/>
                </a:cubicBezTo>
                <a:cubicBezTo>
                  <a:pt x="9991" y="10767"/>
                  <a:pt x="9990" y="10850"/>
                  <a:pt x="9947" y="10914"/>
                </a:cubicBezTo>
                <a:cubicBezTo>
                  <a:pt x="9898" y="10987"/>
                  <a:pt x="9810" y="11026"/>
                  <a:pt x="9748" y="11088"/>
                </a:cubicBezTo>
                <a:cubicBezTo>
                  <a:pt x="9852" y="11088"/>
                  <a:pt x="9945" y="11071"/>
                  <a:pt x="10046" y="11063"/>
                </a:cubicBezTo>
                <a:cubicBezTo>
                  <a:pt x="10054" y="11063"/>
                  <a:pt x="10063" y="11063"/>
                  <a:pt x="10071" y="11063"/>
                </a:cubicBezTo>
              </a:path>
              <a:path w="6574" h="2779">
                <a:moveTo>
                  <a:pt x="9426" y="10790"/>
                </a:moveTo>
                <a:cubicBezTo>
                  <a:pt x="9506" y="10763"/>
                  <a:pt x="9367" y="10764"/>
                  <a:pt x="9327" y="10790"/>
                </a:cubicBezTo>
                <a:cubicBezTo>
                  <a:pt x="9152" y="10902"/>
                  <a:pt x="9325" y="10950"/>
                  <a:pt x="9376" y="11063"/>
                </a:cubicBezTo>
                <a:cubicBezTo>
                  <a:pt x="9376" y="11125"/>
                  <a:pt x="9365" y="11149"/>
                  <a:pt x="9302" y="11162"/>
                </a:cubicBezTo>
                <a:cubicBezTo>
                  <a:pt x="9210" y="11193"/>
                  <a:pt x="9386" y="10929"/>
                  <a:pt x="9401" y="10889"/>
                </a:cubicBezTo>
                <a:cubicBezTo>
                  <a:pt x="9424" y="10798"/>
                  <a:pt x="9435" y="10772"/>
                  <a:pt x="9401" y="10716"/>
                </a:cubicBezTo>
              </a:path>
              <a:path w="6574" h="2779">
                <a:moveTo>
                  <a:pt x="8880" y="10889"/>
                </a:moveTo>
                <a:cubicBezTo>
                  <a:pt x="8851" y="10717"/>
                  <a:pt x="8709" y="11072"/>
                  <a:pt x="8706" y="11088"/>
                </a:cubicBezTo>
                <a:cubicBezTo>
                  <a:pt x="8714" y="11121"/>
                  <a:pt x="8723" y="11154"/>
                  <a:pt x="8731" y="11187"/>
                </a:cubicBezTo>
                <a:cubicBezTo>
                  <a:pt x="8913" y="11199"/>
                  <a:pt x="8986" y="11118"/>
                  <a:pt x="8930" y="10914"/>
                </a:cubicBezTo>
                <a:cubicBezTo>
                  <a:pt x="8893" y="10841"/>
                  <a:pt x="8905" y="10808"/>
                  <a:pt x="8855" y="10815"/>
                </a:cubicBezTo>
              </a:path>
              <a:path w="6574" h="2779">
                <a:moveTo>
                  <a:pt x="7987" y="9947"/>
                </a:moveTo>
                <a:cubicBezTo>
                  <a:pt x="7995" y="9972"/>
                  <a:pt x="8004" y="9996"/>
                  <a:pt x="8012" y="10021"/>
                </a:cubicBezTo>
              </a:path>
              <a:path w="6574" h="2779">
                <a:moveTo>
                  <a:pt x="8136" y="10864"/>
                </a:moveTo>
                <a:cubicBezTo>
                  <a:pt x="8158" y="10931"/>
                  <a:pt x="8170" y="10949"/>
                  <a:pt x="8136" y="10988"/>
                </a:cubicBezTo>
                <a:cubicBezTo>
                  <a:pt x="8237" y="10988"/>
                  <a:pt x="8330" y="10987"/>
                  <a:pt x="8409" y="10914"/>
                </a:cubicBezTo>
                <a:cubicBezTo>
                  <a:pt x="8409" y="10906"/>
                  <a:pt x="8409" y="10897"/>
                  <a:pt x="8409" y="10889"/>
                </a:cubicBezTo>
              </a:path>
              <a:path w="6574" h="2779">
                <a:moveTo>
                  <a:pt x="8334" y="10641"/>
                </a:moveTo>
                <a:cubicBezTo>
                  <a:pt x="8317" y="10816"/>
                  <a:pt x="8302" y="10989"/>
                  <a:pt x="8285" y="11162"/>
                </a:cubicBezTo>
              </a:path>
              <a:path w="6574" h="2779">
                <a:moveTo>
                  <a:pt x="9128" y="11261"/>
                </a:moveTo>
                <a:lnTo>
                  <a:pt x="9128" y="11261"/>
                </a:lnTo>
                <a:lnTo>
                  <a:pt x="9128" y="11261"/>
                </a:lnTo>
                <a:lnTo>
                  <a:pt x="9128" y="11261"/>
                </a:lnTo>
              </a:path>
              <a:path w="6574" h="2779">
                <a:moveTo>
                  <a:pt x="3870" y="10641"/>
                </a:moveTo>
                <a:cubicBezTo>
                  <a:pt x="3933" y="10729"/>
                  <a:pt x="3851" y="10660"/>
                  <a:pt x="3795" y="10641"/>
                </a:cubicBezTo>
                <a:cubicBezTo>
                  <a:pt x="3762" y="10757"/>
                  <a:pt x="3660" y="11001"/>
                  <a:pt x="3845" y="11038"/>
                </a:cubicBezTo>
                <a:cubicBezTo>
                  <a:pt x="3971" y="11063"/>
                  <a:pt x="4023" y="11002"/>
                  <a:pt x="4118" y="10939"/>
                </a:cubicBezTo>
              </a:path>
              <a:path w="6574" h="2779">
                <a:moveTo>
                  <a:pt x="4242" y="10716"/>
                </a:moveTo>
                <a:cubicBezTo>
                  <a:pt x="4326" y="10692"/>
                  <a:pt x="4409" y="10671"/>
                  <a:pt x="4490" y="10641"/>
                </a:cubicBezTo>
              </a:path>
              <a:path w="6574" h="2779">
                <a:moveTo>
                  <a:pt x="4291" y="10914"/>
                </a:moveTo>
                <a:cubicBezTo>
                  <a:pt x="4398" y="10880"/>
                  <a:pt x="4488" y="10841"/>
                  <a:pt x="4589" y="10790"/>
                </a:cubicBezTo>
              </a:path>
              <a:path w="6574" h="2779">
                <a:moveTo>
                  <a:pt x="4787" y="10592"/>
                </a:moveTo>
                <a:cubicBezTo>
                  <a:pt x="4787" y="10667"/>
                  <a:pt x="4787" y="10693"/>
                  <a:pt x="4762" y="10740"/>
                </a:cubicBezTo>
                <a:cubicBezTo>
                  <a:pt x="4878" y="10817"/>
                  <a:pt x="4944" y="10774"/>
                  <a:pt x="5060" y="10716"/>
                </a:cubicBezTo>
              </a:path>
              <a:path w="6574" h="2779">
                <a:moveTo>
                  <a:pt x="4961" y="10492"/>
                </a:moveTo>
                <a:cubicBezTo>
                  <a:pt x="4961" y="10600"/>
                  <a:pt x="4912" y="10940"/>
                  <a:pt x="4986" y="10988"/>
                </a:cubicBezTo>
              </a:path>
              <a:path w="6574" h="2779">
                <a:moveTo>
                  <a:pt x="5184" y="10492"/>
                </a:moveTo>
                <a:cubicBezTo>
                  <a:pt x="5127" y="10584"/>
                  <a:pt x="4998" y="10763"/>
                  <a:pt x="5110" y="10864"/>
                </a:cubicBezTo>
                <a:cubicBezTo>
                  <a:pt x="5196" y="10941"/>
                  <a:pt x="5380" y="10833"/>
                  <a:pt x="5358" y="10716"/>
                </a:cubicBezTo>
                <a:cubicBezTo>
                  <a:pt x="5337" y="10608"/>
                  <a:pt x="5270" y="10568"/>
                  <a:pt x="5209" y="10492"/>
                </a:cubicBezTo>
              </a:path>
              <a:path w="6574" h="2779">
                <a:moveTo>
                  <a:pt x="5606" y="10790"/>
                </a:moveTo>
                <a:cubicBezTo>
                  <a:pt x="5598" y="10790"/>
                  <a:pt x="5589" y="10790"/>
                  <a:pt x="5581" y="10790"/>
                </a:cubicBezTo>
              </a:path>
              <a:path w="6574" h="2779">
                <a:moveTo>
                  <a:pt x="5953" y="10393"/>
                </a:moveTo>
                <a:cubicBezTo>
                  <a:pt x="5871" y="10428"/>
                  <a:pt x="5822" y="10458"/>
                  <a:pt x="5755" y="10517"/>
                </a:cubicBezTo>
                <a:cubicBezTo>
                  <a:pt x="5794" y="10595"/>
                  <a:pt x="5962" y="10641"/>
                  <a:pt x="5978" y="10716"/>
                </a:cubicBezTo>
                <a:cubicBezTo>
                  <a:pt x="5970" y="10741"/>
                  <a:pt x="5961" y="10765"/>
                  <a:pt x="5953" y="10790"/>
                </a:cubicBezTo>
                <a:cubicBezTo>
                  <a:pt x="5853" y="10773"/>
                  <a:pt x="5819" y="10734"/>
                  <a:pt x="5854" y="10616"/>
                </a:cubicBezTo>
                <a:cubicBezTo>
                  <a:pt x="5891" y="10543"/>
                  <a:pt x="5879" y="10510"/>
                  <a:pt x="5928" y="10517"/>
                </a:cubicBezTo>
              </a:path>
              <a:path w="6574" h="2779">
                <a:moveTo>
                  <a:pt x="6102" y="10517"/>
                </a:moveTo>
                <a:cubicBezTo>
                  <a:pt x="6173" y="10517"/>
                  <a:pt x="6313" y="10484"/>
                  <a:pt x="6350" y="10567"/>
                </a:cubicBezTo>
                <a:cubicBezTo>
                  <a:pt x="6384" y="10644"/>
                  <a:pt x="6313" y="10733"/>
                  <a:pt x="6276" y="10790"/>
                </a:cubicBezTo>
                <a:cubicBezTo>
                  <a:pt x="6236" y="10849"/>
                  <a:pt x="6232" y="10861"/>
                  <a:pt x="6201" y="10889"/>
                </a:cubicBezTo>
                <a:cubicBezTo>
                  <a:pt x="6263" y="10873"/>
                  <a:pt x="6299" y="10864"/>
                  <a:pt x="6375" y="10864"/>
                </a:cubicBezTo>
                <a:cubicBezTo>
                  <a:pt x="6408" y="10864"/>
                  <a:pt x="6424" y="10864"/>
                  <a:pt x="6449" y="10864"/>
                </a:cubicBezTo>
              </a:path>
              <a:path w="6574" h="2779">
                <a:moveTo>
                  <a:pt x="6747" y="10592"/>
                </a:moveTo>
                <a:cubicBezTo>
                  <a:pt x="6779" y="10576"/>
                  <a:pt x="6758" y="10587"/>
                  <a:pt x="6747" y="10542"/>
                </a:cubicBezTo>
                <a:cubicBezTo>
                  <a:pt x="6642" y="10572"/>
                  <a:pt x="6642" y="10676"/>
                  <a:pt x="6722" y="10765"/>
                </a:cubicBezTo>
                <a:cubicBezTo>
                  <a:pt x="6798" y="10849"/>
                  <a:pt x="6887" y="10751"/>
                  <a:pt x="6945" y="10716"/>
                </a:cubicBezTo>
              </a:path>
              <a:path w="6574" h="2779">
                <a:moveTo>
                  <a:pt x="7020" y="10542"/>
                </a:moveTo>
                <a:cubicBezTo>
                  <a:pt x="7020" y="10642"/>
                  <a:pt x="7020" y="10676"/>
                  <a:pt x="7045" y="10740"/>
                </a:cubicBezTo>
                <a:cubicBezTo>
                  <a:pt x="7045" y="10705"/>
                  <a:pt x="7020" y="10534"/>
                  <a:pt x="7069" y="10542"/>
                </a:cubicBezTo>
                <a:cubicBezTo>
                  <a:pt x="7146" y="10554"/>
                  <a:pt x="7149" y="10657"/>
                  <a:pt x="7169" y="10716"/>
                </a:cubicBezTo>
                <a:cubicBezTo>
                  <a:pt x="7169" y="10620"/>
                  <a:pt x="7188" y="10550"/>
                  <a:pt x="7243" y="10468"/>
                </a:cubicBezTo>
                <a:cubicBezTo>
                  <a:pt x="7268" y="10443"/>
                  <a:pt x="7276" y="10435"/>
                  <a:pt x="7293" y="10418"/>
                </a:cubicBezTo>
                <a:cubicBezTo>
                  <a:pt x="7366" y="10523"/>
                  <a:pt x="7385" y="10610"/>
                  <a:pt x="7392" y="10740"/>
                </a:cubicBezTo>
                <a:cubicBezTo>
                  <a:pt x="7392" y="10765"/>
                  <a:pt x="7392" y="10773"/>
                  <a:pt x="7417" y="1076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04920" y="3241800"/>
            <a:ext cx="947880" cy="303120"/>
          </a:xfrm>
          <a:custGeom>
            <a:avLst/>
            <a:gdLst/>
            <a:ahLst/>
            <a:rect l="l" t="t" r="r" b="b"/>
            <a:pathLst>
              <a:path w="2630" h="844">
                <a:moveTo>
                  <a:pt x="3696" y="9401"/>
                </a:moveTo>
                <a:cubicBezTo>
                  <a:pt x="3666" y="9312"/>
                  <a:pt x="3630" y="9258"/>
                  <a:pt x="3522" y="9327"/>
                </a:cubicBezTo>
                <a:cubicBezTo>
                  <a:pt x="3370" y="9425"/>
                  <a:pt x="3226" y="9731"/>
                  <a:pt x="3448" y="9847"/>
                </a:cubicBezTo>
                <a:cubicBezTo>
                  <a:pt x="3589" y="9921"/>
                  <a:pt x="3839" y="9754"/>
                  <a:pt x="3919" y="9649"/>
                </a:cubicBezTo>
                <a:cubicBezTo>
                  <a:pt x="3927" y="9632"/>
                  <a:pt x="3936" y="9616"/>
                  <a:pt x="3944" y="9599"/>
                </a:cubicBezTo>
              </a:path>
              <a:path w="2630" h="844">
                <a:moveTo>
                  <a:pt x="4118" y="9451"/>
                </a:moveTo>
                <a:cubicBezTo>
                  <a:pt x="4200" y="9413"/>
                  <a:pt x="4282" y="9381"/>
                  <a:pt x="4366" y="9351"/>
                </a:cubicBezTo>
              </a:path>
              <a:path w="2630" h="844">
                <a:moveTo>
                  <a:pt x="4093" y="9599"/>
                </a:moveTo>
                <a:cubicBezTo>
                  <a:pt x="4216" y="9542"/>
                  <a:pt x="4328" y="9482"/>
                  <a:pt x="4465" y="9475"/>
                </a:cubicBezTo>
                <a:cubicBezTo>
                  <a:pt x="4523" y="9475"/>
                  <a:pt x="4548" y="9475"/>
                  <a:pt x="4589" y="9475"/>
                </a:cubicBezTo>
              </a:path>
              <a:path w="2630" h="844">
                <a:moveTo>
                  <a:pt x="4911" y="9401"/>
                </a:moveTo>
                <a:cubicBezTo>
                  <a:pt x="4911" y="9509"/>
                  <a:pt x="4894" y="9660"/>
                  <a:pt x="4936" y="9674"/>
                </a:cubicBezTo>
              </a:path>
              <a:path w="2630" h="844">
                <a:moveTo>
                  <a:pt x="5110" y="9327"/>
                </a:moveTo>
                <a:cubicBezTo>
                  <a:pt x="5120" y="9436"/>
                  <a:pt x="5135" y="9539"/>
                  <a:pt x="5135" y="9649"/>
                </a:cubicBezTo>
                <a:cubicBezTo>
                  <a:pt x="5135" y="9709"/>
                  <a:pt x="5132" y="9716"/>
                  <a:pt x="5110" y="9624"/>
                </a:cubicBezTo>
              </a:path>
              <a:path w="2630" h="844">
                <a:moveTo>
                  <a:pt x="4762" y="9475"/>
                </a:moveTo>
                <a:cubicBezTo>
                  <a:pt x="4762" y="9433"/>
                  <a:pt x="4755" y="9342"/>
                  <a:pt x="4812" y="9327"/>
                </a:cubicBezTo>
                <a:cubicBezTo>
                  <a:pt x="4957" y="9290"/>
                  <a:pt x="5029" y="9401"/>
                  <a:pt x="5159" y="9401"/>
                </a:cubicBezTo>
                <a:cubicBezTo>
                  <a:pt x="5196" y="9401"/>
                  <a:pt x="5415" y="9290"/>
                  <a:pt x="5308" y="9277"/>
                </a:cubicBezTo>
                <a:cubicBezTo>
                  <a:pt x="5300" y="9277"/>
                  <a:pt x="5291" y="9277"/>
                  <a:pt x="5283" y="9277"/>
                </a:cubicBezTo>
              </a:path>
              <a:path w="2630" h="844">
                <a:moveTo>
                  <a:pt x="5904" y="9426"/>
                </a:moveTo>
                <a:cubicBezTo>
                  <a:pt x="5929" y="9360"/>
                  <a:pt x="5878" y="9272"/>
                  <a:pt x="5779" y="9302"/>
                </a:cubicBezTo>
                <a:cubicBezTo>
                  <a:pt x="5659" y="9338"/>
                  <a:pt x="5668" y="9429"/>
                  <a:pt x="5655" y="9525"/>
                </a:cubicBezTo>
                <a:cubicBezTo>
                  <a:pt x="5809" y="9584"/>
                  <a:pt x="5933" y="9546"/>
                  <a:pt x="5978" y="9351"/>
                </a:cubicBezTo>
                <a:cubicBezTo>
                  <a:pt x="5978" y="9310"/>
                  <a:pt x="5978" y="9268"/>
                  <a:pt x="5978" y="9227"/>
                </a:cubicBezTo>
              </a:path>
              <a:path w="2630" h="844">
                <a:moveTo>
                  <a:pt x="5829" y="9004"/>
                </a:moveTo>
                <a:cubicBezTo>
                  <a:pt x="5829" y="9145"/>
                  <a:pt x="5871" y="9266"/>
                  <a:pt x="5904" y="9401"/>
                </a:cubicBezTo>
                <a:cubicBezTo>
                  <a:pt x="5929" y="9503"/>
                  <a:pt x="5918" y="9545"/>
                  <a:pt x="5978" y="952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303200" y="4429080"/>
            <a:ext cx="617760" cy="162000"/>
          </a:xfrm>
          <a:custGeom>
            <a:avLst/>
            <a:gdLst/>
            <a:ahLst/>
            <a:rect l="l" t="t" r="r" b="b"/>
            <a:pathLst>
              <a:path w="1713" h="448">
                <a:moveTo>
                  <a:pt x="3919" y="12378"/>
                </a:moveTo>
                <a:cubicBezTo>
                  <a:pt x="3919" y="12404"/>
                  <a:pt x="3853" y="12319"/>
                  <a:pt x="3770" y="12328"/>
                </a:cubicBezTo>
                <a:cubicBezTo>
                  <a:pt x="3605" y="12346"/>
                  <a:pt x="3555" y="12622"/>
                  <a:pt x="3671" y="12725"/>
                </a:cubicBezTo>
                <a:cubicBezTo>
                  <a:pt x="3780" y="12822"/>
                  <a:pt x="3975" y="12689"/>
                  <a:pt x="4068" y="12650"/>
                </a:cubicBezTo>
              </a:path>
              <a:path w="1713" h="448">
                <a:moveTo>
                  <a:pt x="4167" y="12477"/>
                </a:moveTo>
                <a:cubicBezTo>
                  <a:pt x="4232" y="12455"/>
                  <a:pt x="4247" y="12447"/>
                  <a:pt x="4291" y="12452"/>
                </a:cubicBezTo>
              </a:path>
              <a:path w="1713" h="448">
                <a:moveTo>
                  <a:pt x="4093" y="12601"/>
                </a:moveTo>
                <a:cubicBezTo>
                  <a:pt x="4192" y="12576"/>
                  <a:pt x="4225" y="12568"/>
                  <a:pt x="4291" y="12551"/>
                </a:cubicBezTo>
              </a:path>
              <a:path w="1713" h="448">
                <a:moveTo>
                  <a:pt x="4589" y="12452"/>
                </a:moveTo>
                <a:cubicBezTo>
                  <a:pt x="4583" y="12529"/>
                  <a:pt x="4564" y="12598"/>
                  <a:pt x="4564" y="12675"/>
                </a:cubicBezTo>
              </a:path>
              <a:path w="1713" h="448">
                <a:moveTo>
                  <a:pt x="4762" y="12452"/>
                </a:moveTo>
                <a:cubicBezTo>
                  <a:pt x="4783" y="12530"/>
                  <a:pt x="4794" y="12586"/>
                  <a:pt x="4837" y="12650"/>
                </a:cubicBezTo>
              </a:path>
              <a:path w="1713" h="448">
                <a:moveTo>
                  <a:pt x="4390" y="12502"/>
                </a:moveTo>
                <a:cubicBezTo>
                  <a:pt x="4351" y="12401"/>
                  <a:pt x="4466" y="12369"/>
                  <a:pt x="4564" y="12378"/>
                </a:cubicBezTo>
                <a:cubicBezTo>
                  <a:pt x="4668" y="12388"/>
                  <a:pt x="4736" y="12502"/>
                  <a:pt x="4837" y="12502"/>
                </a:cubicBezTo>
                <a:cubicBezTo>
                  <a:pt x="4957" y="12502"/>
                  <a:pt x="4986" y="12475"/>
                  <a:pt x="4986" y="12378"/>
                </a:cubicBezTo>
              </a:path>
              <a:path w="1713" h="448">
                <a:moveTo>
                  <a:pt x="5259" y="12502"/>
                </a:moveTo>
                <a:cubicBezTo>
                  <a:pt x="5293" y="12465"/>
                  <a:pt x="5171" y="12466"/>
                  <a:pt x="5135" y="12502"/>
                </a:cubicBezTo>
                <a:cubicBezTo>
                  <a:pt x="5075" y="12581"/>
                  <a:pt x="5050" y="12589"/>
                  <a:pt x="5060" y="12650"/>
                </a:cubicBezTo>
                <a:cubicBezTo>
                  <a:pt x="5175" y="12685"/>
                  <a:pt x="5193" y="12669"/>
                  <a:pt x="5308" y="12626"/>
                </a:cubicBezTo>
              </a:path>
              <a:path w="1713" h="448">
                <a:moveTo>
                  <a:pt x="5333" y="12303"/>
                </a:moveTo>
                <a:cubicBezTo>
                  <a:pt x="5318" y="12423"/>
                  <a:pt x="5322" y="12507"/>
                  <a:pt x="5333" y="1262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41280" y="4626000"/>
            <a:ext cx="1231920" cy="473040"/>
          </a:xfrm>
          <a:custGeom>
            <a:avLst/>
            <a:gdLst/>
            <a:ahLst/>
            <a:rect l="l" t="t" r="r" b="b"/>
            <a:pathLst>
              <a:path w="3424" h="1315">
                <a:moveTo>
                  <a:pt x="3870" y="12948"/>
                </a:moveTo>
                <a:cubicBezTo>
                  <a:pt x="3892" y="12971"/>
                  <a:pt x="3900" y="12976"/>
                  <a:pt x="3894" y="12998"/>
                </a:cubicBezTo>
                <a:cubicBezTo>
                  <a:pt x="3950" y="12998"/>
                  <a:pt x="3864" y="12974"/>
                  <a:pt x="3845" y="12973"/>
                </a:cubicBezTo>
                <a:cubicBezTo>
                  <a:pt x="3712" y="12966"/>
                  <a:pt x="3685" y="13129"/>
                  <a:pt x="3696" y="13246"/>
                </a:cubicBezTo>
                <a:cubicBezTo>
                  <a:pt x="3714" y="13435"/>
                  <a:pt x="3962" y="13262"/>
                  <a:pt x="4043" y="13221"/>
                </a:cubicBezTo>
              </a:path>
              <a:path w="3424" h="1315">
                <a:moveTo>
                  <a:pt x="4167" y="13097"/>
                </a:moveTo>
                <a:cubicBezTo>
                  <a:pt x="4236" y="13097"/>
                  <a:pt x="4279" y="13091"/>
                  <a:pt x="4341" y="13072"/>
                </a:cubicBezTo>
              </a:path>
              <a:path w="3424" h="1315">
                <a:moveTo>
                  <a:pt x="4192" y="13196"/>
                </a:moveTo>
                <a:cubicBezTo>
                  <a:pt x="4259" y="13196"/>
                  <a:pt x="4293" y="13192"/>
                  <a:pt x="4341" y="13171"/>
                </a:cubicBezTo>
              </a:path>
              <a:path w="3424" h="1315">
                <a:moveTo>
                  <a:pt x="4663" y="13072"/>
                </a:moveTo>
                <a:cubicBezTo>
                  <a:pt x="4696" y="13072"/>
                  <a:pt x="4729" y="13072"/>
                  <a:pt x="4762" y="13072"/>
                </a:cubicBezTo>
                <a:cubicBezTo>
                  <a:pt x="4737" y="13132"/>
                  <a:pt x="4710" y="13141"/>
                  <a:pt x="4738" y="13171"/>
                </a:cubicBezTo>
                <a:cubicBezTo>
                  <a:pt x="4829" y="13271"/>
                  <a:pt x="4777" y="13338"/>
                  <a:pt x="4663" y="13395"/>
                </a:cubicBezTo>
                <a:cubicBezTo>
                  <a:pt x="4630" y="13395"/>
                  <a:pt x="4614" y="13395"/>
                  <a:pt x="4589" y="13395"/>
                </a:cubicBezTo>
              </a:path>
              <a:path w="3424" h="1315">
                <a:moveTo>
                  <a:pt x="5011" y="13320"/>
                </a:moveTo>
                <a:lnTo>
                  <a:pt x="5011" y="13320"/>
                </a:lnTo>
              </a:path>
              <a:path w="3424" h="1315">
                <a:moveTo>
                  <a:pt x="5209" y="13097"/>
                </a:moveTo>
                <a:cubicBezTo>
                  <a:pt x="5176" y="13152"/>
                  <a:pt x="5184" y="13201"/>
                  <a:pt x="5184" y="13271"/>
                </a:cubicBezTo>
                <a:cubicBezTo>
                  <a:pt x="5184" y="13279"/>
                  <a:pt x="5184" y="13287"/>
                  <a:pt x="5184" y="13295"/>
                </a:cubicBezTo>
              </a:path>
              <a:path w="3424" h="1315">
                <a:moveTo>
                  <a:pt x="5333" y="13072"/>
                </a:moveTo>
                <a:cubicBezTo>
                  <a:pt x="5361" y="13147"/>
                  <a:pt x="5343" y="13192"/>
                  <a:pt x="5432" y="13196"/>
                </a:cubicBezTo>
                <a:cubicBezTo>
                  <a:pt x="5519" y="13196"/>
                  <a:pt x="5555" y="13191"/>
                  <a:pt x="5606" y="13146"/>
                </a:cubicBezTo>
              </a:path>
              <a:path w="3424" h="1315">
                <a:moveTo>
                  <a:pt x="5581" y="12998"/>
                </a:moveTo>
                <a:cubicBezTo>
                  <a:pt x="5581" y="13098"/>
                  <a:pt x="5570" y="13176"/>
                  <a:pt x="5581" y="13271"/>
                </a:cubicBezTo>
                <a:cubicBezTo>
                  <a:pt x="5581" y="13279"/>
                  <a:pt x="5581" y="13287"/>
                  <a:pt x="5581" y="13295"/>
                </a:cubicBezTo>
              </a:path>
              <a:path w="3424" h="1315">
                <a:moveTo>
                  <a:pt x="5953" y="12898"/>
                </a:moveTo>
                <a:cubicBezTo>
                  <a:pt x="5858" y="13018"/>
                  <a:pt x="5808" y="13140"/>
                  <a:pt x="5879" y="13295"/>
                </a:cubicBezTo>
                <a:cubicBezTo>
                  <a:pt x="5917" y="13334"/>
                  <a:pt x="5934" y="13336"/>
                  <a:pt x="5928" y="13370"/>
                </a:cubicBezTo>
              </a:path>
              <a:path w="3424" h="1315">
                <a:moveTo>
                  <a:pt x="6028" y="13022"/>
                </a:moveTo>
                <a:cubicBezTo>
                  <a:pt x="6090" y="13029"/>
                  <a:pt x="6237" y="13042"/>
                  <a:pt x="6201" y="13146"/>
                </a:cubicBezTo>
                <a:cubicBezTo>
                  <a:pt x="6181" y="13204"/>
                  <a:pt x="6058" y="13322"/>
                  <a:pt x="6028" y="13271"/>
                </a:cubicBezTo>
                <a:cubicBezTo>
                  <a:pt x="6006" y="13227"/>
                  <a:pt x="5993" y="13215"/>
                  <a:pt x="6028" y="13196"/>
                </a:cubicBezTo>
                <a:cubicBezTo>
                  <a:pt x="6109" y="13206"/>
                  <a:pt x="6167" y="13246"/>
                  <a:pt x="6251" y="13246"/>
                </a:cubicBezTo>
              </a:path>
              <a:path w="3424" h="1315">
                <a:moveTo>
                  <a:pt x="6499" y="13047"/>
                </a:moveTo>
                <a:cubicBezTo>
                  <a:pt x="6409" y="13047"/>
                  <a:pt x="6369" y="13072"/>
                  <a:pt x="6350" y="13171"/>
                </a:cubicBezTo>
                <a:cubicBezTo>
                  <a:pt x="6350" y="13196"/>
                  <a:pt x="6350" y="13221"/>
                  <a:pt x="6350" y="13246"/>
                </a:cubicBezTo>
                <a:cubicBezTo>
                  <a:pt x="6452" y="13277"/>
                  <a:pt x="6587" y="13288"/>
                  <a:pt x="6623" y="13146"/>
                </a:cubicBezTo>
                <a:cubicBezTo>
                  <a:pt x="6627" y="13132"/>
                  <a:pt x="6538" y="13083"/>
                  <a:pt x="6524" y="13072"/>
                </a:cubicBezTo>
              </a:path>
              <a:path w="3424" h="1315">
                <a:moveTo>
                  <a:pt x="6697" y="12849"/>
                </a:moveTo>
                <a:cubicBezTo>
                  <a:pt x="6784" y="12950"/>
                  <a:pt x="6911" y="13072"/>
                  <a:pt x="6871" y="13221"/>
                </a:cubicBezTo>
                <a:cubicBezTo>
                  <a:pt x="6851" y="13295"/>
                  <a:pt x="6700" y="13497"/>
                  <a:pt x="6648" y="13444"/>
                </a:cubicBezTo>
              </a:path>
              <a:path w="3424" h="1315">
                <a:moveTo>
                  <a:pt x="3696" y="13692"/>
                </a:moveTo>
                <a:cubicBezTo>
                  <a:pt x="3696" y="13667"/>
                  <a:pt x="3696" y="13659"/>
                  <a:pt x="3696" y="13643"/>
                </a:cubicBezTo>
                <a:cubicBezTo>
                  <a:pt x="3557" y="13665"/>
                  <a:pt x="3524" y="13707"/>
                  <a:pt x="3473" y="13841"/>
                </a:cubicBezTo>
                <a:cubicBezTo>
                  <a:pt x="3412" y="14002"/>
                  <a:pt x="3509" y="14029"/>
                  <a:pt x="3646" y="13990"/>
                </a:cubicBezTo>
                <a:cubicBezTo>
                  <a:pt x="3687" y="13970"/>
                  <a:pt x="3703" y="13972"/>
                  <a:pt x="3696" y="13940"/>
                </a:cubicBezTo>
              </a:path>
              <a:path w="3424" h="1315">
                <a:moveTo>
                  <a:pt x="3894" y="13816"/>
                </a:moveTo>
                <a:cubicBezTo>
                  <a:pt x="3915" y="13801"/>
                  <a:pt x="3990" y="13782"/>
                  <a:pt x="4043" y="13767"/>
                </a:cubicBezTo>
              </a:path>
              <a:path w="3424" h="1315">
                <a:moveTo>
                  <a:pt x="3919" y="13891"/>
                </a:moveTo>
                <a:cubicBezTo>
                  <a:pt x="3996" y="13871"/>
                  <a:pt x="4014" y="13879"/>
                  <a:pt x="4043" y="13841"/>
                </a:cubicBezTo>
              </a:path>
              <a:path w="3424" h="1315">
                <a:moveTo>
                  <a:pt x="4341" y="13667"/>
                </a:moveTo>
                <a:cubicBezTo>
                  <a:pt x="4325" y="13761"/>
                  <a:pt x="4314" y="13874"/>
                  <a:pt x="4291" y="13965"/>
                </a:cubicBezTo>
                <a:cubicBezTo>
                  <a:pt x="4269" y="14009"/>
                  <a:pt x="4256" y="14020"/>
                  <a:pt x="4291" y="14039"/>
                </a:cubicBezTo>
                <a:cubicBezTo>
                  <a:pt x="4384" y="14058"/>
                  <a:pt x="4510" y="14044"/>
                  <a:pt x="4589" y="13965"/>
                </a:cubicBezTo>
                <a:cubicBezTo>
                  <a:pt x="4597" y="13948"/>
                  <a:pt x="4606" y="13932"/>
                  <a:pt x="4614" y="13915"/>
                </a:cubicBezTo>
                <a:cubicBezTo>
                  <a:pt x="4596" y="13862"/>
                  <a:pt x="4522" y="13889"/>
                  <a:pt x="4490" y="13940"/>
                </a:cubicBezTo>
                <a:cubicBezTo>
                  <a:pt x="4482" y="13965"/>
                  <a:pt x="4473" y="13990"/>
                  <a:pt x="4465" y="14015"/>
                </a:cubicBezTo>
              </a:path>
              <a:path w="3424" h="1315">
                <a:moveTo>
                  <a:pt x="4713" y="13767"/>
                </a:moveTo>
                <a:cubicBezTo>
                  <a:pt x="4759" y="13734"/>
                  <a:pt x="4790" y="13704"/>
                  <a:pt x="4837" y="13692"/>
                </a:cubicBezTo>
                <a:cubicBezTo>
                  <a:pt x="4848" y="13835"/>
                  <a:pt x="4781" y="13906"/>
                  <a:pt x="4713" y="14039"/>
                </a:cubicBezTo>
                <a:cubicBezTo>
                  <a:pt x="4675" y="14116"/>
                  <a:pt x="4676" y="14132"/>
                  <a:pt x="4638" y="14163"/>
                </a:cubicBezTo>
                <a:cubicBezTo>
                  <a:pt x="4651" y="14110"/>
                  <a:pt x="4680" y="14022"/>
                  <a:pt x="4762" y="14039"/>
                </a:cubicBezTo>
                <a:cubicBezTo>
                  <a:pt x="4839" y="14054"/>
                  <a:pt x="4912" y="14074"/>
                  <a:pt x="4986" y="14089"/>
                </a:cubicBezTo>
              </a:path>
              <a:path w="3424" h="1315">
                <a:moveTo>
                  <a:pt x="5110" y="14039"/>
                </a:moveTo>
                <a:lnTo>
                  <a:pt x="5110" y="14039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78040" y="4303800"/>
            <a:ext cx="590760" cy="911160"/>
          </a:xfrm>
          <a:custGeom>
            <a:avLst/>
            <a:gdLst/>
            <a:ahLst/>
            <a:rect l="l" t="t" r="r" b="b"/>
            <a:pathLst>
              <a:path w="1639" h="2531">
                <a:moveTo>
                  <a:pt x="7764" y="12204"/>
                </a:moveTo>
                <a:cubicBezTo>
                  <a:pt x="7787" y="12158"/>
                  <a:pt x="7853" y="12116"/>
                  <a:pt x="7913" y="12105"/>
                </a:cubicBezTo>
                <a:cubicBezTo>
                  <a:pt x="7921" y="12105"/>
                  <a:pt x="7930" y="12105"/>
                  <a:pt x="7938" y="12105"/>
                </a:cubicBezTo>
                <a:cubicBezTo>
                  <a:pt x="7924" y="12168"/>
                  <a:pt x="7907" y="12201"/>
                  <a:pt x="7863" y="12254"/>
                </a:cubicBezTo>
                <a:cubicBezTo>
                  <a:pt x="7905" y="12278"/>
                  <a:pt x="7974" y="12275"/>
                  <a:pt x="7938" y="12353"/>
                </a:cubicBezTo>
                <a:cubicBezTo>
                  <a:pt x="7891" y="12456"/>
                  <a:pt x="7835" y="12444"/>
                  <a:pt x="7739" y="12452"/>
                </a:cubicBezTo>
              </a:path>
              <a:path w="1639" h="2531">
                <a:moveTo>
                  <a:pt x="8186" y="12328"/>
                </a:moveTo>
                <a:cubicBezTo>
                  <a:pt x="8186" y="12336"/>
                  <a:pt x="8186" y="12345"/>
                  <a:pt x="8186" y="12353"/>
                </a:cubicBezTo>
              </a:path>
              <a:path w="1639" h="2531">
                <a:moveTo>
                  <a:pt x="8458" y="12154"/>
                </a:moveTo>
                <a:cubicBezTo>
                  <a:pt x="8441" y="12212"/>
                  <a:pt x="8369" y="12331"/>
                  <a:pt x="8434" y="12353"/>
                </a:cubicBezTo>
              </a:path>
              <a:path w="1639" h="2531">
                <a:moveTo>
                  <a:pt x="8657" y="12105"/>
                </a:moveTo>
                <a:cubicBezTo>
                  <a:pt x="8666" y="12193"/>
                  <a:pt x="8671" y="12244"/>
                  <a:pt x="8781" y="12229"/>
                </a:cubicBezTo>
                <a:cubicBezTo>
                  <a:pt x="8814" y="12221"/>
                  <a:pt x="8847" y="12212"/>
                  <a:pt x="8880" y="12204"/>
                </a:cubicBezTo>
              </a:path>
              <a:path w="1639" h="2531">
                <a:moveTo>
                  <a:pt x="8855" y="11956"/>
                </a:moveTo>
                <a:cubicBezTo>
                  <a:pt x="8855" y="12095"/>
                  <a:pt x="8836" y="12217"/>
                  <a:pt x="8806" y="12353"/>
                </a:cubicBezTo>
              </a:path>
              <a:path w="1639" h="2531">
                <a:moveTo>
                  <a:pt x="8409" y="12502"/>
                </a:moveTo>
                <a:cubicBezTo>
                  <a:pt x="8465" y="12495"/>
                  <a:pt x="8488" y="12482"/>
                  <a:pt x="8508" y="12502"/>
                </a:cubicBezTo>
                <a:cubicBezTo>
                  <a:pt x="8477" y="12596"/>
                  <a:pt x="8410" y="12650"/>
                  <a:pt x="8334" y="12725"/>
                </a:cubicBezTo>
                <a:cubicBezTo>
                  <a:pt x="8407" y="12725"/>
                  <a:pt x="8462" y="12721"/>
                  <a:pt x="8533" y="12700"/>
                </a:cubicBezTo>
                <a:cubicBezTo>
                  <a:pt x="8558" y="12692"/>
                  <a:pt x="8582" y="12683"/>
                  <a:pt x="8607" y="12675"/>
                </a:cubicBezTo>
              </a:path>
              <a:path w="1639" h="2531">
                <a:moveTo>
                  <a:pt x="8855" y="12477"/>
                </a:moveTo>
                <a:cubicBezTo>
                  <a:pt x="8795" y="12520"/>
                  <a:pt x="8771" y="12550"/>
                  <a:pt x="8756" y="12626"/>
                </a:cubicBezTo>
                <a:cubicBezTo>
                  <a:pt x="8814" y="12626"/>
                  <a:pt x="8922" y="12652"/>
                  <a:pt x="8880" y="12551"/>
                </a:cubicBezTo>
                <a:cubicBezTo>
                  <a:pt x="8850" y="12521"/>
                  <a:pt x="8836" y="12510"/>
                  <a:pt x="8806" y="12502"/>
                </a:cubicBezTo>
              </a:path>
              <a:path w="1639" h="2531">
                <a:moveTo>
                  <a:pt x="7565" y="12750"/>
                </a:moveTo>
                <a:cubicBezTo>
                  <a:pt x="7585" y="12808"/>
                  <a:pt x="7946" y="12775"/>
                  <a:pt x="7962" y="12774"/>
                </a:cubicBezTo>
                <a:cubicBezTo>
                  <a:pt x="8268" y="12758"/>
                  <a:pt x="8576" y="12730"/>
                  <a:pt x="8880" y="12700"/>
                </a:cubicBezTo>
                <a:cubicBezTo>
                  <a:pt x="8888" y="12700"/>
                  <a:pt x="8897" y="12700"/>
                  <a:pt x="8905" y="12700"/>
                </a:cubicBezTo>
              </a:path>
              <a:path w="1639" h="2531">
                <a:moveTo>
                  <a:pt x="8855" y="12948"/>
                </a:moveTo>
                <a:cubicBezTo>
                  <a:pt x="8815" y="13028"/>
                  <a:pt x="8752" y="13077"/>
                  <a:pt x="8731" y="13171"/>
                </a:cubicBezTo>
                <a:cubicBezTo>
                  <a:pt x="8797" y="13191"/>
                  <a:pt x="8992" y="13216"/>
                  <a:pt x="8979" y="13072"/>
                </a:cubicBezTo>
                <a:cubicBezTo>
                  <a:pt x="8970" y="12978"/>
                  <a:pt x="8770" y="13000"/>
                  <a:pt x="8731" y="12998"/>
                </a:cubicBezTo>
              </a:path>
              <a:path w="1639" h="2531">
                <a:moveTo>
                  <a:pt x="8359" y="13072"/>
                </a:moveTo>
                <a:cubicBezTo>
                  <a:pt x="8345" y="13140"/>
                  <a:pt x="8334" y="13171"/>
                  <a:pt x="8334" y="13246"/>
                </a:cubicBezTo>
                <a:cubicBezTo>
                  <a:pt x="8465" y="13246"/>
                  <a:pt x="8488" y="13242"/>
                  <a:pt x="8582" y="13146"/>
                </a:cubicBezTo>
                <a:cubicBezTo>
                  <a:pt x="8497" y="13109"/>
                  <a:pt x="8453" y="13103"/>
                  <a:pt x="8359" y="13097"/>
                </a:cubicBezTo>
              </a:path>
              <a:path w="1639" h="2531">
                <a:moveTo>
                  <a:pt x="7863" y="13122"/>
                </a:moveTo>
                <a:cubicBezTo>
                  <a:pt x="7769" y="13140"/>
                  <a:pt x="7774" y="13184"/>
                  <a:pt x="7764" y="13271"/>
                </a:cubicBezTo>
                <a:cubicBezTo>
                  <a:pt x="7868" y="13314"/>
                  <a:pt x="7970" y="13317"/>
                  <a:pt x="8012" y="13196"/>
                </a:cubicBezTo>
                <a:cubicBezTo>
                  <a:pt x="8043" y="13107"/>
                  <a:pt x="7934" y="13126"/>
                  <a:pt x="7888" y="13122"/>
                </a:cubicBezTo>
              </a:path>
              <a:path w="1639" h="2531">
                <a:moveTo>
                  <a:pt x="8880" y="13370"/>
                </a:moveTo>
                <a:cubicBezTo>
                  <a:pt x="8852" y="13439"/>
                  <a:pt x="8756" y="13504"/>
                  <a:pt x="8756" y="13593"/>
                </a:cubicBezTo>
                <a:cubicBezTo>
                  <a:pt x="8764" y="13610"/>
                  <a:pt x="8773" y="13626"/>
                  <a:pt x="8781" y="13643"/>
                </a:cubicBezTo>
                <a:cubicBezTo>
                  <a:pt x="8914" y="13631"/>
                  <a:pt x="8957" y="13599"/>
                  <a:pt x="8880" y="13469"/>
                </a:cubicBezTo>
                <a:cubicBezTo>
                  <a:pt x="8845" y="13434"/>
                  <a:pt x="8823" y="13421"/>
                  <a:pt x="8781" y="13419"/>
                </a:cubicBezTo>
              </a:path>
              <a:path w="1639" h="2531">
                <a:moveTo>
                  <a:pt x="8558" y="13469"/>
                </a:moveTo>
                <a:cubicBezTo>
                  <a:pt x="8482" y="13469"/>
                  <a:pt x="8404" y="13455"/>
                  <a:pt x="8334" y="13494"/>
                </a:cubicBezTo>
                <a:cubicBezTo>
                  <a:pt x="8318" y="13510"/>
                  <a:pt x="8301" y="13527"/>
                  <a:pt x="8285" y="13543"/>
                </a:cubicBezTo>
                <a:cubicBezTo>
                  <a:pt x="8342" y="13569"/>
                  <a:pt x="8533" y="13606"/>
                  <a:pt x="8533" y="13692"/>
                </a:cubicBezTo>
                <a:cubicBezTo>
                  <a:pt x="8533" y="13726"/>
                  <a:pt x="8453" y="13802"/>
                  <a:pt x="8434" y="13742"/>
                </a:cubicBezTo>
                <a:cubicBezTo>
                  <a:pt x="8454" y="13631"/>
                  <a:pt x="8506" y="13614"/>
                  <a:pt x="8558" y="13519"/>
                </a:cubicBezTo>
                <a:cubicBezTo>
                  <a:pt x="8558" y="13494"/>
                  <a:pt x="8558" y="13486"/>
                  <a:pt x="8533" y="13494"/>
                </a:cubicBezTo>
              </a:path>
              <a:path w="1639" h="2531">
                <a:moveTo>
                  <a:pt x="7888" y="13593"/>
                </a:moveTo>
                <a:cubicBezTo>
                  <a:pt x="7928" y="13573"/>
                  <a:pt x="7935" y="13564"/>
                  <a:pt x="7962" y="13568"/>
                </a:cubicBezTo>
                <a:cubicBezTo>
                  <a:pt x="7942" y="13647"/>
                  <a:pt x="7872" y="13687"/>
                  <a:pt x="7838" y="13742"/>
                </a:cubicBezTo>
                <a:cubicBezTo>
                  <a:pt x="7838" y="13750"/>
                  <a:pt x="7838" y="13759"/>
                  <a:pt x="7838" y="13767"/>
                </a:cubicBezTo>
                <a:cubicBezTo>
                  <a:pt x="7937" y="13767"/>
                  <a:pt x="8016" y="13734"/>
                  <a:pt x="8111" y="13717"/>
                </a:cubicBezTo>
              </a:path>
              <a:path w="1639" h="2531">
                <a:moveTo>
                  <a:pt x="7541" y="13593"/>
                </a:moveTo>
                <a:cubicBezTo>
                  <a:pt x="7525" y="13671"/>
                  <a:pt x="7496" y="13733"/>
                  <a:pt x="7491" y="13816"/>
                </a:cubicBezTo>
                <a:cubicBezTo>
                  <a:pt x="7491" y="13824"/>
                  <a:pt x="7491" y="13833"/>
                  <a:pt x="7491" y="13841"/>
                </a:cubicBezTo>
                <a:cubicBezTo>
                  <a:pt x="7570" y="13841"/>
                  <a:pt x="7656" y="13850"/>
                  <a:pt x="7689" y="13767"/>
                </a:cubicBezTo>
                <a:cubicBezTo>
                  <a:pt x="7689" y="13759"/>
                  <a:pt x="7689" y="13750"/>
                  <a:pt x="7689" y="13742"/>
                </a:cubicBezTo>
                <a:cubicBezTo>
                  <a:pt x="7608" y="13759"/>
                  <a:pt x="7601" y="13795"/>
                  <a:pt x="7565" y="13866"/>
                </a:cubicBezTo>
              </a:path>
              <a:path w="1639" h="2531">
                <a:moveTo>
                  <a:pt x="7565" y="13990"/>
                </a:moveTo>
                <a:cubicBezTo>
                  <a:pt x="7897" y="13979"/>
                  <a:pt x="8227" y="13946"/>
                  <a:pt x="8558" y="13915"/>
                </a:cubicBezTo>
                <a:cubicBezTo>
                  <a:pt x="8735" y="13898"/>
                  <a:pt x="8902" y="13891"/>
                  <a:pt x="9079" y="13891"/>
                </a:cubicBezTo>
              </a:path>
              <a:path w="1639" h="2531">
                <a:moveTo>
                  <a:pt x="8855" y="14163"/>
                </a:moveTo>
                <a:cubicBezTo>
                  <a:pt x="8863" y="14155"/>
                  <a:pt x="8872" y="14147"/>
                  <a:pt x="8880" y="14139"/>
                </a:cubicBezTo>
                <a:cubicBezTo>
                  <a:pt x="8855" y="14147"/>
                  <a:pt x="8781" y="14216"/>
                  <a:pt x="8781" y="14263"/>
                </a:cubicBezTo>
                <a:cubicBezTo>
                  <a:pt x="8781" y="14418"/>
                  <a:pt x="8973" y="14220"/>
                  <a:pt x="8979" y="14213"/>
                </a:cubicBezTo>
                <a:cubicBezTo>
                  <a:pt x="9027" y="14157"/>
                  <a:pt x="8959" y="14160"/>
                  <a:pt x="8905" y="14139"/>
                </a:cubicBezTo>
              </a:path>
              <a:path w="1639" h="2531">
                <a:moveTo>
                  <a:pt x="8483" y="14213"/>
                </a:moveTo>
                <a:cubicBezTo>
                  <a:pt x="8438" y="14167"/>
                  <a:pt x="8409" y="14188"/>
                  <a:pt x="8359" y="14238"/>
                </a:cubicBezTo>
                <a:cubicBezTo>
                  <a:pt x="8367" y="14251"/>
                  <a:pt x="8497" y="14347"/>
                  <a:pt x="8483" y="14362"/>
                </a:cubicBezTo>
                <a:cubicBezTo>
                  <a:pt x="8420" y="14405"/>
                  <a:pt x="8408" y="14421"/>
                  <a:pt x="8359" y="14412"/>
                </a:cubicBezTo>
                <a:cubicBezTo>
                  <a:pt x="8368" y="14358"/>
                  <a:pt x="8445" y="14254"/>
                  <a:pt x="8434" y="14213"/>
                </a:cubicBezTo>
                <a:cubicBezTo>
                  <a:pt x="8426" y="14205"/>
                  <a:pt x="8417" y="14196"/>
                  <a:pt x="8409" y="14188"/>
                </a:cubicBezTo>
              </a:path>
              <a:path w="1639" h="2531">
                <a:moveTo>
                  <a:pt x="7913" y="14238"/>
                </a:moveTo>
                <a:cubicBezTo>
                  <a:pt x="7957" y="14212"/>
                  <a:pt x="7993" y="14188"/>
                  <a:pt x="8037" y="14163"/>
                </a:cubicBezTo>
                <a:cubicBezTo>
                  <a:pt x="8037" y="14263"/>
                  <a:pt x="7993" y="14322"/>
                  <a:pt x="7913" y="14387"/>
                </a:cubicBezTo>
                <a:cubicBezTo>
                  <a:pt x="7803" y="14476"/>
                  <a:pt x="8043" y="14352"/>
                  <a:pt x="8086" y="14337"/>
                </a:cubicBezTo>
              </a:path>
              <a:path w="1639" h="2531">
                <a:moveTo>
                  <a:pt x="7565" y="14238"/>
                </a:moveTo>
                <a:cubicBezTo>
                  <a:pt x="7519" y="14262"/>
                  <a:pt x="7458" y="14350"/>
                  <a:pt x="7441" y="14412"/>
                </a:cubicBezTo>
                <a:cubicBezTo>
                  <a:pt x="7409" y="14531"/>
                  <a:pt x="7568" y="14471"/>
                  <a:pt x="7615" y="14461"/>
                </a:cubicBezTo>
                <a:cubicBezTo>
                  <a:pt x="7631" y="14458"/>
                  <a:pt x="7745" y="14393"/>
                  <a:pt x="7714" y="14362"/>
                </a:cubicBezTo>
                <a:cubicBezTo>
                  <a:pt x="7706" y="14362"/>
                  <a:pt x="7697" y="14362"/>
                  <a:pt x="7689" y="14362"/>
                </a:cubicBezTo>
                <a:cubicBezTo>
                  <a:pt x="7625" y="14373"/>
                  <a:pt x="7630" y="14387"/>
                  <a:pt x="7615" y="14461"/>
                </a:cubicBezTo>
              </a:path>
              <a:path w="1639" h="2531">
                <a:moveTo>
                  <a:pt x="8235" y="14436"/>
                </a:moveTo>
                <a:cubicBezTo>
                  <a:pt x="8227" y="14436"/>
                  <a:pt x="8218" y="14436"/>
                  <a:pt x="8210" y="1443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11240" y="4902120"/>
            <a:ext cx="231840" cy="142920"/>
          </a:xfrm>
          <a:custGeom>
            <a:avLst/>
            <a:gdLst/>
            <a:ahLst/>
            <a:rect l="l" t="t" r="r" b="b"/>
            <a:pathLst>
              <a:path w="646" h="398">
                <a:moveTo>
                  <a:pt x="5308" y="13717"/>
                </a:moveTo>
                <a:cubicBezTo>
                  <a:pt x="5308" y="13709"/>
                  <a:pt x="5308" y="13700"/>
                  <a:pt x="5308" y="13692"/>
                </a:cubicBezTo>
              </a:path>
              <a:path w="646" h="398">
                <a:moveTo>
                  <a:pt x="5308" y="13692"/>
                </a:moveTo>
                <a:lnTo>
                  <a:pt x="5308" y="13692"/>
                </a:lnTo>
              </a:path>
              <a:path w="646" h="398">
                <a:moveTo>
                  <a:pt x="5333" y="13692"/>
                </a:moveTo>
                <a:cubicBezTo>
                  <a:pt x="5360" y="13685"/>
                  <a:pt x="5465" y="13656"/>
                  <a:pt x="5482" y="13643"/>
                </a:cubicBezTo>
                <a:cubicBezTo>
                  <a:pt x="5482" y="13618"/>
                  <a:pt x="5482" y="13610"/>
                  <a:pt x="5507" y="13618"/>
                </a:cubicBezTo>
                <a:cubicBezTo>
                  <a:pt x="5460" y="13626"/>
                  <a:pt x="5388" y="13624"/>
                  <a:pt x="5383" y="13667"/>
                </a:cubicBezTo>
                <a:cubicBezTo>
                  <a:pt x="5374" y="13741"/>
                  <a:pt x="5423" y="13751"/>
                  <a:pt x="5482" y="13791"/>
                </a:cubicBezTo>
                <a:cubicBezTo>
                  <a:pt x="5506" y="13807"/>
                  <a:pt x="5646" y="13937"/>
                  <a:pt x="5581" y="13990"/>
                </a:cubicBezTo>
                <a:cubicBezTo>
                  <a:pt x="5516" y="14012"/>
                  <a:pt x="5501" y="14020"/>
                  <a:pt x="5457" y="14015"/>
                </a:cubicBezTo>
                <a:cubicBezTo>
                  <a:pt x="5437" y="13895"/>
                  <a:pt x="5401" y="13917"/>
                  <a:pt x="5507" y="13841"/>
                </a:cubicBezTo>
                <a:cubicBezTo>
                  <a:pt x="5537" y="13820"/>
                  <a:pt x="5689" y="13731"/>
                  <a:pt x="5680" y="13692"/>
                </a:cubicBezTo>
                <a:cubicBezTo>
                  <a:pt x="5666" y="13630"/>
                  <a:pt x="5650" y="13643"/>
                  <a:pt x="5606" y="13643"/>
                </a:cubicBezTo>
              </a:path>
              <a:path w="646" h="398">
                <a:moveTo>
                  <a:pt x="5904" y="13643"/>
                </a:moveTo>
                <a:cubicBezTo>
                  <a:pt x="5825" y="13652"/>
                  <a:pt x="5746" y="13685"/>
                  <a:pt x="5705" y="13767"/>
                </a:cubicBezTo>
                <a:cubicBezTo>
                  <a:pt x="5644" y="13889"/>
                  <a:pt x="5696" y="14004"/>
                  <a:pt x="5829" y="13990"/>
                </a:cubicBezTo>
                <a:cubicBezTo>
                  <a:pt x="5954" y="13977"/>
                  <a:pt x="5974" y="13903"/>
                  <a:pt x="5953" y="13791"/>
                </a:cubicBezTo>
                <a:cubicBezTo>
                  <a:pt x="5931" y="13726"/>
                  <a:pt x="5932" y="13702"/>
                  <a:pt x="5879" y="1371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251080" y="4956120"/>
            <a:ext cx="169920" cy="88920"/>
          </a:xfrm>
          <a:custGeom>
            <a:avLst/>
            <a:gdLst/>
            <a:ahLst/>
            <a:rect l="l" t="t" r="r" b="b"/>
            <a:pathLst>
              <a:path w="472" h="249">
                <a:moveTo>
                  <a:pt x="6251" y="13866"/>
                </a:moveTo>
                <a:cubicBezTo>
                  <a:pt x="6251" y="13916"/>
                  <a:pt x="6251" y="13965"/>
                  <a:pt x="6251" y="14015"/>
                </a:cubicBezTo>
              </a:path>
              <a:path w="472" h="249">
                <a:moveTo>
                  <a:pt x="6251" y="13767"/>
                </a:moveTo>
                <a:lnTo>
                  <a:pt x="6251" y="13767"/>
                </a:lnTo>
                <a:lnTo>
                  <a:pt x="6251" y="13767"/>
                </a:lnTo>
              </a:path>
              <a:path w="472" h="249">
                <a:moveTo>
                  <a:pt x="6251" y="13767"/>
                </a:moveTo>
                <a:lnTo>
                  <a:pt x="6251" y="13767"/>
                </a:lnTo>
              </a:path>
              <a:path w="472" h="249">
                <a:moveTo>
                  <a:pt x="6449" y="13965"/>
                </a:moveTo>
                <a:cubicBezTo>
                  <a:pt x="6469" y="14006"/>
                  <a:pt x="6467" y="14022"/>
                  <a:pt x="6499" y="14015"/>
                </a:cubicBezTo>
                <a:cubicBezTo>
                  <a:pt x="6475" y="13952"/>
                  <a:pt x="6435" y="13869"/>
                  <a:pt x="6524" y="13841"/>
                </a:cubicBezTo>
                <a:cubicBezTo>
                  <a:pt x="6598" y="13818"/>
                  <a:pt x="6695" y="13875"/>
                  <a:pt x="6722" y="13940"/>
                </a:cubicBezTo>
                <a:cubicBezTo>
                  <a:pt x="6722" y="13965"/>
                  <a:pt x="6722" y="13973"/>
                  <a:pt x="6722" y="1399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68760" y="2598840"/>
            <a:ext cx="723600" cy="214200"/>
          </a:xfrm>
          <a:custGeom>
            <a:avLst/>
            <a:gdLst/>
            <a:ahLst/>
            <a:rect l="l" t="t" r="r" b="b"/>
            <a:pathLst>
              <a:path w="2011" h="596">
                <a:moveTo>
                  <a:pt x="9599" y="7293"/>
                </a:moveTo>
                <a:cubicBezTo>
                  <a:pt x="9573" y="7241"/>
                  <a:pt x="9532" y="7224"/>
                  <a:pt x="9475" y="7268"/>
                </a:cubicBezTo>
                <a:cubicBezTo>
                  <a:pt x="9430" y="7302"/>
                  <a:pt x="9357" y="7401"/>
                  <a:pt x="9451" y="7441"/>
                </a:cubicBezTo>
                <a:cubicBezTo>
                  <a:pt x="9510" y="7466"/>
                  <a:pt x="9687" y="7422"/>
                  <a:pt x="9699" y="7367"/>
                </a:cubicBezTo>
                <a:cubicBezTo>
                  <a:pt x="9711" y="7309"/>
                  <a:pt x="9656" y="7236"/>
                  <a:pt x="9624" y="7218"/>
                </a:cubicBezTo>
                <a:cubicBezTo>
                  <a:pt x="9616" y="7218"/>
                  <a:pt x="9607" y="7218"/>
                  <a:pt x="9599" y="7218"/>
                </a:cubicBezTo>
              </a:path>
              <a:path w="2011" h="596">
                <a:moveTo>
                  <a:pt x="9004" y="7367"/>
                </a:moveTo>
                <a:cubicBezTo>
                  <a:pt x="9036" y="7356"/>
                  <a:pt x="9043" y="7349"/>
                  <a:pt x="9054" y="7317"/>
                </a:cubicBezTo>
                <a:cubicBezTo>
                  <a:pt x="9054" y="7357"/>
                  <a:pt x="9036" y="7414"/>
                  <a:pt x="9079" y="7417"/>
                </a:cubicBezTo>
                <a:cubicBezTo>
                  <a:pt x="9107" y="7419"/>
                  <a:pt x="9261" y="7408"/>
                  <a:pt x="9277" y="7392"/>
                </a:cubicBezTo>
                <a:cubicBezTo>
                  <a:pt x="9277" y="7364"/>
                  <a:pt x="9279" y="7358"/>
                  <a:pt x="9302" y="7392"/>
                </a:cubicBezTo>
              </a:path>
              <a:path w="2011" h="596">
                <a:moveTo>
                  <a:pt x="9302" y="7218"/>
                </a:moveTo>
                <a:cubicBezTo>
                  <a:pt x="9264" y="7324"/>
                  <a:pt x="9212" y="7427"/>
                  <a:pt x="9203" y="7541"/>
                </a:cubicBezTo>
                <a:cubicBezTo>
                  <a:pt x="9203" y="7549"/>
                  <a:pt x="9203" y="7557"/>
                  <a:pt x="9203" y="7565"/>
                </a:cubicBezTo>
              </a:path>
              <a:path w="2011" h="596">
                <a:moveTo>
                  <a:pt x="8781" y="7392"/>
                </a:moveTo>
                <a:cubicBezTo>
                  <a:pt x="8751" y="7331"/>
                  <a:pt x="8696" y="7535"/>
                  <a:pt x="8682" y="7590"/>
                </a:cubicBezTo>
                <a:cubicBezTo>
                  <a:pt x="8682" y="7598"/>
                  <a:pt x="8682" y="7607"/>
                  <a:pt x="8682" y="7615"/>
                </a:cubicBezTo>
              </a:path>
              <a:path w="2011" h="596">
                <a:moveTo>
                  <a:pt x="8012" y="7417"/>
                </a:moveTo>
                <a:cubicBezTo>
                  <a:pt x="8050" y="7378"/>
                  <a:pt x="8167" y="7329"/>
                  <a:pt x="8235" y="7392"/>
                </a:cubicBezTo>
                <a:cubicBezTo>
                  <a:pt x="8309" y="7460"/>
                  <a:pt x="8204" y="7507"/>
                  <a:pt x="8161" y="7541"/>
                </a:cubicBezTo>
                <a:cubicBezTo>
                  <a:pt x="8219" y="7541"/>
                  <a:pt x="8276" y="7541"/>
                  <a:pt x="8334" y="7541"/>
                </a:cubicBezTo>
                <a:cubicBezTo>
                  <a:pt x="8277" y="7654"/>
                  <a:pt x="8225" y="7663"/>
                  <a:pt x="8111" y="7640"/>
                </a:cubicBezTo>
              </a:path>
              <a:path w="2011" h="596">
                <a:moveTo>
                  <a:pt x="8086" y="7813"/>
                </a:moveTo>
                <a:cubicBezTo>
                  <a:pt x="8441" y="7735"/>
                  <a:pt x="8800" y="7676"/>
                  <a:pt x="9153" y="7590"/>
                </a:cubicBezTo>
                <a:cubicBezTo>
                  <a:pt x="9293" y="7556"/>
                  <a:pt x="9436" y="7522"/>
                  <a:pt x="9575" y="7491"/>
                </a:cubicBezTo>
              </a:path>
              <a:path w="2011" h="596">
                <a:moveTo>
                  <a:pt x="7689" y="7491"/>
                </a:moveTo>
                <a:cubicBezTo>
                  <a:pt x="7710" y="7559"/>
                  <a:pt x="7714" y="7615"/>
                  <a:pt x="7714" y="7689"/>
                </a:cubicBezTo>
              </a:path>
              <a:path w="2011" h="596">
                <a:moveTo>
                  <a:pt x="7714" y="7565"/>
                </a:moveTo>
                <a:cubicBezTo>
                  <a:pt x="7880" y="7518"/>
                  <a:pt x="7931" y="7504"/>
                  <a:pt x="8037" y="746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13040" y="2313000"/>
            <a:ext cx="696960" cy="303120"/>
          </a:xfrm>
          <a:custGeom>
            <a:avLst/>
            <a:gdLst/>
            <a:ahLst/>
            <a:rect l="l" t="t" r="r" b="b"/>
            <a:pathLst>
              <a:path w="1936" h="845">
                <a:moveTo>
                  <a:pt x="8979" y="6524"/>
                </a:moveTo>
                <a:cubicBezTo>
                  <a:pt x="8979" y="6614"/>
                  <a:pt x="8971" y="6689"/>
                  <a:pt x="8954" y="6772"/>
                </a:cubicBezTo>
              </a:path>
              <a:path w="1936" h="845">
                <a:moveTo>
                  <a:pt x="9401" y="6424"/>
                </a:moveTo>
                <a:cubicBezTo>
                  <a:pt x="9351" y="6525"/>
                  <a:pt x="9317" y="6573"/>
                  <a:pt x="9327" y="6672"/>
                </a:cubicBezTo>
                <a:cubicBezTo>
                  <a:pt x="9398" y="6663"/>
                  <a:pt x="9676" y="6554"/>
                  <a:pt x="9475" y="6449"/>
                </a:cubicBezTo>
                <a:cubicBezTo>
                  <a:pt x="9442" y="6449"/>
                  <a:pt x="9409" y="6449"/>
                  <a:pt x="9376" y="6449"/>
                </a:cubicBezTo>
              </a:path>
              <a:path w="1936" h="845">
                <a:moveTo>
                  <a:pt x="7813" y="7069"/>
                </a:moveTo>
                <a:cubicBezTo>
                  <a:pt x="8151" y="6958"/>
                  <a:pt x="8525" y="6952"/>
                  <a:pt x="8880" y="6896"/>
                </a:cubicBezTo>
                <a:cubicBezTo>
                  <a:pt x="9161" y="6852"/>
                  <a:pt x="9419" y="6740"/>
                  <a:pt x="9699" y="6697"/>
                </a:cubicBezTo>
                <a:cubicBezTo>
                  <a:pt x="9723" y="6697"/>
                  <a:pt x="9732" y="6697"/>
                  <a:pt x="9748" y="6697"/>
                </a:cubicBezTo>
              </a:path>
              <a:path w="1936" h="845">
                <a:moveTo>
                  <a:pt x="9550" y="6921"/>
                </a:moveTo>
                <a:cubicBezTo>
                  <a:pt x="9577" y="6921"/>
                  <a:pt x="9473" y="6967"/>
                  <a:pt x="9451" y="7045"/>
                </a:cubicBezTo>
                <a:cubicBezTo>
                  <a:pt x="9451" y="7061"/>
                  <a:pt x="9451" y="7078"/>
                  <a:pt x="9451" y="7094"/>
                </a:cubicBezTo>
                <a:cubicBezTo>
                  <a:pt x="9567" y="7133"/>
                  <a:pt x="9644" y="7138"/>
                  <a:pt x="9699" y="7020"/>
                </a:cubicBezTo>
                <a:cubicBezTo>
                  <a:pt x="9709" y="6998"/>
                  <a:pt x="9559" y="6949"/>
                  <a:pt x="9550" y="6945"/>
                </a:cubicBezTo>
              </a:path>
              <a:path w="1936" h="845">
                <a:moveTo>
                  <a:pt x="9103" y="6945"/>
                </a:moveTo>
                <a:cubicBezTo>
                  <a:pt x="8996" y="7038"/>
                  <a:pt x="8952" y="7058"/>
                  <a:pt x="8930" y="7193"/>
                </a:cubicBezTo>
                <a:cubicBezTo>
                  <a:pt x="9071" y="7232"/>
                  <a:pt x="9192" y="7212"/>
                  <a:pt x="9277" y="7069"/>
                </a:cubicBezTo>
                <a:cubicBezTo>
                  <a:pt x="9317" y="7001"/>
                  <a:pt x="9154" y="7001"/>
                  <a:pt x="9128" y="6995"/>
                </a:cubicBezTo>
              </a:path>
              <a:path w="1936" h="845">
                <a:moveTo>
                  <a:pt x="8706" y="7045"/>
                </a:moveTo>
                <a:cubicBezTo>
                  <a:pt x="8610" y="7045"/>
                  <a:pt x="8574" y="7062"/>
                  <a:pt x="8508" y="7144"/>
                </a:cubicBezTo>
                <a:cubicBezTo>
                  <a:pt x="8483" y="7193"/>
                  <a:pt x="8475" y="7210"/>
                  <a:pt x="8508" y="7243"/>
                </a:cubicBezTo>
                <a:cubicBezTo>
                  <a:pt x="8582" y="7271"/>
                  <a:pt x="8713" y="7297"/>
                  <a:pt x="8781" y="7218"/>
                </a:cubicBezTo>
                <a:cubicBezTo>
                  <a:pt x="8789" y="7202"/>
                  <a:pt x="8798" y="7185"/>
                  <a:pt x="8806" y="7169"/>
                </a:cubicBezTo>
                <a:cubicBezTo>
                  <a:pt x="8762" y="7116"/>
                  <a:pt x="8733" y="7122"/>
                  <a:pt x="8682" y="706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95240" y="496404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208" y="13791"/>
                </a:moveTo>
                <a:lnTo>
                  <a:pt x="2208" y="13791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89160" y="5367240"/>
            <a:ext cx="9720" cy="27000"/>
          </a:xfrm>
          <a:custGeom>
            <a:avLst/>
            <a:gdLst/>
            <a:ahLst/>
            <a:rect l="l" t="t" r="r" b="b"/>
            <a:pathLst>
              <a:path w="26" h="75">
                <a:moveTo>
                  <a:pt x="8607" y="14908"/>
                </a:moveTo>
                <a:cubicBezTo>
                  <a:pt x="8578" y="14936"/>
                  <a:pt x="8570" y="14949"/>
                  <a:pt x="8582" y="1498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276200" y="5599080"/>
            <a:ext cx="644760" cy="152280"/>
          </a:xfrm>
          <a:custGeom>
            <a:avLst/>
            <a:gdLst/>
            <a:ahLst/>
            <a:rect l="l" t="t" r="r" b="b"/>
            <a:pathLst>
              <a:path w="1787" h="422">
                <a:moveTo>
                  <a:pt x="3795" y="15726"/>
                </a:moveTo>
                <a:cubicBezTo>
                  <a:pt x="3786" y="15710"/>
                  <a:pt x="3687" y="15598"/>
                  <a:pt x="3646" y="15652"/>
                </a:cubicBezTo>
                <a:cubicBezTo>
                  <a:pt x="3558" y="15770"/>
                  <a:pt x="3477" y="15943"/>
                  <a:pt x="3671" y="15974"/>
                </a:cubicBezTo>
                <a:cubicBezTo>
                  <a:pt x="3774" y="15990"/>
                  <a:pt x="3832" y="15963"/>
                  <a:pt x="3919" y="15925"/>
                </a:cubicBezTo>
              </a:path>
              <a:path w="1787" h="422">
                <a:moveTo>
                  <a:pt x="3944" y="15875"/>
                </a:moveTo>
                <a:cubicBezTo>
                  <a:pt x="3987" y="15853"/>
                  <a:pt x="4023" y="15834"/>
                  <a:pt x="4068" y="15825"/>
                </a:cubicBezTo>
              </a:path>
              <a:path w="1787" h="422">
                <a:moveTo>
                  <a:pt x="4043" y="15974"/>
                </a:moveTo>
                <a:cubicBezTo>
                  <a:pt x="4068" y="15958"/>
                  <a:pt x="4093" y="15941"/>
                  <a:pt x="4118" y="15925"/>
                </a:cubicBezTo>
              </a:path>
              <a:path w="1787" h="422">
                <a:moveTo>
                  <a:pt x="4118" y="15925"/>
                </a:moveTo>
                <a:lnTo>
                  <a:pt x="4118" y="15925"/>
                </a:lnTo>
              </a:path>
              <a:path w="1787" h="422">
                <a:moveTo>
                  <a:pt x="4440" y="15776"/>
                </a:moveTo>
                <a:cubicBezTo>
                  <a:pt x="4440" y="15845"/>
                  <a:pt x="4421" y="15883"/>
                  <a:pt x="4490" y="15900"/>
                </a:cubicBezTo>
              </a:path>
              <a:path w="1787" h="422">
                <a:moveTo>
                  <a:pt x="4638" y="15726"/>
                </a:moveTo>
                <a:cubicBezTo>
                  <a:pt x="4672" y="15785"/>
                  <a:pt x="4693" y="15930"/>
                  <a:pt x="4738" y="15974"/>
                </a:cubicBezTo>
                <a:cubicBezTo>
                  <a:pt x="4738" y="15966"/>
                  <a:pt x="4738" y="15957"/>
                  <a:pt x="4738" y="15949"/>
                </a:cubicBezTo>
              </a:path>
              <a:path w="1787" h="422">
                <a:moveTo>
                  <a:pt x="4266" y="15726"/>
                </a:moveTo>
                <a:cubicBezTo>
                  <a:pt x="4305" y="15694"/>
                  <a:pt x="4407" y="15599"/>
                  <a:pt x="4465" y="15602"/>
                </a:cubicBezTo>
                <a:cubicBezTo>
                  <a:pt x="4585" y="15609"/>
                  <a:pt x="4620" y="15740"/>
                  <a:pt x="4762" y="15726"/>
                </a:cubicBezTo>
                <a:cubicBezTo>
                  <a:pt x="4874" y="15715"/>
                  <a:pt x="4881" y="15681"/>
                  <a:pt x="4837" y="15627"/>
                </a:cubicBezTo>
              </a:path>
              <a:path w="1787" h="422">
                <a:moveTo>
                  <a:pt x="5308" y="15726"/>
                </a:moveTo>
                <a:cubicBezTo>
                  <a:pt x="5251" y="15669"/>
                  <a:pt x="5163" y="15645"/>
                  <a:pt x="5085" y="15701"/>
                </a:cubicBezTo>
                <a:cubicBezTo>
                  <a:pt x="4980" y="15776"/>
                  <a:pt x="5035" y="15993"/>
                  <a:pt x="5184" y="15949"/>
                </a:cubicBezTo>
                <a:cubicBezTo>
                  <a:pt x="5217" y="15924"/>
                  <a:pt x="5250" y="15900"/>
                  <a:pt x="5283" y="15875"/>
                </a:cubicBezTo>
              </a:path>
              <a:path w="1787" h="422">
                <a:moveTo>
                  <a:pt x="5308" y="15553"/>
                </a:moveTo>
                <a:cubicBezTo>
                  <a:pt x="5308" y="15662"/>
                  <a:pt x="5328" y="15766"/>
                  <a:pt x="5333" y="15875"/>
                </a:cubicBezTo>
                <a:cubicBezTo>
                  <a:pt x="5333" y="15900"/>
                  <a:pt x="5333" y="15908"/>
                  <a:pt x="5333" y="1592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847960" y="5429160"/>
            <a:ext cx="430200" cy="330120"/>
          </a:xfrm>
          <a:custGeom>
            <a:avLst/>
            <a:gdLst/>
            <a:ahLst/>
            <a:rect l="l" t="t" r="r" b="b"/>
            <a:pathLst>
              <a:path w="1191" h="919">
                <a:moveTo>
                  <a:pt x="7913" y="15180"/>
                </a:moveTo>
                <a:cubicBezTo>
                  <a:pt x="8020" y="15142"/>
                  <a:pt x="8109" y="15112"/>
                  <a:pt x="8210" y="15156"/>
                </a:cubicBezTo>
                <a:cubicBezTo>
                  <a:pt x="8147" y="15230"/>
                  <a:pt x="8109" y="15269"/>
                  <a:pt x="8037" y="15329"/>
                </a:cubicBezTo>
                <a:cubicBezTo>
                  <a:pt x="8113" y="15329"/>
                  <a:pt x="8187" y="15358"/>
                  <a:pt x="8161" y="15453"/>
                </a:cubicBezTo>
                <a:cubicBezTo>
                  <a:pt x="8128" y="15573"/>
                  <a:pt x="7955" y="15604"/>
                  <a:pt x="7938" y="15553"/>
                </a:cubicBezTo>
              </a:path>
              <a:path w="1191" h="919">
                <a:moveTo>
                  <a:pt x="8434" y="15478"/>
                </a:moveTo>
                <a:lnTo>
                  <a:pt x="8434" y="15478"/>
                </a:lnTo>
              </a:path>
              <a:path w="1191" h="919">
                <a:moveTo>
                  <a:pt x="8657" y="15180"/>
                </a:moveTo>
                <a:cubicBezTo>
                  <a:pt x="8697" y="15278"/>
                  <a:pt x="8721" y="15347"/>
                  <a:pt x="8731" y="15453"/>
                </a:cubicBezTo>
              </a:path>
              <a:path w="1191" h="919">
                <a:moveTo>
                  <a:pt x="9004" y="15081"/>
                </a:moveTo>
                <a:cubicBezTo>
                  <a:pt x="8986" y="15232"/>
                  <a:pt x="8979" y="15375"/>
                  <a:pt x="8979" y="15528"/>
                </a:cubicBezTo>
              </a:path>
              <a:path w="1191" h="919">
                <a:moveTo>
                  <a:pt x="8731" y="15726"/>
                </a:moveTo>
                <a:cubicBezTo>
                  <a:pt x="8740" y="15791"/>
                  <a:pt x="8771" y="15920"/>
                  <a:pt x="8781" y="15949"/>
                </a:cubicBezTo>
                <a:cubicBezTo>
                  <a:pt x="8781" y="15957"/>
                  <a:pt x="8781" y="15966"/>
                  <a:pt x="8781" y="15974"/>
                </a:cubicBezTo>
              </a:path>
              <a:path w="1191" h="919">
                <a:moveTo>
                  <a:pt x="8905" y="15751"/>
                </a:moveTo>
                <a:cubicBezTo>
                  <a:pt x="8905" y="15776"/>
                  <a:pt x="8905" y="15800"/>
                  <a:pt x="8905" y="15825"/>
                </a:cubicBezTo>
                <a:cubicBezTo>
                  <a:pt x="9005" y="15825"/>
                  <a:pt x="9039" y="15825"/>
                  <a:pt x="9103" y="15801"/>
                </a:cubicBezTo>
              </a:path>
              <a:path w="1191" h="919">
                <a:moveTo>
                  <a:pt x="9103" y="15627"/>
                </a:moveTo>
                <a:cubicBezTo>
                  <a:pt x="9067" y="15756"/>
                  <a:pt x="9054" y="15866"/>
                  <a:pt x="9054" y="1599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05080" y="5464080"/>
            <a:ext cx="46080" cy="36720"/>
          </a:xfrm>
          <a:custGeom>
            <a:avLst/>
            <a:gdLst/>
            <a:ahLst/>
            <a:rect l="l" t="t" r="r" b="b"/>
            <a:pathLst>
              <a:path w="125" h="101">
                <a:moveTo>
                  <a:pt x="8905" y="15180"/>
                </a:moveTo>
                <a:cubicBezTo>
                  <a:pt x="8905" y="15251"/>
                  <a:pt x="8903" y="15307"/>
                  <a:pt x="9004" y="15280"/>
                </a:cubicBezTo>
                <a:cubicBezTo>
                  <a:pt x="9012" y="15272"/>
                  <a:pt x="9021" y="15263"/>
                  <a:pt x="9029" y="1525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285920" y="5759280"/>
            <a:ext cx="1081080" cy="258840"/>
          </a:xfrm>
          <a:custGeom>
            <a:avLst/>
            <a:gdLst/>
            <a:ahLst/>
            <a:rect l="l" t="t" r="r" b="b"/>
            <a:pathLst>
              <a:path w="3002" h="720">
                <a:moveTo>
                  <a:pt x="3820" y="16272"/>
                </a:moveTo>
                <a:cubicBezTo>
                  <a:pt x="3820" y="16303"/>
                  <a:pt x="3760" y="16219"/>
                  <a:pt x="3696" y="16197"/>
                </a:cubicBezTo>
                <a:cubicBezTo>
                  <a:pt x="3621" y="16322"/>
                  <a:pt x="3552" y="16413"/>
                  <a:pt x="3572" y="16570"/>
                </a:cubicBezTo>
                <a:cubicBezTo>
                  <a:pt x="3593" y="16735"/>
                  <a:pt x="3822" y="16614"/>
                  <a:pt x="3894" y="16545"/>
                </a:cubicBezTo>
                <a:cubicBezTo>
                  <a:pt x="3902" y="16528"/>
                  <a:pt x="3911" y="16512"/>
                  <a:pt x="3919" y="16495"/>
                </a:cubicBezTo>
              </a:path>
              <a:path w="3002" h="720">
                <a:moveTo>
                  <a:pt x="4043" y="16396"/>
                </a:moveTo>
                <a:cubicBezTo>
                  <a:pt x="4085" y="16389"/>
                  <a:pt x="4125" y="16378"/>
                  <a:pt x="4167" y="16371"/>
                </a:cubicBezTo>
              </a:path>
              <a:path w="3002" h="720">
                <a:moveTo>
                  <a:pt x="4043" y="16495"/>
                </a:moveTo>
                <a:cubicBezTo>
                  <a:pt x="4130" y="16495"/>
                  <a:pt x="4165" y="16490"/>
                  <a:pt x="4217" y="16446"/>
                </a:cubicBezTo>
              </a:path>
              <a:path w="3002" h="720">
                <a:moveTo>
                  <a:pt x="4390" y="16346"/>
                </a:moveTo>
                <a:cubicBezTo>
                  <a:pt x="4466" y="16303"/>
                  <a:pt x="4574" y="16257"/>
                  <a:pt x="4614" y="16371"/>
                </a:cubicBezTo>
                <a:cubicBezTo>
                  <a:pt x="4640" y="16443"/>
                  <a:pt x="4496" y="16621"/>
                  <a:pt x="4490" y="16545"/>
                </a:cubicBezTo>
                <a:cubicBezTo>
                  <a:pt x="4485" y="16488"/>
                  <a:pt x="4626" y="16464"/>
                  <a:pt x="4638" y="16545"/>
                </a:cubicBezTo>
                <a:cubicBezTo>
                  <a:pt x="4658" y="16682"/>
                  <a:pt x="4494" y="16692"/>
                  <a:pt x="4415" y="16669"/>
                </a:cubicBezTo>
                <a:cubicBezTo>
                  <a:pt x="4423" y="16669"/>
                  <a:pt x="4432" y="16669"/>
                  <a:pt x="4440" y="16669"/>
                </a:cubicBezTo>
              </a:path>
              <a:path w="3002" h="720">
                <a:moveTo>
                  <a:pt x="4887" y="16594"/>
                </a:moveTo>
                <a:lnTo>
                  <a:pt x="4887" y="16594"/>
                </a:lnTo>
              </a:path>
              <a:path w="3002" h="720">
                <a:moveTo>
                  <a:pt x="5035" y="16297"/>
                </a:moveTo>
                <a:cubicBezTo>
                  <a:pt x="5050" y="16387"/>
                  <a:pt x="5052" y="16484"/>
                  <a:pt x="5085" y="16570"/>
                </a:cubicBezTo>
                <a:cubicBezTo>
                  <a:pt x="5085" y="16562"/>
                  <a:pt x="5085" y="16553"/>
                  <a:pt x="5085" y="16545"/>
                </a:cubicBezTo>
              </a:path>
              <a:path w="3002" h="720">
                <a:moveTo>
                  <a:pt x="5209" y="16297"/>
                </a:moveTo>
                <a:cubicBezTo>
                  <a:pt x="5197" y="16356"/>
                  <a:pt x="5155" y="16420"/>
                  <a:pt x="5234" y="16446"/>
                </a:cubicBezTo>
                <a:cubicBezTo>
                  <a:pt x="5331" y="16478"/>
                  <a:pt x="5355" y="16472"/>
                  <a:pt x="5432" y="16421"/>
                </a:cubicBezTo>
              </a:path>
              <a:path w="3002" h="720">
                <a:moveTo>
                  <a:pt x="5457" y="16222"/>
                </a:moveTo>
                <a:cubicBezTo>
                  <a:pt x="5422" y="16344"/>
                  <a:pt x="5404" y="16432"/>
                  <a:pt x="5432" y="16545"/>
                </a:cubicBezTo>
                <a:cubicBezTo>
                  <a:pt x="5432" y="16553"/>
                  <a:pt x="5432" y="16562"/>
                  <a:pt x="5432" y="16570"/>
                </a:cubicBezTo>
              </a:path>
              <a:path w="3002" h="720">
                <a:moveTo>
                  <a:pt x="5631" y="16173"/>
                </a:moveTo>
                <a:cubicBezTo>
                  <a:pt x="5557" y="16350"/>
                  <a:pt x="5546" y="16422"/>
                  <a:pt x="5631" y="16594"/>
                </a:cubicBezTo>
                <a:cubicBezTo>
                  <a:pt x="5655" y="16644"/>
                  <a:pt x="5663" y="16661"/>
                  <a:pt x="5705" y="16669"/>
                </a:cubicBezTo>
              </a:path>
              <a:path w="3002" h="720">
                <a:moveTo>
                  <a:pt x="5854" y="16222"/>
                </a:moveTo>
                <a:cubicBezTo>
                  <a:pt x="5854" y="16302"/>
                  <a:pt x="5864" y="16371"/>
                  <a:pt x="5879" y="16446"/>
                </a:cubicBezTo>
                <a:cubicBezTo>
                  <a:pt x="5879" y="16454"/>
                  <a:pt x="5879" y="16462"/>
                  <a:pt x="5879" y="16470"/>
                </a:cubicBezTo>
              </a:path>
              <a:path w="3002" h="720">
                <a:moveTo>
                  <a:pt x="6028" y="16247"/>
                </a:moveTo>
                <a:cubicBezTo>
                  <a:pt x="6028" y="16278"/>
                  <a:pt x="6012" y="16359"/>
                  <a:pt x="6052" y="16371"/>
                </a:cubicBezTo>
                <a:cubicBezTo>
                  <a:pt x="6116" y="16391"/>
                  <a:pt x="6193" y="16371"/>
                  <a:pt x="6251" y="16346"/>
                </a:cubicBezTo>
              </a:path>
              <a:path w="3002" h="720">
                <a:moveTo>
                  <a:pt x="6251" y="16197"/>
                </a:moveTo>
                <a:cubicBezTo>
                  <a:pt x="6236" y="16313"/>
                  <a:pt x="6218" y="16385"/>
                  <a:pt x="6251" y="16495"/>
                </a:cubicBezTo>
              </a:path>
              <a:path w="3002" h="720">
                <a:moveTo>
                  <a:pt x="6350" y="15999"/>
                </a:moveTo>
                <a:cubicBezTo>
                  <a:pt x="6390" y="16158"/>
                  <a:pt x="6529" y="16244"/>
                  <a:pt x="6573" y="16396"/>
                </a:cubicBezTo>
                <a:cubicBezTo>
                  <a:pt x="6618" y="16554"/>
                  <a:pt x="6549" y="16650"/>
                  <a:pt x="6424" y="1671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59040" y="5786280"/>
            <a:ext cx="615960" cy="206640"/>
          </a:xfrm>
          <a:custGeom>
            <a:avLst/>
            <a:gdLst/>
            <a:ahLst/>
            <a:rect l="l" t="t" r="r" b="b"/>
            <a:pathLst>
              <a:path w="1712" h="572">
                <a:moveTo>
                  <a:pt x="7665" y="16123"/>
                </a:moveTo>
                <a:cubicBezTo>
                  <a:pt x="7888" y="16168"/>
                  <a:pt x="8219" y="16100"/>
                  <a:pt x="8458" y="16098"/>
                </a:cubicBezTo>
                <a:cubicBezTo>
                  <a:pt x="8700" y="16096"/>
                  <a:pt x="8937" y="16082"/>
                  <a:pt x="9178" y="16073"/>
                </a:cubicBezTo>
              </a:path>
              <a:path w="1712" h="572">
                <a:moveTo>
                  <a:pt x="9128" y="16148"/>
                </a:moveTo>
                <a:cubicBezTo>
                  <a:pt x="9112" y="16210"/>
                  <a:pt x="9067" y="16275"/>
                  <a:pt x="9054" y="16346"/>
                </a:cubicBezTo>
                <a:cubicBezTo>
                  <a:pt x="9035" y="16454"/>
                  <a:pt x="9180" y="16456"/>
                  <a:pt x="9252" y="16446"/>
                </a:cubicBezTo>
                <a:cubicBezTo>
                  <a:pt x="9337" y="16435"/>
                  <a:pt x="9361" y="16395"/>
                  <a:pt x="9376" y="16321"/>
                </a:cubicBezTo>
                <a:cubicBezTo>
                  <a:pt x="9332" y="16289"/>
                  <a:pt x="9238" y="16291"/>
                  <a:pt x="9203" y="16346"/>
                </a:cubicBezTo>
                <a:cubicBezTo>
                  <a:pt x="9203" y="16388"/>
                  <a:pt x="9203" y="16396"/>
                  <a:pt x="9203" y="16421"/>
                </a:cubicBezTo>
              </a:path>
              <a:path w="1712" h="572">
                <a:moveTo>
                  <a:pt x="8806" y="16371"/>
                </a:moveTo>
                <a:cubicBezTo>
                  <a:pt x="8748" y="16371"/>
                  <a:pt x="8676" y="16354"/>
                  <a:pt x="8657" y="16396"/>
                </a:cubicBezTo>
                <a:cubicBezTo>
                  <a:pt x="8637" y="16436"/>
                  <a:pt x="8628" y="16443"/>
                  <a:pt x="8632" y="16470"/>
                </a:cubicBezTo>
                <a:cubicBezTo>
                  <a:pt x="8694" y="16470"/>
                  <a:pt x="8758" y="16456"/>
                  <a:pt x="8806" y="16495"/>
                </a:cubicBezTo>
                <a:cubicBezTo>
                  <a:pt x="8844" y="16526"/>
                  <a:pt x="8821" y="16594"/>
                  <a:pt x="8781" y="16619"/>
                </a:cubicBezTo>
                <a:cubicBezTo>
                  <a:pt x="8699" y="16671"/>
                  <a:pt x="8634" y="16630"/>
                  <a:pt x="8558" y="16619"/>
                </a:cubicBezTo>
              </a:path>
              <a:path w="1712" h="572">
                <a:moveTo>
                  <a:pt x="7813" y="16321"/>
                </a:moveTo>
                <a:cubicBezTo>
                  <a:pt x="7813" y="16367"/>
                  <a:pt x="7772" y="16539"/>
                  <a:pt x="7789" y="16570"/>
                </a:cubicBezTo>
                <a:cubicBezTo>
                  <a:pt x="7797" y="16570"/>
                  <a:pt x="7805" y="16570"/>
                  <a:pt x="7813" y="16570"/>
                </a:cubicBezTo>
              </a:path>
              <a:path w="1712" h="572">
                <a:moveTo>
                  <a:pt x="8037" y="16297"/>
                </a:moveTo>
                <a:cubicBezTo>
                  <a:pt x="8099" y="16276"/>
                  <a:pt x="8142" y="16272"/>
                  <a:pt x="8210" y="16272"/>
                </a:cubicBezTo>
                <a:cubicBezTo>
                  <a:pt x="8195" y="16367"/>
                  <a:pt x="8143" y="16421"/>
                  <a:pt x="8086" y="16495"/>
                </a:cubicBezTo>
                <a:cubicBezTo>
                  <a:pt x="8064" y="16518"/>
                  <a:pt x="8056" y="16523"/>
                  <a:pt x="8062" y="16545"/>
                </a:cubicBezTo>
                <a:cubicBezTo>
                  <a:pt x="8157" y="16538"/>
                  <a:pt x="8242" y="16511"/>
                  <a:pt x="8334" y="1649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268280" y="6010200"/>
            <a:ext cx="2160720" cy="419040"/>
          </a:xfrm>
          <a:custGeom>
            <a:avLst/>
            <a:gdLst/>
            <a:ahLst/>
            <a:rect l="l" t="t" r="r" b="b"/>
            <a:pathLst>
              <a:path w="6004" h="1166">
                <a:moveTo>
                  <a:pt x="9178" y="16694"/>
                </a:moveTo>
                <a:cubicBezTo>
                  <a:pt x="9150" y="16703"/>
                  <a:pt x="9038" y="16824"/>
                  <a:pt x="9029" y="16867"/>
                </a:cubicBezTo>
                <a:cubicBezTo>
                  <a:pt x="9037" y="16884"/>
                  <a:pt x="9046" y="16900"/>
                  <a:pt x="9054" y="16917"/>
                </a:cubicBezTo>
                <a:cubicBezTo>
                  <a:pt x="9148" y="16946"/>
                  <a:pt x="9300" y="16961"/>
                  <a:pt x="9327" y="16818"/>
                </a:cubicBezTo>
                <a:cubicBezTo>
                  <a:pt x="9342" y="16739"/>
                  <a:pt x="9264" y="16747"/>
                  <a:pt x="9227" y="16743"/>
                </a:cubicBezTo>
              </a:path>
              <a:path w="6004" h="1166">
                <a:moveTo>
                  <a:pt x="8731" y="16892"/>
                </a:moveTo>
                <a:cubicBezTo>
                  <a:pt x="8703" y="16913"/>
                  <a:pt x="8683" y="16951"/>
                  <a:pt x="8657" y="16991"/>
                </a:cubicBezTo>
                <a:cubicBezTo>
                  <a:pt x="8749" y="16991"/>
                  <a:pt x="8849" y="16995"/>
                  <a:pt x="8930" y="16942"/>
                </a:cubicBezTo>
                <a:cubicBezTo>
                  <a:pt x="8922" y="16942"/>
                  <a:pt x="8913" y="16942"/>
                  <a:pt x="8905" y="16942"/>
                </a:cubicBezTo>
              </a:path>
              <a:path w="6004" h="1166">
                <a:moveTo>
                  <a:pt x="8830" y="16768"/>
                </a:moveTo>
                <a:cubicBezTo>
                  <a:pt x="8822" y="16877"/>
                  <a:pt x="8806" y="16979"/>
                  <a:pt x="8806" y="17090"/>
                </a:cubicBezTo>
              </a:path>
              <a:path w="6004" h="1166">
                <a:moveTo>
                  <a:pt x="8161" y="16818"/>
                </a:moveTo>
                <a:cubicBezTo>
                  <a:pt x="8161" y="16901"/>
                  <a:pt x="8161" y="16983"/>
                  <a:pt x="8161" y="17066"/>
                </a:cubicBezTo>
              </a:path>
              <a:path w="6004" h="1166">
                <a:moveTo>
                  <a:pt x="7739" y="16793"/>
                </a:moveTo>
                <a:cubicBezTo>
                  <a:pt x="7783" y="16784"/>
                  <a:pt x="7817" y="16774"/>
                  <a:pt x="7863" y="16768"/>
                </a:cubicBezTo>
                <a:cubicBezTo>
                  <a:pt x="7848" y="16858"/>
                  <a:pt x="7833" y="16892"/>
                  <a:pt x="7764" y="16942"/>
                </a:cubicBezTo>
                <a:cubicBezTo>
                  <a:pt x="7833" y="16933"/>
                  <a:pt x="7901" y="16890"/>
                  <a:pt x="7888" y="17016"/>
                </a:cubicBezTo>
                <a:cubicBezTo>
                  <a:pt x="7877" y="17125"/>
                  <a:pt x="7717" y="17132"/>
                  <a:pt x="7640" y="17140"/>
                </a:cubicBezTo>
              </a:path>
              <a:path w="6004" h="1166">
                <a:moveTo>
                  <a:pt x="7565" y="17363"/>
                </a:moveTo>
                <a:cubicBezTo>
                  <a:pt x="7958" y="17349"/>
                  <a:pt x="8340" y="17278"/>
                  <a:pt x="8731" y="17239"/>
                </a:cubicBezTo>
                <a:cubicBezTo>
                  <a:pt x="8944" y="17218"/>
                  <a:pt x="9140" y="17214"/>
                  <a:pt x="9351" y="17214"/>
                </a:cubicBezTo>
              </a:path>
              <a:path w="6004" h="1166">
                <a:moveTo>
                  <a:pt x="9302" y="17264"/>
                </a:moveTo>
                <a:cubicBezTo>
                  <a:pt x="9302" y="17341"/>
                  <a:pt x="9278" y="17389"/>
                  <a:pt x="9252" y="17462"/>
                </a:cubicBezTo>
                <a:cubicBezTo>
                  <a:pt x="9223" y="17546"/>
                  <a:pt x="9192" y="17647"/>
                  <a:pt x="9327" y="17636"/>
                </a:cubicBezTo>
                <a:cubicBezTo>
                  <a:pt x="9413" y="17629"/>
                  <a:pt x="9469" y="17568"/>
                  <a:pt x="9525" y="17512"/>
                </a:cubicBezTo>
                <a:cubicBezTo>
                  <a:pt x="9510" y="17468"/>
                  <a:pt x="9453" y="17453"/>
                  <a:pt x="9401" y="17487"/>
                </a:cubicBezTo>
                <a:cubicBezTo>
                  <a:pt x="9355" y="17533"/>
                  <a:pt x="9340" y="17545"/>
                  <a:pt x="9327" y="17587"/>
                </a:cubicBezTo>
              </a:path>
              <a:path w="6004" h="1166">
                <a:moveTo>
                  <a:pt x="8905" y="17413"/>
                </a:moveTo>
                <a:cubicBezTo>
                  <a:pt x="8887" y="17342"/>
                  <a:pt x="8866" y="17366"/>
                  <a:pt x="8806" y="17388"/>
                </a:cubicBezTo>
                <a:cubicBezTo>
                  <a:pt x="8765" y="17403"/>
                  <a:pt x="8630" y="17481"/>
                  <a:pt x="8731" y="17537"/>
                </a:cubicBezTo>
                <a:cubicBezTo>
                  <a:pt x="8778" y="17563"/>
                  <a:pt x="8891" y="17588"/>
                  <a:pt x="8930" y="17537"/>
                </a:cubicBezTo>
                <a:cubicBezTo>
                  <a:pt x="8953" y="17489"/>
                  <a:pt x="8961" y="17474"/>
                  <a:pt x="8954" y="17438"/>
                </a:cubicBezTo>
                <a:cubicBezTo>
                  <a:pt x="8954" y="17371"/>
                  <a:pt x="8906" y="17553"/>
                  <a:pt x="8905" y="17562"/>
                </a:cubicBezTo>
                <a:cubicBezTo>
                  <a:pt x="8905" y="17636"/>
                  <a:pt x="8905" y="17645"/>
                  <a:pt x="8905" y="17686"/>
                </a:cubicBezTo>
              </a:path>
              <a:path w="6004" h="1166">
                <a:moveTo>
                  <a:pt x="8161" y="17438"/>
                </a:moveTo>
                <a:cubicBezTo>
                  <a:pt x="8218" y="17420"/>
                  <a:pt x="8353" y="17334"/>
                  <a:pt x="8359" y="17438"/>
                </a:cubicBezTo>
                <a:cubicBezTo>
                  <a:pt x="8364" y="17531"/>
                  <a:pt x="8326" y="17529"/>
                  <a:pt x="8260" y="17587"/>
                </a:cubicBezTo>
                <a:cubicBezTo>
                  <a:pt x="8252" y="17587"/>
                  <a:pt x="8243" y="17587"/>
                  <a:pt x="8235" y="17587"/>
                </a:cubicBezTo>
                <a:cubicBezTo>
                  <a:pt x="8285" y="17587"/>
                  <a:pt x="8334" y="17587"/>
                  <a:pt x="8384" y="17587"/>
                </a:cubicBezTo>
                <a:cubicBezTo>
                  <a:pt x="8384" y="17687"/>
                  <a:pt x="8385" y="17723"/>
                  <a:pt x="8285" y="17760"/>
                </a:cubicBezTo>
                <a:cubicBezTo>
                  <a:pt x="8188" y="17796"/>
                  <a:pt x="8188" y="17793"/>
                  <a:pt x="8111" y="17760"/>
                </a:cubicBezTo>
              </a:path>
              <a:path w="6004" h="1166">
                <a:moveTo>
                  <a:pt x="7665" y="17587"/>
                </a:moveTo>
                <a:cubicBezTo>
                  <a:pt x="7665" y="17634"/>
                  <a:pt x="7649" y="17667"/>
                  <a:pt x="7640" y="17711"/>
                </a:cubicBezTo>
                <a:cubicBezTo>
                  <a:pt x="7744" y="17711"/>
                  <a:pt x="7849" y="17725"/>
                  <a:pt x="7913" y="17661"/>
                </a:cubicBezTo>
              </a:path>
              <a:path w="6004" h="1166">
                <a:moveTo>
                  <a:pt x="7913" y="17438"/>
                </a:moveTo>
                <a:cubicBezTo>
                  <a:pt x="7913" y="17557"/>
                  <a:pt x="7878" y="17668"/>
                  <a:pt x="7863" y="17785"/>
                </a:cubicBezTo>
                <a:cubicBezTo>
                  <a:pt x="7856" y="17839"/>
                  <a:pt x="7852" y="17848"/>
                  <a:pt x="7888" y="17859"/>
                </a:cubicBezTo>
              </a:path>
              <a:path w="6004" h="1166">
                <a:moveTo>
                  <a:pt x="3820" y="17140"/>
                </a:moveTo>
                <a:cubicBezTo>
                  <a:pt x="3820" y="17191"/>
                  <a:pt x="3810" y="17105"/>
                  <a:pt x="3770" y="17090"/>
                </a:cubicBezTo>
                <a:cubicBezTo>
                  <a:pt x="3613" y="17032"/>
                  <a:pt x="3541" y="17139"/>
                  <a:pt x="3522" y="17289"/>
                </a:cubicBezTo>
                <a:cubicBezTo>
                  <a:pt x="3492" y="17532"/>
                  <a:pt x="3597" y="17482"/>
                  <a:pt x="3770" y="17462"/>
                </a:cubicBezTo>
                <a:cubicBezTo>
                  <a:pt x="3787" y="17462"/>
                  <a:pt x="3803" y="17462"/>
                  <a:pt x="3820" y="17462"/>
                </a:cubicBezTo>
              </a:path>
              <a:path w="6004" h="1166">
                <a:moveTo>
                  <a:pt x="4093" y="17314"/>
                </a:moveTo>
                <a:cubicBezTo>
                  <a:pt x="4138" y="17303"/>
                  <a:pt x="4163" y="17289"/>
                  <a:pt x="4217" y="17289"/>
                </a:cubicBezTo>
              </a:path>
              <a:path w="6004" h="1166">
                <a:moveTo>
                  <a:pt x="4118" y="17413"/>
                </a:moveTo>
                <a:cubicBezTo>
                  <a:pt x="4160" y="17413"/>
                  <a:pt x="4186" y="17407"/>
                  <a:pt x="4217" y="17388"/>
                </a:cubicBezTo>
              </a:path>
              <a:path w="6004" h="1166">
                <a:moveTo>
                  <a:pt x="4366" y="17214"/>
                </a:moveTo>
                <a:cubicBezTo>
                  <a:pt x="4366" y="17317"/>
                  <a:pt x="4350" y="17356"/>
                  <a:pt x="4465" y="17363"/>
                </a:cubicBezTo>
                <a:cubicBezTo>
                  <a:pt x="4577" y="17363"/>
                  <a:pt x="4609" y="17369"/>
                  <a:pt x="4663" y="17314"/>
                </a:cubicBezTo>
              </a:path>
              <a:path w="6004" h="1166">
                <a:moveTo>
                  <a:pt x="4638" y="17041"/>
                </a:moveTo>
                <a:cubicBezTo>
                  <a:pt x="4607" y="17189"/>
                  <a:pt x="4614" y="17335"/>
                  <a:pt x="4614" y="17487"/>
                </a:cubicBezTo>
                <a:cubicBezTo>
                  <a:pt x="4614" y="17504"/>
                  <a:pt x="4614" y="17520"/>
                  <a:pt x="4614" y="17537"/>
                </a:cubicBezTo>
              </a:path>
              <a:path w="6004" h="1166">
                <a:moveTo>
                  <a:pt x="4762" y="17214"/>
                </a:moveTo>
                <a:cubicBezTo>
                  <a:pt x="4839" y="17199"/>
                  <a:pt x="4854" y="17171"/>
                  <a:pt x="4862" y="17264"/>
                </a:cubicBezTo>
                <a:cubicBezTo>
                  <a:pt x="4868" y="17331"/>
                  <a:pt x="4835" y="17295"/>
                  <a:pt x="4862" y="17314"/>
                </a:cubicBezTo>
                <a:cubicBezTo>
                  <a:pt x="4901" y="17341"/>
                  <a:pt x="4903" y="17432"/>
                  <a:pt x="4862" y="17462"/>
                </a:cubicBezTo>
                <a:cubicBezTo>
                  <a:pt x="4804" y="17481"/>
                  <a:pt x="4797" y="17490"/>
                  <a:pt x="4762" y="17487"/>
                </a:cubicBezTo>
              </a:path>
              <a:path w="6004" h="1166">
                <a:moveTo>
                  <a:pt x="5085" y="17512"/>
                </a:moveTo>
                <a:lnTo>
                  <a:pt x="5085" y="17512"/>
                </a:lnTo>
              </a:path>
              <a:path w="6004" h="1166">
                <a:moveTo>
                  <a:pt x="5333" y="17314"/>
                </a:moveTo>
                <a:cubicBezTo>
                  <a:pt x="5295" y="17238"/>
                  <a:pt x="5253" y="17222"/>
                  <a:pt x="5209" y="17165"/>
                </a:cubicBezTo>
                <a:cubicBezTo>
                  <a:pt x="5209" y="17157"/>
                  <a:pt x="5209" y="17148"/>
                  <a:pt x="5209" y="17140"/>
                </a:cubicBezTo>
                <a:cubicBezTo>
                  <a:pt x="5154" y="17208"/>
                  <a:pt x="5127" y="17279"/>
                  <a:pt x="5110" y="17363"/>
                </a:cubicBezTo>
                <a:cubicBezTo>
                  <a:pt x="5226" y="17353"/>
                  <a:pt x="5268" y="17360"/>
                  <a:pt x="5283" y="17239"/>
                </a:cubicBezTo>
                <a:cubicBezTo>
                  <a:pt x="5351" y="17262"/>
                  <a:pt x="5320" y="17395"/>
                  <a:pt x="5333" y="17462"/>
                </a:cubicBezTo>
                <a:cubicBezTo>
                  <a:pt x="5341" y="17487"/>
                  <a:pt x="5350" y="17512"/>
                  <a:pt x="5358" y="17537"/>
                </a:cubicBezTo>
              </a:path>
              <a:path w="6004" h="1166">
                <a:moveTo>
                  <a:pt x="5531" y="17165"/>
                </a:moveTo>
                <a:cubicBezTo>
                  <a:pt x="5531" y="17264"/>
                  <a:pt x="5514" y="17369"/>
                  <a:pt x="5556" y="17462"/>
                </a:cubicBezTo>
                <a:cubicBezTo>
                  <a:pt x="5591" y="17539"/>
                  <a:pt x="5727" y="17560"/>
                  <a:pt x="5779" y="17487"/>
                </a:cubicBezTo>
                <a:cubicBezTo>
                  <a:pt x="5826" y="17421"/>
                  <a:pt x="5821" y="17377"/>
                  <a:pt x="5779" y="17363"/>
                </a:cubicBezTo>
                <a:cubicBezTo>
                  <a:pt x="5704" y="17410"/>
                  <a:pt x="5680" y="17422"/>
                  <a:pt x="5680" y="17512"/>
                </a:cubicBezTo>
              </a:path>
              <a:path w="6004" h="1166">
                <a:moveTo>
                  <a:pt x="6276" y="17264"/>
                </a:moveTo>
                <a:cubicBezTo>
                  <a:pt x="6276" y="17308"/>
                  <a:pt x="6270" y="17265"/>
                  <a:pt x="6251" y="17239"/>
                </a:cubicBezTo>
                <a:cubicBezTo>
                  <a:pt x="6183" y="17324"/>
                  <a:pt x="6045" y="17501"/>
                  <a:pt x="6251" y="17512"/>
                </a:cubicBezTo>
                <a:cubicBezTo>
                  <a:pt x="6379" y="17486"/>
                  <a:pt x="6424" y="17475"/>
                  <a:pt x="6474" y="17388"/>
                </a:cubicBezTo>
              </a:path>
              <a:path w="6004" h="1166">
                <a:moveTo>
                  <a:pt x="6548" y="17289"/>
                </a:moveTo>
                <a:cubicBezTo>
                  <a:pt x="6567" y="17346"/>
                  <a:pt x="6576" y="17353"/>
                  <a:pt x="6573" y="17388"/>
                </a:cubicBezTo>
                <a:cubicBezTo>
                  <a:pt x="6573" y="17332"/>
                  <a:pt x="6542" y="17170"/>
                  <a:pt x="6648" y="17190"/>
                </a:cubicBezTo>
                <a:cubicBezTo>
                  <a:pt x="6712" y="17202"/>
                  <a:pt x="6735" y="17269"/>
                  <a:pt x="6772" y="17314"/>
                </a:cubicBezTo>
                <a:cubicBezTo>
                  <a:pt x="6772" y="17333"/>
                  <a:pt x="6801" y="17217"/>
                  <a:pt x="6846" y="17165"/>
                </a:cubicBezTo>
                <a:cubicBezTo>
                  <a:pt x="6854" y="17157"/>
                  <a:pt x="6863" y="17148"/>
                  <a:pt x="6871" y="17140"/>
                </a:cubicBezTo>
                <a:cubicBezTo>
                  <a:pt x="6911" y="17176"/>
                  <a:pt x="7072" y="17310"/>
                  <a:pt x="7020" y="17388"/>
                </a:cubicBezTo>
                <a:cubicBezTo>
                  <a:pt x="7012" y="17388"/>
                  <a:pt x="7003" y="17388"/>
                  <a:pt x="6995" y="173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81240" y="641196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8558" y="17810"/>
                </a:moveTo>
                <a:lnTo>
                  <a:pt x="8558" y="17810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8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8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: Students will identify and describe the parts of a circle and their relationships to one another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 the circum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447920" y="4267080"/>
            <a:ext cx="1425600" cy="1382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5" name="" descr=""/>
          <p:cNvPicPr/>
          <p:nvPr/>
        </p:nvPicPr>
        <p:blipFill>
          <a:blip r:embed="rId2">
            <a:lum bright="36000"/>
          </a:blip>
          <a:stretch/>
        </p:blipFill>
        <p:spPr>
          <a:xfrm>
            <a:off x="5410080" y="1828800"/>
            <a:ext cx="1408320" cy="137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1295280" y="1752480"/>
            <a:ext cx="1527120" cy="1568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7" name=""/>
          <p:cNvGraphicFramePr/>
          <p:nvPr/>
        </p:nvGraphicFramePr>
        <p:xfrm>
          <a:off x="2565360" y="1371600"/>
          <a:ext cx="914400" cy="371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65360" y="1371600"/>
                    <a:ext cx="91440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5257800" y="411480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019920" y="47242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1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1571760"/>
            <a:ext cx="963360" cy="285480"/>
          </a:xfrm>
          <a:custGeom>
            <a:avLst/>
            <a:gdLst/>
            <a:ahLst/>
            <a:rect l="l" t="t" r="r" b="b"/>
            <a:pathLst>
              <a:path w="2679" h="794">
                <a:moveTo>
                  <a:pt x="20117" y="4688"/>
                </a:moveTo>
                <a:cubicBezTo>
                  <a:pt x="20117" y="4713"/>
                  <a:pt x="20117" y="4721"/>
                  <a:pt x="20117" y="4738"/>
                </a:cubicBezTo>
                <a:cubicBezTo>
                  <a:pt x="20203" y="4767"/>
                  <a:pt x="20071" y="4688"/>
                  <a:pt x="20042" y="4663"/>
                </a:cubicBezTo>
                <a:cubicBezTo>
                  <a:pt x="19960" y="4592"/>
                  <a:pt x="19841" y="4684"/>
                  <a:pt x="19794" y="4762"/>
                </a:cubicBezTo>
                <a:cubicBezTo>
                  <a:pt x="19736" y="4858"/>
                  <a:pt x="19684" y="5119"/>
                  <a:pt x="19844" y="5159"/>
                </a:cubicBezTo>
                <a:cubicBezTo>
                  <a:pt x="19937" y="5182"/>
                  <a:pt x="20175" y="5162"/>
                  <a:pt x="20241" y="5085"/>
                </a:cubicBezTo>
                <a:cubicBezTo>
                  <a:pt x="20241" y="5077"/>
                  <a:pt x="20241" y="5068"/>
                  <a:pt x="20241" y="5060"/>
                </a:cubicBezTo>
              </a:path>
              <a:path w="2679" h="794">
                <a:moveTo>
                  <a:pt x="20513" y="4787"/>
                </a:moveTo>
                <a:cubicBezTo>
                  <a:pt x="20629" y="4721"/>
                  <a:pt x="20674" y="4731"/>
                  <a:pt x="20786" y="4787"/>
                </a:cubicBezTo>
              </a:path>
              <a:path w="2679" h="794">
                <a:moveTo>
                  <a:pt x="20613" y="4936"/>
                </a:moveTo>
                <a:cubicBezTo>
                  <a:pt x="20720" y="4918"/>
                  <a:pt x="20819" y="4936"/>
                  <a:pt x="20935" y="4936"/>
                </a:cubicBezTo>
              </a:path>
              <a:path w="2679" h="794">
                <a:moveTo>
                  <a:pt x="21258" y="4638"/>
                </a:moveTo>
                <a:cubicBezTo>
                  <a:pt x="21299" y="4797"/>
                  <a:pt x="21333" y="4903"/>
                  <a:pt x="21307" y="5060"/>
                </a:cubicBezTo>
              </a:path>
              <a:path w="2679" h="794">
                <a:moveTo>
                  <a:pt x="21481" y="4564"/>
                </a:moveTo>
                <a:cubicBezTo>
                  <a:pt x="21526" y="4737"/>
                  <a:pt x="21574" y="4909"/>
                  <a:pt x="21605" y="5085"/>
                </a:cubicBezTo>
                <a:cubicBezTo>
                  <a:pt x="21605" y="5110"/>
                  <a:pt x="21605" y="5118"/>
                  <a:pt x="21605" y="5085"/>
                </a:cubicBezTo>
              </a:path>
              <a:path w="2679" h="794">
                <a:moveTo>
                  <a:pt x="21109" y="4787"/>
                </a:moveTo>
                <a:cubicBezTo>
                  <a:pt x="21088" y="4705"/>
                  <a:pt x="21055" y="4627"/>
                  <a:pt x="21134" y="4564"/>
                </a:cubicBezTo>
                <a:cubicBezTo>
                  <a:pt x="21262" y="4462"/>
                  <a:pt x="21364" y="4515"/>
                  <a:pt x="21481" y="4589"/>
                </a:cubicBezTo>
                <a:cubicBezTo>
                  <a:pt x="21625" y="4680"/>
                  <a:pt x="21678" y="4650"/>
                  <a:pt x="21754" y="4514"/>
                </a:cubicBezTo>
              </a:path>
              <a:path w="2679" h="794">
                <a:moveTo>
                  <a:pt x="22324" y="4887"/>
                </a:moveTo>
                <a:cubicBezTo>
                  <a:pt x="22315" y="4843"/>
                  <a:pt x="22296" y="4762"/>
                  <a:pt x="22250" y="4738"/>
                </a:cubicBezTo>
                <a:cubicBezTo>
                  <a:pt x="22130" y="4675"/>
                  <a:pt x="22014" y="4745"/>
                  <a:pt x="22002" y="4887"/>
                </a:cubicBezTo>
                <a:cubicBezTo>
                  <a:pt x="21986" y="5080"/>
                  <a:pt x="22229" y="5018"/>
                  <a:pt x="22324" y="4961"/>
                </a:cubicBezTo>
                <a:cubicBezTo>
                  <a:pt x="22349" y="4936"/>
                  <a:pt x="22374" y="4912"/>
                  <a:pt x="22399" y="4887"/>
                </a:cubicBezTo>
              </a:path>
              <a:path w="2679" h="794">
                <a:moveTo>
                  <a:pt x="22250" y="4366"/>
                </a:moveTo>
                <a:cubicBezTo>
                  <a:pt x="22278" y="4503"/>
                  <a:pt x="22308" y="4648"/>
                  <a:pt x="22349" y="4787"/>
                </a:cubicBezTo>
                <a:cubicBezTo>
                  <a:pt x="22372" y="4864"/>
                  <a:pt x="22391" y="4969"/>
                  <a:pt x="22423" y="50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10280" y="1990800"/>
            <a:ext cx="392400" cy="241200"/>
          </a:xfrm>
          <a:custGeom>
            <a:avLst/>
            <a:gdLst/>
            <a:ahLst/>
            <a:rect l="l" t="t" r="r" b="b"/>
            <a:pathLst>
              <a:path w="1092" h="671">
                <a:moveTo>
                  <a:pt x="19918" y="5705"/>
                </a:moveTo>
                <a:cubicBezTo>
                  <a:pt x="19976" y="5744"/>
                  <a:pt x="19970" y="5634"/>
                  <a:pt x="19943" y="5581"/>
                </a:cubicBezTo>
                <a:cubicBezTo>
                  <a:pt x="19906" y="5507"/>
                  <a:pt x="19747" y="5516"/>
                  <a:pt x="19695" y="5556"/>
                </a:cubicBezTo>
                <a:cubicBezTo>
                  <a:pt x="19569" y="5652"/>
                  <a:pt x="19445" y="5916"/>
                  <a:pt x="19472" y="6077"/>
                </a:cubicBezTo>
                <a:cubicBezTo>
                  <a:pt x="19505" y="6275"/>
                  <a:pt x="19790" y="6184"/>
                  <a:pt x="19893" y="6127"/>
                </a:cubicBezTo>
                <a:cubicBezTo>
                  <a:pt x="19970" y="6085"/>
                  <a:pt x="19922" y="6077"/>
                  <a:pt x="19993" y="6077"/>
                </a:cubicBezTo>
              </a:path>
              <a:path w="1092" h="671">
                <a:moveTo>
                  <a:pt x="20241" y="5755"/>
                </a:moveTo>
                <a:cubicBezTo>
                  <a:pt x="20334" y="5745"/>
                  <a:pt x="20417" y="5730"/>
                  <a:pt x="20513" y="5730"/>
                </a:cubicBezTo>
              </a:path>
              <a:path w="1092" h="671">
                <a:moveTo>
                  <a:pt x="20290" y="5928"/>
                </a:moveTo>
                <a:cubicBezTo>
                  <a:pt x="20383" y="5922"/>
                  <a:pt x="20470" y="5911"/>
                  <a:pt x="20563" y="590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18240" y="1884240"/>
            <a:ext cx="974880" cy="322560"/>
          </a:xfrm>
          <a:custGeom>
            <a:avLst/>
            <a:gdLst/>
            <a:ahLst/>
            <a:rect l="l" t="t" r="r" b="b"/>
            <a:pathLst>
              <a:path w="2704" h="894">
                <a:moveTo>
                  <a:pt x="20910" y="5606"/>
                </a:moveTo>
                <a:cubicBezTo>
                  <a:pt x="20950" y="5527"/>
                  <a:pt x="20982" y="5520"/>
                  <a:pt x="21059" y="5482"/>
                </a:cubicBezTo>
                <a:cubicBezTo>
                  <a:pt x="21109" y="5597"/>
                  <a:pt x="21068" y="5671"/>
                  <a:pt x="21010" y="5779"/>
                </a:cubicBezTo>
                <a:cubicBezTo>
                  <a:pt x="21009" y="5749"/>
                  <a:pt x="21107" y="5693"/>
                  <a:pt x="21134" y="5829"/>
                </a:cubicBezTo>
                <a:cubicBezTo>
                  <a:pt x="21170" y="6006"/>
                  <a:pt x="21050" y="6044"/>
                  <a:pt x="20910" y="6052"/>
                </a:cubicBezTo>
                <a:cubicBezTo>
                  <a:pt x="20886" y="6052"/>
                  <a:pt x="20878" y="6052"/>
                  <a:pt x="20886" y="6028"/>
                </a:cubicBezTo>
              </a:path>
              <a:path w="2704" h="894">
                <a:moveTo>
                  <a:pt x="21431" y="5928"/>
                </a:moveTo>
                <a:lnTo>
                  <a:pt x="21431" y="5928"/>
                </a:lnTo>
              </a:path>
              <a:path w="2704" h="894">
                <a:moveTo>
                  <a:pt x="21605" y="5556"/>
                </a:moveTo>
                <a:cubicBezTo>
                  <a:pt x="21637" y="5686"/>
                  <a:pt x="21673" y="5791"/>
                  <a:pt x="21679" y="5928"/>
                </a:cubicBezTo>
                <a:cubicBezTo>
                  <a:pt x="21679" y="5936"/>
                  <a:pt x="21679" y="5945"/>
                  <a:pt x="21679" y="5953"/>
                </a:cubicBezTo>
              </a:path>
              <a:path w="2704" h="894">
                <a:moveTo>
                  <a:pt x="21853" y="5581"/>
                </a:moveTo>
                <a:cubicBezTo>
                  <a:pt x="21883" y="5630"/>
                  <a:pt x="21853" y="5724"/>
                  <a:pt x="21903" y="5755"/>
                </a:cubicBezTo>
                <a:cubicBezTo>
                  <a:pt x="21980" y="5802"/>
                  <a:pt x="22051" y="5777"/>
                  <a:pt x="22126" y="5755"/>
                </a:cubicBezTo>
              </a:path>
              <a:path w="2704" h="894">
                <a:moveTo>
                  <a:pt x="22126" y="5432"/>
                </a:moveTo>
                <a:cubicBezTo>
                  <a:pt x="22107" y="5545"/>
                  <a:pt x="22086" y="5660"/>
                  <a:pt x="22101" y="5779"/>
                </a:cubicBezTo>
                <a:cubicBezTo>
                  <a:pt x="22120" y="5854"/>
                  <a:pt x="22128" y="5861"/>
                  <a:pt x="22126" y="5904"/>
                </a:cubicBezTo>
              </a:path>
              <a:path w="2704" h="894">
                <a:moveTo>
                  <a:pt x="22473" y="5283"/>
                </a:moveTo>
                <a:cubicBezTo>
                  <a:pt x="22441" y="5461"/>
                  <a:pt x="22402" y="5616"/>
                  <a:pt x="22399" y="5804"/>
                </a:cubicBezTo>
                <a:cubicBezTo>
                  <a:pt x="22397" y="5933"/>
                  <a:pt x="22409" y="5993"/>
                  <a:pt x="22523" y="6028"/>
                </a:cubicBezTo>
                <a:cubicBezTo>
                  <a:pt x="22531" y="6028"/>
                  <a:pt x="22539" y="6028"/>
                  <a:pt x="22547" y="6028"/>
                </a:cubicBezTo>
              </a:path>
              <a:path w="2704" h="894">
                <a:moveTo>
                  <a:pt x="22845" y="5507"/>
                </a:moveTo>
                <a:cubicBezTo>
                  <a:pt x="22893" y="5542"/>
                  <a:pt x="22929" y="5521"/>
                  <a:pt x="22920" y="5432"/>
                </a:cubicBezTo>
                <a:cubicBezTo>
                  <a:pt x="22908" y="5313"/>
                  <a:pt x="22799" y="5317"/>
                  <a:pt x="22746" y="5383"/>
                </a:cubicBezTo>
                <a:cubicBezTo>
                  <a:pt x="22631" y="5525"/>
                  <a:pt x="22671" y="5556"/>
                  <a:pt x="22820" y="5556"/>
                </a:cubicBezTo>
                <a:cubicBezTo>
                  <a:pt x="22860" y="5556"/>
                  <a:pt x="22879" y="5545"/>
                  <a:pt x="22895" y="5507"/>
                </a:cubicBezTo>
                <a:cubicBezTo>
                  <a:pt x="22881" y="5619"/>
                  <a:pt x="22870" y="5714"/>
                  <a:pt x="22870" y="5829"/>
                </a:cubicBezTo>
              </a:path>
              <a:path w="2704" h="894">
                <a:moveTo>
                  <a:pt x="23217" y="5432"/>
                </a:moveTo>
                <a:cubicBezTo>
                  <a:pt x="23118" y="5521"/>
                  <a:pt x="23026" y="5635"/>
                  <a:pt x="23093" y="5779"/>
                </a:cubicBezTo>
                <a:cubicBezTo>
                  <a:pt x="23110" y="5796"/>
                  <a:pt x="23126" y="5812"/>
                  <a:pt x="23143" y="5829"/>
                </a:cubicBezTo>
                <a:cubicBezTo>
                  <a:pt x="23285" y="5791"/>
                  <a:pt x="23434" y="5664"/>
                  <a:pt x="23292" y="5482"/>
                </a:cubicBezTo>
                <a:cubicBezTo>
                  <a:pt x="23209" y="5440"/>
                  <a:pt x="23192" y="5432"/>
                  <a:pt x="23143" y="5407"/>
                </a:cubicBezTo>
              </a:path>
              <a:path w="2704" h="894">
                <a:moveTo>
                  <a:pt x="23267" y="5234"/>
                </a:moveTo>
                <a:cubicBezTo>
                  <a:pt x="23501" y="5351"/>
                  <a:pt x="23639" y="5512"/>
                  <a:pt x="23589" y="5804"/>
                </a:cubicBezTo>
                <a:cubicBezTo>
                  <a:pt x="23574" y="5892"/>
                  <a:pt x="23489" y="6049"/>
                  <a:pt x="23440" y="612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054920" y="2241720"/>
            <a:ext cx="1276200" cy="312480"/>
          </a:xfrm>
          <a:custGeom>
            <a:avLst/>
            <a:gdLst/>
            <a:ahLst/>
            <a:rect l="l" t="t" r="r" b="b"/>
            <a:pathLst>
              <a:path w="3548" h="869">
                <a:moveTo>
                  <a:pt x="19844" y="6697"/>
                </a:moveTo>
                <a:cubicBezTo>
                  <a:pt x="19827" y="6629"/>
                  <a:pt x="19798" y="6640"/>
                  <a:pt x="19720" y="6598"/>
                </a:cubicBezTo>
                <a:cubicBezTo>
                  <a:pt x="19590" y="6763"/>
                  <a:pt x="19510" y="7045"/>
                  <a:pt x="19819" y="7094"/>
                </a:cubicBezTo>
                <a:cubicBezTo>
                  <a:pt x="20006" y="7124"/>
                  <a:pt x="20078" y="7017"/>
                  <a:pt x="20166" y="6896"/>
                </a:cubicBezTo>
              </a:path>
              <a:path w="3548" h="869">
                <a:moveTo>
                  <a:pt x="20290" y="6697"/>
                </a:moveTo>
                <a:cubicBezTo>
                  <a:pt x="20399" y="6669"/>
                  <a:pt x="20442" y="6657"/>
                  <a:pt x="20513" y="6623"/>
                </a:cubicBezTo>
              </a:path>
              <a:path w="3548" h="869">
                <a:moveTo>
                  <a:pt x="20365" y="6871"/>
                </a:moveTo>
                <a:cubicBezTo>
                  <a:pt x="20496" y="6818"/>
                  <a:pt x="20545" y="6799"/>
                  <a:pt x="20638" y="6772"/>
                </a:cubicBezTo>
              </a:path>
              <a:path w="3548" h="869">
                <a:moveTo>
                  <a:pt x="20960" y="6474"/>
                </a:moveTo>
                <a:cubicBezTo>
                  <a:pt x="21165" y="6385"/>
                  <a:pt x="21189" y="6664"/>
                  <a:pt x="21158" y="6821"/>
                </a:cubicBezTo>
                <a:cubicBezTo>
                  <a:pt x="21095" y="6947"/>
                  <a:pt x="21092" y="6982"/>
                  <a:pt x="21010" y="7020"/>
                </a:cubicBezTo>
                <a:cubicBezTo>
                  <a:pt x="20956" y="6894"/>
                  <a:pt x="20992" y="6793"/>
                  <a:pt x="21158" y="6821"/>
                </a:cubicBezTo>
                <a:cubicBezTo>
                  <a:pt x="21242" y="6835"/>
                  <a:pt x="21332" y="6937"/>
                  <a:pt x="21332" y="6921"/>
                </a:cubicBezTo>
              </a:path>
              <a:path w="3548" h="869">
                <a:moveTo>
                  <a:pt x="21679" y="6375"/>
                </a:moveTo>
                <a:cubicBezTo>
                  <a:pt x="21585" y="6388"/>
                  <a:pt x="21316" y="6438"/>
                  <a:pt x="21431" y="6598"/>
                </a:cubicBezTo>
                <a:cubicBezTo>
                  <a:pt x="21490" y="6681"/>
                  <a:pt x="21610" y="6739"/>
                  <a:pt x="21679" y="6821"/>
                </a:cubicBezTo>
                <a:cubicBezTo>
                  <a:pt x="21596" y="6855"/>
                  <a:pt x="21421" y="6912"/>
                  <a:pt x="21506" y="6747"/>
                </a:cubicBezTo>
                <a:cubicBezTo>
                  <a:pt x="21554" y="6653"/>
                  <a:pt x="21754" y="6533"/>
                  <a:pt x="21754" y="6424"/>
                </a:cubicBezTo>
                <a:cubicBezTo>
                  <a:pt x="21746" y="6416"/>
                  <a:pt x="21737" y="6408"/>
                  <a:pt x="21729" y="6400"/>
                </a:cubicBezTo>
              </a:path>
              <a:path w="3548" h="869">
                <a:moveTo>
                  <a:pt x="22002" y="6424"/>
                </a:moveTo>
                <a:cubicBezTo>
                  <a:pt x="22023" y="6445"/>
                  <a:pt x="22110" y="6387"/>
                  <a:pt x="22175" y="6375"/>
                </a:cubicBezTo>
                <a:cubicBezTo>
                  <a:pt x="22305" y="6542"/>
                  <a:pt x="22303" y="6725"/>
                  <a:pt x="22076" y="6846"/>
                </a:cubicBezTo>
                <a:cubicBezTo>
                  <a:pt x="21975" y="6866"/>
                  <a:pt x="21955" y="6885"/>
                  <a:pt x="21903" y="6846"/>
                </a:cubicBezTo>
                <a:cubicBezTo>
                  <a:pt x="21960" y="6722"/>
                  <a:pt x="22089" y="6550"/>
                  <a:pt x="22250" y="6697"/>
                </a:cubicBezTo>
                <a:cubicBezTo>
                  <a:pt x="22272" y="6764"/>
                  <a:pt x="22277" y="6782"/>
                  <a:pt x="22299" y="6821"/>
                </a:cubicBezTo>
              </a:path>
              <a:path w="3548" h="869">
                <a:moveTo>
                  <a:pt x="22547" y="6772"/>
                </a:moveTo>
                <a:cubicBezTo>
                  <a:pt x="22547" y="6780"/>
                  <a:pt x="22547" y="6788"/>
                  <a:pt x="22547" y="6796"/>
                </a:cubicBezTo>
              </a:path>
              <a:path w="3548" h="869">
                <a:moveTo>
                  <a:pt x="22746" y="6251"/>
                </a:moveTo>
                <a:cubicBezTo>
                  <a:pt x="22746" y="6143"/>
                  <a:pt x="22746" y="6416"/>
                  <a:pt x="22746" y="6524"/>
                </a:cubicBezTo>
                <a:cubicBezTo>
                  <a:pt x="22746" y="6765"/>
                  <a:pt x="22825" y="6761"/>
                  <a:pt x="23019" y="6672"/>
                </a:cubicBezTo>
                <a:cubicBezTo>
                  <a:pt x="23145" y="6614"/>
                  <a:pt x="23133" y="6598"/>
                  <a:pt x="23143" y="6474"/>
                </a:cubicBezTo>
                <a:cubicBezTo>
                  <a:pt x="23019" y="6460"/>
                  <a:pt x="22926" y="6452"/>
                  <a:pt x="22920" y="6623"/>
                </a:cubicBezTo>
                <a:cubicBezTo>
                  <a:pt x="22939" y="6680"/>
                  <a:pt x="22947" y="6723"/>
                  <a:pt x="22944" y="667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483760" y="2268360"/>
            <a:ext cx="196560" cy="125640"/>
          </a:xfrm>
          <a:custGeom>
            <a:avLst/>
            <a:gdLst/>
            <a:ahLst/>
            <a:rect l="l" t="t" r="r" b="b"/>
            <a:pathLst>
              <a:path w="547" h="349">
                <a:moveTo>
                  <a:pt x="23564" y="6325"/>
                </a:moveTo>
                <a:cubicBezTo>
                  <a:pt x="23570" y="6434"/>
                  <a:pt x="23589" y="6539"/>
                  <a:pt x="23589" y="6648"/>
                </a:cubicBezTo>
                <a:cubicBezTo>
                  <a:pt x="23586" y="6621"/>
                  <a:pt x="23522" y="6342"/>
                  <a:pt x="23614" y="6350"/>
                </a:cubicBezTo>
                <a:cubicBezTo>
                  <a:pt x="23753" y="6362"/>
                  <a:pt x="23821" y="6509"/>
                  <a:pt x="23837" y="6623"/>
                </a:cubicBezTo>
                <a:cubicBezTo>
                  <a:pt x="23837" y="6499"/>
                  <a:pt x="23848" y="6416"/>
                  <a:pt x="23887" y="6300"/>
                </a:cubicBezTo>
                <a:cubicBezTo>
                  <a:pt x="24079" y="6345"/>
                  <a:pt x="24093" y="6429"/>
                  <a:pt x="24110" y="6623"/>
                </a:cubicBezTo>
                <a:cubicBezTo>
                  <a:pt x="24110" y="6648"/>
                  <a:pt x="24110" y="6656"/>
                  <a:pt x="24110" y="66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446960" y="1241280"/>
            <a:ext cx="866880" cy="347760"/>
          </a:xfrm>
          <a:custGeom>
            <a:avLst/>
            <a:gdLst/>
            <a:ahLst/>
            <a:rect l="l" t="t" r="r" b="b"/>
            <a:pathLst>
              <a:path w="2407" h="968">
                <a:moveTo>
                  <a:pt x="20687" y="3721"/>
                </a:moveTo>
                <a:cubicBezTo>
                  <a:pt x="20856" y="3659"/>
                  <a:pt x="21053" y="3652"/>
                  <a:pt x="21233" y="3646"/>
                </a:cubicBezTo>
                <a:cubicBezTo>
                  <a:pt x="21594" y="3633"/>
                  <a:pt x="21967" y="3631"/>
                  <a:pt x="22324" y="3572"/>
                </a:cubicBezTo>
                <a:cubicBezTo>
                  <a:pt x="22514" y="3541"/>
                  <a:pt x="22705" y="3478"/>
                  <a:pt x="22895" y="3448"/>
                </a:cubicBezTo>
                <a:cubicBezTo>
                  <a:pt x="22958" y="3438"/>
                  <a:pt x="23029" y="3448"/>
                  <a:pt x="23093" y="3448"/>
                </a:cubicBezTo>
              </a:path>
              <a:path w="2407" h="968">
                <a:moveTo>
                  <a:pt x="22920" y="3497"/>
                </a:moveTo>
                <a:cubicBezTo>
                  <a:pt x="22785" y="3565"/>
                  <a:pt x="22750" y="3615"/>
                  <a:pt x="22721" y="3770"/>
                </a:cubicBezTo>
                <a:cubicBezTo>
                  <a:pt x="22803" y="3801"/>
                  <a:pt x="23045" y="3830"/>
                  <a:pt x="23019" y="3646"/>
                </a:cubicBezTo>
                <a:cubicBezTo>
                  <a:pt x="22961" y="3590"/>
                  <a:pt x="22934" y="3571"/>
                  <a:pt x="22870" y="3572"/>
                </a:cubicBezTo>
              </a:path>
              <a:path w="2407" h="968">
                <a:moveTo>
                  <a:pt x="22349" y="3621"/>
                </a:moveTo>
                <a:cubicBezTo>
                  <a:pt x="22291" y="3679"/>
                  <a:pt x="22282" y="3796"/>
                  <a:pt x="22275" y="3894"/>
                </a:cubicBezTo>
                <a:cubicBezTo>
                  <a:pt x="22379" y="3910"/>
                  <a:pt x="22546" y="3917"/>
                  <a:pt x="22523" y="3746"/>
                </a:cubicBezTo>
                <a:cubicBezTo>
                  <a:pt x="22515" y="3738"/>
                  <a:pt x="22506" y="3729"/>
                  <a:pt x="22498" y="3721"/>
                </a:cubicBezTo>
                <a:cubicBezTo>
                  <a:pt x="22367" y="3743"/>
                  <a:pt x="22315" y="3782"/>
                  <a:pt x="22275" y="3919"/>
                </a:cubicBezTo>
                <a:cubicBezTo>
                  <a:pt x="22275" y="3927"/>
                  <a:pt x="22275" y="3936"/>
                  <a:pt x="22275" y="3944"/>
                </a:cubicBezTo>
              </a:path>
              <a:path w="2407" h="968">
                <a:moveTo>
                  <a:pt x="21754" y="3820"/>
                </a:moveTo>
                <a:cubicBezTo>
                  <a:pt x="21700" y="3820"/>
                  <a:pt x="21816" y="3755"/>
                  <a:pt x="21853" y="3746"/>
                </a:cubicBezTo>
                <a:cubicBezTo>
                  <a:pt x="21988" y="3713"/>
                  <a:pt x="21959" y="3932"/>
                  <a:pt x="21927" y="3994"/>
                </a:cubicBezTo>
                <a:cubicBezTo>
                  <a:pt x="21884" y="4078"/>
                  <a:pt x="21768" y="4192"/>
                  <a:pt x="21679" y="4142"/>
                </a:cubicBezTo>
                <a:cubicBezTo>
                  <a:pt x="21656" y="4120"/>
                  <a:pt x="21648" y="4115"/>
                  <a:pt x="21654" y="4093"/>
                </a:cubicBezTo>
                <a:cubicBezTo>
                  <a:pt x="21757" y="4055"/>
                  <a:pt x="21842" y="4043"/>
                  <a:pt x="21952" y="4043"/>
                </a:cubicBezTo>
                <a:cubicBezTo>
                  <a:pt x="21960" y="4043"/>
                  <a:pt x="21969" y="4043"/>
                  <a:pt x="21977" y="4043"/>
                </a:cubicBezTo>
              </a:path>
              <a:path w="2407" h="968">
                <a:moveTo>
                  <a:pt x="21282" y="3845"/>
                </a:moveTo>
                <a:cubicBezTo>
                  <a:pt x="21243" y="3845"/>
                  <a:pt x="21224" y="3856"/>
                  <a:pt x="21208" y="3894"/>
                </a:cubicBezTo>
                <a:cubicBezTo>
                  <a:pt x="21256" y="3990"/>
                  <a:pt x="21394" y="4048"/>
                  <a:pt x="21481" y="4142"/>
                </a:cubicBezTo>
                <a:cubicBezTo>
                  <a:pt x="21456" y="4167"/>
                  <a:pt x="21302" y="4291"/>
                  <a:pt x="21307" y="4167"/>
                </a:cubicBezTo>
                <a:cubicBezTo>
                  <a:pt x="21308" y="4135"/>
                  <a:pt x="21393" y="3876"/>
                  <a:pt x="21382" y="3870"/>
                </a:cubicBezTo>
                <a:cubicBezTo>
                  <a:pt x="21324" y="3870"/>
                  <a:pt x="21299" y="3870"/>
                  <a:pt x="21258" y="3870"/>
                </a:cubicBezTo>
              </a:path>
              <a:path w="2407" h="968">
                <a:moveTo>
                  <a:pt x="20861" y="3994"/>
                </a:moveTo>
                <a:cubicBezTo>
                  <a:pt x="20861" y="3966"/>
                  <a:pt x="20863" y="3955"/>
                  <a:pt x="20886" y="3944"/>
                </a:cubicBezTo>
                <a:cubicBezTo>
                  <a:pt x="20978" y="4051"/>
                  <a:pt x="20997" y="4204"/>
                  <a:pt x="20910" y="4341"/>
                </a:cubicBezTo>
                <a:cubicBezTo>
                  <a:pt x="20843" y="4446"/>
                  <a:pt x="20720" y="4417"/>
                  <a:pt x="20737" y="4291"/>
                </a:cubicBezTo>
                <a:cubicBezTo>
                  <a:pt x="20745" y="4283"/>
                  <a:pt x="20754" y="4274"/>
                  <a:pt x="20762" y="4266"/>
                </a:cubicBezTo>
                <a:cubicBezTo>
                  <a:pt x="20865" y="4246"/>
                  <a:pt x="20935" y="4271"/>
                  <a:pt x="21034" y="4316"/>
                </a:cubicBezTo>
              </a:path>
              <a:path w="2407" h="968">
                <a:moveTo>
                  <a:pt x="22076" y="4068"/>
                </a:moveTo>
                <a:cubicBezTo>
                  <a:pt x="22076" y="4093"/>
                  <a:pt x="22076" y="4101"/>
                  <a:pt x="22101" y="409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67360" y="3884760"/>
            <a:ext cx="1847880" cy="374400"/>
          </a:xfrm>
          <a:custGeom>
            <a:avLst/>
            <a:gdLst/>
            <a:ahLst/>
            <a:rect l="l" t="t" r="r" b="b"/>
            <a:pathLst>
              <a:path w="5135" h="1043">
                <a:moveTo>
                  <a:pt x="19571" y="11162"/>
                </a:moveTo>
                <a:cubicBezTo>
                  <a:pt x="19647" y="11213"/>
                  <a:pt x="19554" y="11060"/>
                  <a:pt x="19496" y="10988"/>
                </a:cubicBezTo>
                <a:cubicBezTo>
                  <a:pt x="19224" y="11056"/>
                  <a:pt x="18948" y="11334"/>
                  <a:pt x="19075" y="11683"/>
                </a:cubicBezTo>
                <a:cubicBezTo>
                  <a:pt x="19195" y="12013"/>
                  <a:pt x="19620" y="11701"/>
                  <a:pt x="19745" y="11584"/>
                </a:cubicBezTo>
              </a:path>
              <a:path w="5135" h="1043">
                <a:moveTo>
                  <a:pt x="20017" y="11162"/>
                </a:moveTo>
                <a:cubicBezTo>
                  <a:pt x="20165" y="11137"/>
                  <a:pt x="20214" y="11129"/>
                  <a:pt x="20315" y="11137"/>
                </a:cubicBezTo>
              </a:path>
              <a:path w="5135" h="1043">
                <a:moveTo>
                  <a:pt x="20042" y="11410"/>
                </a:moveTo>
                <a:cubicBezTo>
                  <a:pt x="20108" y="11385"/>
                  <a:pt x="20175" y="11361"/>
                  <a:pt x="20241" y="11336"/>
                </a:cubicBezTo>
              </a:path>
              <a:path w="5135" h="1043">
                <a:moveTo>
                  <a:pt x="20241" y="11336"/>
                </a:moveTo>
                <a:lnTo>
                  <a:pt x="20241" y="11336"/>
                </a:lnTo>
              </a:path>
              <a:path w="5135" h="1043">
                <a:moveTo>
                  <a:pt x="20786" y="11063"/>
                </a:moveTo>
                <a:cubicBezTo>
                  <a:pt x="20912" y="11042"/>
                  <a:pt x="21215" y="11000"/>
                  <a:pt x="21034" y="11237"/>
                </a:cubicBezTo>
                <a:cubicBezTo>
                  <a:pt x="20993" y="11270"/>
                  <a:pt x="20951" y="11303"/>
                  <a:pt x="20910" y="11336"/>
                </a:cubicBezTo>
                <a:cubicBezTo>
                  <a:pt x="20885" y="11344"/>
                  <a:pt x="20861" y="11353"/>
                  <a:pt x="20836" y="11361"/>
                </a:cubicBezTo>
                <a:cubicBezTo>
                  <a:pt x="20953" y="11322"/>
                  <a:pt x="21211" y="11353"/>
                  <a:pt x="21084" y="11559"/>
                </a:cubicBezTo>
                <a:cubicBezTo>
                  <a:pt x="20985" y="11720"/>
                  <a:pt x="20424" y="11786"/>
                  <a:pt x="20563" y="11658"/>
                </a:cubicBezTo>
                <a:cubicBezTo>
                  <a:pt x="20604" y="11642"/>
                  <a:pt x="20646" y="11625"/>
                  <a:pt x="20687" y="11609"/>
                </a:cubicBezTo>
              </a:path>
              <a:path w="5135" h="1043">
                <a:moveTo>
                  <a:pt x="21431" y="11460"/>
                </a:moveTo>
                <a:cubicBezTo>
                  <a:pt x="21456" y="11452"/>
                  <a:pt x="21481" y="11443"/>
                  <a:pt x="21506" y="11435"/>
                </a:cubicBezTo>
              </a:path>
              <a:path w="5135" h="1043">
                <a:moveTo>
                  <a:pt x="21878" y="11088"/>
                </a:moveTo>
                <a:cubicBezTo>
                  <a:pt x="21905" y="11239"/>
                  <a:pt x="21936" y="11384"/>
                  <a:pt x="21952" y="11534"/>
                </a:cubicBezTo>
              </a:path>
              <a:path w="5135" h="1043">
                <a:moveTo>
                  <a:pt x="22175" y="11063"/>
                </a:moveTo>
                <a:cubicBezTo>
                  <a:pt x="22210" y="11218"/>
                  <a:pt x="22360" y="11276"/>
                  <a:pt x="22523" y="11237"/>
                </a:cubicBezTo>
                <a:cubicBezTo>
                  <a:pt x="22539" y="11220"/>
                  <a:pt x="22556" y="11204"/>
                  <a:pt x="22572" y="11187"/>
                </a:cubicBezTo>
              </a:path>
              <a:path w="5135" h="1043">
                <a:moveTo>
                  <a:pt x="22448" y="11088"/>
                </a:moveTo>
                <a:cubicBezTo>
                  <a:pt x="22433" y="11255"/>
                  <a:pt x="22411" y="11377"/>
                  <a:pt x="22448" y="11534"/>
                </a:cubicBezTo>
              </a:path>
              <a:path w="5135" h="1043">
                <a:moveTo>
                  <a:pt x="22746" y="10914"/>
                </a:moveTo>
                <a:cubicBezTo>
                  <a:pt x="22697" y="11124"/>
                  <a:pt x="22556" y="11477"/>
                  <a:pt x="22845" y="11609"/>
                </a:cubicBezTo>
                <a:cubicBezTo>
                  <a:pt x="22878" y="11609"/>
                  <a:pt x="22911" y="11609"/>
                  <a:pt x="22944" y="11609"/>
                </a:cubicBezTo>
              </a:path>
              <a:path w="5135" h="1043">
                <a:moveTo>
                  <a:pt x="23068" y="11013"/>
                </a:moveTo>
                <a:cubicBezTo>
                  <a:pt x="23093" y="10939"/>
                  <a:pt x="23315" y="10951"/>
                  <a:pt x="23366" y="11013"/>
                </a:cubicBezTo>
                <a:cubicBezTo>
                  <a:pt x="23588" y="11281"/>
                  <a:pt x="23222" y="11410"/>
                  <a:pt x="23044" y="11410"/>
                </a:cubicBezTo>
                <a:cubicBezTo>
                  <a:pt x="23125" y="11207"/>
                  <a:pt x="23312" y="11373"/>
                  <a:pt x="23490" y="11410"/>
                </a:cubicBezTo>
                <a:cubicBezTo>
                  <a:pt x="23582" y="11410"/>
                  <a:pt x="23609" y="11412"/>
                  <a:pt x="23664" y="11385"/>
                </a:cubicBezTo>
              </a:path>
              <a:path w="5135" h="1043">
                <a:moveTo>
                  <a:pt x="23713" y="10964"/>
                </a:moveTo>
                <a:cubicBezTo>
                  <a:pt x="23753" y="11158"/>
                  <a:pt x="23804" y="11328"/>
                  <a:pt x="23887" y="11509"/>
                </a:cubicBezTo>
              </a:path>
              <a:path w="5135" h="1043">
                <a:moveTo>
                  <a:pt x="23986" y="10790"/>
                </a:moveTo>
                <a:cubicBezTo>
                  <a:pt x="24158" y="11076"/>
                  <a:pt x="24296" y="11315"/>
                  <a:pt x="24160" y="11658"/>
                </a:cubicBezTo>
                <a:cubicBezTo>
                  <a:pt x="24096" y="11818"/>
                  <a:pt x="24031" y="11814"/>
                  <a:pt x="23887" y="1183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68760" y="1616040"/>
            <a:ext cx="625320" cy="277920"/>
          </a:xfrm>
          <a:custGeom>
            <a:avLst/>
            <a:gdLst/>
            <a:ahLst/>
            <a:rect l="l" t="t" r="r" b="b"/>
            <a:pathLst>
              <a:path w="1738" h="770">
                <a:moveTo>
                  <a:pt x="8012" y="4762"/>
                </a:moveTo>
                <a:cubicBezTo>
                  <a:pt x="7997" y="4703"/>
                  <a:pt x="7901" y="4655"/>
                  <a:pt x="7838" y="4688"/>
                </a:cubicBezTo>
                <a:cubicBezTo>
                  <a:pt x="7683" y="4768"/>
                  <a:pt x="7611" y="5067"/>
                  <a:pt x="7764" y="5184"/>
                </a:cubicBezTo>
                <a:cubicBezTo>
                  <a:pt x="7883" y="5208"/>
                  <a:pt x="7920" y="5219"/>
                  <a:pt x="7987" y="5159"/>
                </a:cubicBezTo>
              </a:path>
              <a:path w="1738" h="770">
                <a:moveTo>
                  <a:pt x="8136" y="4936"/>
                </a:moveTo>
                <a:cubicBezTo>
                  <a:pt x="8235" y="4911"/>
                  <a:pt x="8268" y="4903"/>
                  <a:pt x="8334" y="4887"/>
                </a:cubicBezTo>
              </a:path>
              <a:path w="1738" h="770">
                <a:moveTo>
                  <a:pt x="8210" y="5060"/>
                </a:moveTo>
                <a:cubicBezTo>
                  <a:pt x="8243" y="5052"/>
                  <a:pt x="8277" y="5043"/>
                  <a:pt x="8310" y="5035"/>
                </a:cubicBezTo>
              </a:path>
              <a:path w="1738" h="770">
                <a:moveTo>
                  <a:pt x="8756" y="4787"/>
                </a:moveTo>
                <a:cubicBezTo>
                  <a:pt x="8750" y="4896"/>
                  <a:pt x="8737" y="5001"/>
                  <a:pt x="8731" y="5110"/>
                </a:cubicBezTo>
              </a:path>
              <a:path w="1738" h="770">
                <a:moveTo>
                  <a:pt x="8880" y="4787"/>
                </a:moveTo>
                <a:cubicBezTo>
                  <a:pt x="8862" y="4905"/>
                  <a:pt x="8849" y="4972"/>
                  <a:pt x="8880" y="5085"/>
                </a:cubicBezTo>
              </a:path>
              <a:path w="1738" h="770">
                <a:moveTo>
                  <a:pt x="8483" y="4787"/>
                </a:moveTo>
                <a:cubicBezTo>
                  <a:pt x="8618" y="4675"/>
                  <a:pt x="8664" y="4669"/>
                  <a:pt x="8830" y="4738"/>
                </a:cubicBezTo>
                <a:cubicBezTo>
                  <a:pt x="8881" y="4759"/>
                  <a:pt x="8991" y="4795"/>
                  <a:pt x="9004" y="4713"/>
                </a:cubicBezTo>
                <a:cubicBezTo>
                  <a:pt x="9004" y="4655"/>
                  <a:pt x="9021" y="4630"/>
                  <a:pt x="8979" y="4638"/>
                </a:cubicBezTo>
              </a:path>
              <a:path w="1738" h="770">
                <a:moveTo>
                  <a:pt x="9401" y="4911"/>
                </a:moveTo>
                <a:cubicBezTo>
                  <a:pt x="9379" y="4804"/>
                  <a:pt x="9279" y="4748"/>
                  <a:pt x="9178" y="4862"/>
                </a:cubicBezTo>
                <a:cubicBezTo>
                  <a:pt x="8986" y="5079"/>
                  <a:pt x="9258" y="5063"/>
                  <a:pt x="9376" y="5035"/>
                </a:cubicBezTo>
              </a:path>
              <a:path w="1738" h="770">
                <a:moveTo>
                  <a:pt x="9401" y="4490"/>
                </a:moveTo>
                <a:cubicBezTo>
                  <a:pt x="9401" y="4731"/>
                  <a:pt x="9419" y="4969"/>
                  <a:pt x="9426" y="5209"/>
                </a:cubicBezTo>
                <a:cubicBezTo>
                  <a:pt x="9426" y="5226"/>
                  <a:pt x="9426" y="5242"/>
                  <a:pt x="9426" y="525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51120" y="1963800"/>
            <a:ext cx="123840" cy="189000"/>
          </a:xfrm>
          <a:custGeom>
            <a:avLst/>
            <a:gdLst/>
            <a:ahLst/>
            <a:rect l="l" t="t" r="r" b="b"/>
            <a:pathLst>
              <a:path w="348" h="522">
                <a:moveTo>
                  <a:pt x="7888" y="5556"/>
                </a:moveTo>
                <a:cubicBezTo>
                  <a:pt x="7868" y="5496"/>
                  <a:pt x="7869" y="5481"/>
                  <a:pt x="7838" y="5457"/>
                </a:cubicBezTo>
                <a:cubicBezTo>
                  <a:pt x="7668" y="5499"/>
                  <a:pt x="7592" y="5662"/>
                  <a:pt x="7640" y="5854"/>
                </a:cubicBezTo>
                <a:cubicBezTo>
                  <a:pt x="7693" y="6068"/>
                  <a:pt x="7847" y="5965"/>
                  <a:pt x="7987" y="592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955960" y="1901880"/>
            <a:ext cx="803160" cy="285840"/>
          </a:xfrm>
          <a:custGeom>
            <a:avLst/>
            <a:gdLst/>
            <a:ahLst/>
            <a:rect l="l" t="t" r="r" b="b"/>
            <a:pathLst>
              <a:path w="2234" h="795">
                <a:moveTo>
                  <a:pt x="8210" y="5581"/>
                </a:moveTo>
                <a:cubicBezTo>
                  <a:pt x="8235" y="5573"/>
                  <a:pt x="8260" y="5564"/>
                  <a:pt x="8285" y="5556"/>
                </a:cubicBezTo>
              </a:path>
              <a:path w="2234" h="795">
                <a:moveTo>
                  <a:pt x="8210" y="5779"/>
                </a:moveTo>
                <a:cubicBezTo>
                  <a:pt x="8260" y="5763"/>
                  <a:pt x="8309" y="5746"/>
                  <a:pt x="8359" y="5730"/>
                </a:cubicBezTo>
              </a:path>
              <a:path w="2234" h="795">
                <a:moveTo>
                  <a:pt x="8582" y="5631"/>
                </a:moveTo>
                <a:cubicBezTo>
                  <a:pt x="8646" y="5589"/>
                  <a:pt x="8679" y="5587"/>
                  <a:pt x="8756" y="5581"/>
                </a:cubicBezTo>
                <a:cubicBezTo>
                  <a:pt x="8765" y="5702"/>
                  <a:pt x="8740" y="5754"/>
                  <a:pt x="8657" y="5854"/>
                </a:cubicBezTo>
                <a:cubicBezTo>
                  <a:pt x="8702" y="5761"/>
                  <a:pt x="8779" y="5838"/>
                  <a:pt x="8756" y="5928"/>
                </a:cubicBezTo>
                <a:cubicBezTo>
                  <a:pt x="8738" y="5997"/>
                  <a:pt x="8497" y="6167"/>
                  <a:pt x="8483" y="6052"/>
                </a:cubicBezTo>
                <a:cubicBezTo>
                  <a:pt x="8491" y="6027"/>
                  <a:pt x="8500" y="6003"/>
                  <a:pt x="8508" y="5978"/>
                </a:cubicBezTo>
              </a:path>
              <a:path w="2234" h="795">
                <a:moveTo>
                  <a:pt x="8930" y="6003"/>
                </a:moveTo>
                <a:cubicBezTo>
                  <a:pt x="8930" y="5995"/>
                  <a:pt x="8930" y="5986"/>
                  <a:pt x="8930" y="5978"/>
                </a:cubicBezTo>
              </a:path>
              <a:path w="2234" h="795">
                <a:moveTo>
                  <a:pt x="9103" y="5581"/>
                </a:moveTo>
                <a:cubicBezTo>
                  <a:pt x="9122" y="5709"/>
                  <a:pt x="9128" y="5824"/>
                  <a:pt x="9128" y="5953"/>
                </a:cubicBezTo>
                <a:cubicBezTo>
                  <a:pt x="9128" y="5945"/>
                  <a:pt x="9128" y="5936"/>
                  <a:pt x="9128" y="5928"/>
                </a:cubicBezTo>
              </a:path>
              <a:path w="2234" h="795">
                <a:moveTo>
                  <a:pt x="9327" y="5631"/>
                </a:moveTo>
                <a:cubicBezTo>
                  <a:pt x="9327" y="5725"/>
                  <a:pt x="9350" y="5810"/>
                  <a:pt x="9475" y="5779"/>
                </a:cubicBezTo>
                <a:cubicBezTo>
                  <a:pt x="9508" y="5763"/>
                  <a:pt x="9542" y="5746"/>
                  <a:pt x="9575" y="5730"/>
                </a:cubicBezTo>
              </a:path>
              <a:path w="2234" h="795">
                <a:moveTo>
                  <a:pt x="9525" y="5457"/>
                </a:moveTo>
                <a:cubicBezTo>
                  <a:pt x="9525" y="5625"/>
                  <a:pt x="9508" y="5786"/>
                  <a:pt x="9500" y="5953"/>
                </a:cubicBezTo>
              </a:path>
              <a:path w="2234" h="795">
                <a:moveTo>
                  <a:pt x="9798" y="5407"/>
                </a:moveTo>
                <a:cubicBezTo>
                  <a:pt x="9759" y="5584"/>
                  <a:pt x="9690" y="5719"/>
                  <a:pt x="9723" y="5904"/>
                </a:cubicBezTo>
                <a:cubicBezTo>
                  <a:pt x="9748" y="5953"/>
                  <a:pt x="9757" y="5970"/>
                  <a:pt x="9798" y="5978"/>
                </a:cubicBezTo>
              </a:path>
              <a:path w="2234" h="795">
                <a:moveTo>
                  <a:pt x="10145" y="5457"/>
                </a:moveTo>
                <a:cubicBezTo>
                  <a:pt x="10090" y="5429"/>
                  <a:pt x="10067" y="5421"/>
                  <a:pt x="10021" y="5432"/>
                </a:cubicBezTo>
                <a:cubicBezTo>
                  <a:pt x="9918" y="5535"/>
                  <a:pt x="10058" y="5573"/>
                  <a:pt x="10096" y="5680"/>
                </a:cubicBezTo>
                <a:cubicBezTo>
                  <a:pt x="10136" y="5793"/>
                  <a:pt x="10019" y="5808"/>
                  <a:pt x="9947" y="5829"/>
                </a:cubicBezTo>
                <a:cubicBezTo>
                  <a:pt x="9960" y="5692"/>
                  <a:pt x="10001" y="5652"/>
                  <a:pt x="10096" y="5556"/>
                </a:cubicBezTo>
                <a:cubicBezTo>
                  <a:pt x="10104" y="5548"/>
                  <a:pt x="10112" y="5539"/>
                  <a:pt x="10120" y="5531"/>
                </a:cubicBezTo>
              </a:path>
              <a:path w="2234" h="795">
                <a:moveTo>
                  <a:pt x="10220" y="5283"/>
                </a:moveTo>
                <a:cubicBezTo>
                  <a:pt x="10377" y="5426"/>
                  <a:pt x="10480" y="5605"/>
                  <a:pt x="10418" y="5829"/>
                </a:cubicBezTo>
                <a:cubicBezTo>
                  <a:pt x="10350" y="5944"/>
                  <a:pt x="10335" y="5980"/>
                  <a:pt x="10244" y="600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840040" y="2357280"/>
            <a:ext cx="892080" cy="187560"/>
          </a:xfrm>
          <a:custGeom>
            <a:avLst/>
            <a:gdLst/>
            <a:ahLst/>
            <a:rect l="l" t="t" r="r" b="b"/>
            <a:pathLst>
              <a:path w="2481" h="522">
                <a:moveTo>
                  <a:pt x="7987" y="6697"/>
                </a:moveTo>
                <a:cubicBezTo>
                  <a:pt x="8012" y="6697"/>
                  <a:pt x="8037" y="6697"/>
                  <a:pt x="8062" y="6697"/>
                </a:cubicBezTo>
                <a:cubicBezTo>
                  <a:pt x="8037" y="6599"/>
                  <a:pt x="7898" y="6864"/>
                  <a:pt x="7888" y="6945"/>
                </a:cubicBezTo>
                <a:cubicBezTo>
                  <a:pt x="7865" y="7127"/>
                  <a:pt x="8061" y="7069"/>
                  <a:pt x="8136" y="7020"/>
                </a:cubicBezTo>
              </a:path>
              <a:path w="2481" h="522">
                <a:moveTo>
                  <a:pt x="8409" y="6796"/>
                </a:moveTo>
                <a:cubicBezTo>
                  <a:pt x="8467" y="6796"/>
                  <a:pt x="8475" y="6796"/>
                  <a:pt x="8508" y="6796"/>
                </a:cubicBezTo>
              </a:path>
              <a:path w="2481" h="522">
                <a:moveTo>
                  <a:pt x="8409" y="6945"/>
                </a:moveTo>
                <a:cubicBezTo>
                  <a:pt x="8450" y="6937"/>
                  <a:pt x="8492" y="6929"/>
                  <a:pt x="8533" y="6921"/>
                </a:cubicBezTo>
              </a:path>
              <a:path w="2481" h="522">
                <a:moveTo>
                  <a:pt x="8905" y="6672"/>
                </a:moveTo>
                <a:cubicBezTo>
                  <a:pt x="9049" y="6626"/>
                  <a:pt x="9058" y="6810"/>
                  <a:pt x="9004" y="6921"/>
                </a:cubicBezTo>
                <a:cubicBezTo>
                  <a:pt x="8961" y="7010"/>
                  <a:pt x="8894" y="7016"/>
                  <a:pt x="8830" y="6995"/>
                </a:cubicBezTo>
                <a:cubicBezTo>
                  <a:pt x="8844" y="6963"/>
                  <a:pt x="8920" y="6865"/>
                  <a:pt x="8930" y="6945"/>
                </a:cubicBezTo>
                <a:cubicBezTo>
                  <a:pt x="8930" y="6953"/>
                  <a:pt x="8930" y="6962"/>
                  <a:pt x="8930" y="6970"/>
                </a:cubicBezTo>
              </a:path>
              <a:path w="2481" h="522">
                <a:moveTo>
                  <a:pt x="9327" y="6598"/>
                </a:moveTo>
                <a:cubicBezTo>
                  <a:pt x="9270" y="6598"/>
                  <a:pt x="9254" y="6632"/>
                  <a:pt x="9227" y="6648"/>
                </a:cubicBezTo>
                <a:cubicBezTo>
                  <a:pt x="9197" y="6666"/>
                  <a:pt x="9171" y="6701"/>
                  <a:pt x="9153" y="6747"/>
                </a:cubicBezTo>
                <a:cubicBezTo>
                  <a:pt x="9226" y="6747"/>
                  <a:pt x="9261" y="6666"/>
                  <a:pt x="9327" y="6722"/>
                </a:cubicBezTo>
                <a:cubicBezTo>
                  <a:pt x="9445" y="6821"/>
                  <a:pt x="9371" y="6990"/>
                  <a:pt x="9227" y="6995"/>
                </a:cubicBezTo>
                <a:cubicBezTo>
                  <a:pt x="9160" y="6972"/>
                  <a:pt x="9142" y="6967"/>
                  <a:pt x="9103" y="6945"/>
                </a:cubicBezTo>
              </a:path>
              <a:path w="2481" h="522">
                <a:moveTo>
                  <a:pt x="9575" y="6945"/>
                </a:moveTo>
                <a:cubicBezTo>
                  <a:pt x="9583" y="6937"/>
                  <a:pt x="9591" y="6929"/>
                  <a:pt x="9599" y="6921"/>
                </a:cubicBezTo>
              </a:path>
              <a:path w="2481" h="522">
                <a:moveTo>
                  <a:pt x="9847" y="6598"/>
                </a:moveTo>
                <a:cubicBezTo>
                  <a:pt x="9847" y="6681"/>
                  <a:pt x="9847" y="6763"/>
                  <a:pt x="9847" y="6846"/>
                </a:cubicBezTo>
              </a:path>
              <a:path w="2481" h="522">
                <a:moveTo>
                  <a:pt x="10021" y="6573"/>
                </a:moveTo>
                <a:cubicBezTo>
                  <a:pt x="10161" y="6551"/>
                  <a:pt x="10296" y="6594"/>
                  <a:pt x="10319" y="6772"/>
                </a:cubicBezTo>
                <a:cubicBezTo>
                  <a:pt x="10335" y="6896"/>
                  <a:pt x="10128" y="6947"/>
                  <a:pt x="10071" y="6846"/>
                </a:cubicBezTo>
                <a:cubicBezTo>
                  <a:pt x="10071" y="6829"/>
                  <a:pt x="10071" y="6813"/>
                  <a:pt x="10071" y="6796"/>
                </a:cubicBezTo>
                <a:cubicBezTo>
                  <a:pt x="10230" y="6796"/>
                  <a:pt x="10181" y="6843"/>
                  <a:pt x="10294" y="6921"/>
                </a:cubicBezTo>
                <a:cubicBezTo>
                  <a:pt x="10319" y="6929"/>
                  <a:pt x="10343" y="6937"/>
                  <a:pt x="10368" y="694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48040" y="2374920"/>
            <a:ext cx="304920" cy="108000"/>
          </a:xfrm>
          <a:custGeom>
            <a:avLst/>
            <a:gdLst/>
            <a:ahLst/>
            <a:rect l="l" t="t" r="r" b="b"/>
            <a:pathLst>
              <a:path w="844" h="299">
                <a:moveTo>
                  <a:pt x="10765" y="6623"/>
                </a:moveTo>
                <a:cubicBezTo>
                  <a:pt x="10791" y="6701"/>
                  <a:pt x="10771" y="6603"/>
                  <a:pt x="10740" y="6648"/>
                </a:cubicBezTo>
                <a:cubicBezTo>
                  <a:pt x="10643" y="6788"/>
                  <a:pt x="10741" y="6961"/>
                  <a:pt x="10914" y="6871"/>
                </a:cubicBezTo>
                <a:cubicBezTo>
                  <a:pt x="10939" y="6846"/>
                  <a:pt x="10963" y="6821"/>
                  <a:pt x="10988" y="6796"/>
                </a:cubicBezTo>
              </a:path>
              <a:path w="844" h="299">
                <a:moveTo>
                  <a:pt x="11063" y="6623"/>
                </a:moveTo>
                <a:cubicBezTo>
                  <a:pt x="11063" y="6689"/>
                  <a:pt x="11063" y="6755"/>
                  <a:pt x="11063" y="6821"/>
                </a:cubicBezTo>
                <a:cubicBezTo>
                  <a:pt x="11076" y="6757"/>
                  <a:pt x="11092" y="6649"/>
                  <a:pt x="11137" y="6598"/>
                </a:cubicBezTo>
                <a:cubicBezTo>
                  <a:pt x="11187" y="6542"/>
                  <a:pt x="11291" y="6723"/>
                  <a:pt x="11311" y="6747"/>
                </a:cubicBezTo>
                <a:cubicBezTo>
                  <a:pt x="11311" y="6763"/>
                  <a:pt x="11311" y="6780"/>
                  <a:pt x="11311" y="6796"/>
                </a:cubicBezTo>
                <a:cubicBezTo>
                  <a:pt x="11326" y="6709"/>
                  <a:pt x="11350" y="6637"/>
                  <a:pt x="11435" y="6598"/>
                </a:cubicBezTo>
                <a:cubicBezTo>
                  <a:pt x="11504" y="6566"/>
                  <a:pt x="11530" y="6827"/>
                  <a:pt x="11534" y="687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17880" y="3973680"/>
            <a:ext cx="750960" cy="223560"/>
          </a:xfrm>
          <a:custGeom>
            <a:avLst/>
            <a:gdLst/>
            <a:ahLst/>
            <a:rect l="l" t="t" r="r" b="b"/>
            <a:pathLst>
              <a:path w="2085" h="621">
                <a:moveTo>
                  <a:pt x="8731" y="11237"/>
                </a:moveTo>
                <a:cubicBezTo>
                  <a:pt x="8731" y="11124"/>
                  <a:pt x="8743" y="11170"/>
                  <a:pt x="8657" y="11112"/>
                </a:cubicBezTo>
                <a:cubicBezTo>
                  <a:pt x="8531" y="11131"/>
                  <a:pt x="8219" y="11410"/>
                  <a:pt x="8409" y="11584"/>
                </a:cubicBezTo>
                <a:cubicBezTo>
                  <a:pt x="8552" y="11715"/>
                  <a:pt x="8737" y="11532"/>
                  <a:pt x="8830" y="11460"/>
                </a:cubicBezTo>
              </a:path>
              <a:path w="2085" h="621">
                <a:moveTo>
                  <a:pt x="8930" y="11261"/>
                </a:moveTo>
                <a:cubicBezTo>
                  <a:pt x="8972" y="11261"/>
                  <a:pt x="8998" y="11267"/>
                  <a:pt x="9029" y="11286"/>
                </a:cubicBezTo>
              </a:path>
              <a:path w="2085" h="621">
                <a:moveTo>
                  <a:pt x="8954" y="11460"/>
                </a:moveTo>
                <a:cubicBezTo>
                  <a:pt x="8987" y="11460"/>
                  <a:pt x="9021" y="11460"/>
                  <a:pt x="9054" y="11460"/>
                </a:cubicBezTo>
              </a:path>
              <a:path w="2085" h="621">
                <a:moveTo>
                  <a:pt x="9451" y="11261"/>
                </a:moveTo>
                <a:cubicBezTo>
                  <a:pt x="9449" y="11280"/>
                  <a:pt x="9411" y="11609"/>
                  <a:pt x="9426" y="11609"/>
                </a:cubicBezTo>
                <a:cubicBezTo>
                  <a:pt x="9434" y="11592"/>
                  <a:pt x="9443" y="11576"/>
                  <a:pt x="9451" y="11559"/>
                </a:cubicBezTo>
              </a:path>
              <a:path w="2085" h="621">
                <a:moveTo>
                  <a:pt x="9699" y="11336"/>
                </a:moveTo>
                <a:cubicBezTo>
                  <a:pt x="9699" y="11460"/>
                  <a:pt x="9699" y="11733"/>
                  <a:pt x="9699" y="11609"/>
                </a:cubicBezTo>
              </a:path>
              <a:path w="2085" h="621">
                <a:moveTo>
                  <a:pt x="9327" y="11212"/>
                </a:moveTo>
                <a:cubicBezTo>
                  <a:pt x="9339" y="11125"/>
                  <a:pt x="9407" y="11078"/>
                  <a:pt x="9500" y="11137"/>
                </a:cubicBezTo>
                <a:cubicBezTo>
                  <a:pt x="9584" y="11190"/>
                  <a:pt x="9664" y="11341"/>
                  <a:pt x="9798" y="11261"/>
                </a:cubicBezTo>
                <a:cubicBezTo>
                  <a:pt x="9844" y="11192"/>
                  <a:pt x="9864" y="11172"/>
                  <a:pt x="9798" y="11137"/>
                </a:cubicBezTo>
              </a:path>
              <a:path w="2085" h="621">
                <a:moveTo>
                  <a:pt x="10393" y="11534"/>
                </a:moveTo>
                <a:cubicBezTo>
                  <a:pt x="10351" y="11461"/>
                  <a:pt x="10275" y="11262"/>
                  <a:pt x="10145" y="11311"/>
                </a:cubicBezTo>
                <a:cubicBezTo>
                  <a:pt x="10028" y="11405"/>
                  <a:pt x="9989" y="11430"/>
                  <a:pt x="9971" y="11534"/>
                </a:cubicBezTo>
                <a:cubicBezTo>
                  <a:pt x="10242" y="11728"/>
                  <a:pt x="10294" y="11646"/>
                  <a:pt x="10468" y="11385"/>
                </a:cubicBezTo>
              </a:path>
              <a:path w="2085" h="621">
                <a:moveTo>
                  <a:pt x="10468" y="11038"/>
                </a:moveTo>
                <a:cubicBezTo>
                  <a:pt x="10451" y="11224"/>
                  <a:pt x="10447" y="11426"/>
                  <a:pt x="10418" y="11609"/>
                </a:cubicBezTo>
                <a:cubicBezTo>
                  <a:pt x="10410" y="11625"/>
                  <a:pt x="10401" y="11642"/>
                  <a:pt x="10393" y="1165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09960" y="4187880"/>
            <a:ext cx="1160280" cy="322200"/>
          </a:xfrm>
          <a:custGeom>
            <a:avLst/>
            <a:gdLst/>
            <a:ahLst/>
            <a:rect l="l" t="t" r="r" b="b"/>
            <a:pathLst>
              <a:path w="3226" h="894">
                <a:moveTo>
                  <a:pt x="8533" y="11956"/>
                </a:moveTo>
                <a:cubicBezTo>
                  <a:pt x="8558" y="11981"/>
                  <a:pt x="8566" y="11989"/>
                  <a:pt x="8582" y="12005"/>
                </a:cubicBezTo>
                <a:cubicBezTo>
                  <a:pt x="8582" y="11888"/>
                  <a:pt x="8471" y="11996"/>
                  <a:pt x="8434" y="12055"/>
                </a:cubicBezTo>
                <a:cubicBezTo>
                  <a:pt x="8269" y="12322"/>
                  <a:pt x="8421" y="12385"/>
                  <a:pt x="8657" y="12303"/>
                </a:cubicBezTo>
                <a:cubicBezTo>
                  <a:pt x="8690" y="12287"/>
                  <a:pt x="8723" y="12270"/>
                  <a:pt x="8756" y="12254"/>
                </a:cubicBezTo>
              </a:path>
              <a:path w="3226" h="894">
                <a:moveTo>
                  <a:pt x="8954" y="12129"/>
                </a:moveTo>
                <a:cubicBezTo>
                  <a:pt x="9021" y="12129"/>
                  <a:pt x="9037" y="12129"/>
                  <a:pt x="9079" y="12129"/>
                </a:cubicBezTo>
              </a:path>
              <a:path w="3226" h="894">
                <a:moveTo>
                  <a:pt x="8880" y="12254"/>
                </a:moveTo>
                <a:cubicBezTo>
                  <a:pt x="8964" y="12254"/>
                  <a:pt x="8998" y="12252"/>
                  <a:pt x="9054" y="12229"/>
                </a:cubicBezTo>
              </a:path>
              <a:path w="3226" h="894">
                <a:moveTo>
                  <a:pt x="9401" y="11981"/>
                </a:moveTo>
                <a:cubicBezTo>
                  <a:pt x="9451" y="11981"/>
                  <a:pt x="9605" y="11941"/>
                  <a:pt x="9575" y="12030"/>
                </a:cubicBezTo>
                <a:cubicBezTo>
                  <a:pt x="9525" y="12105"/>
                  <a:pt x="9509" y="12129"/>
                  <a:pt x="9451" y="12154"/>
                </a:cubicBezTo>
                <a:cubicBezTo>
                  <a:pt x="9443" y="12162"/>
                  <a:pt x="9434" y="12171"/>
                  <a:pt x="9426" y="12179"/>
                </a:cubicBezTo>
                <a:cubicBezTo>
                  <a:pt x="9452" y="12159"/>
                  <a:pt x="9628" y="12136"/>
                  <a:pt x="9575" y="12254"/>
                </a:cubicBezTo>
                <a:cubicBezTo>
                  <a:pt x="9538" y="12335"/>
                  <a:pt x="9345" y="12367"/>
                  <a:pt x="9302" y="12278"/>
                </a:cubicBezTo>
                <a:cubicBezTo>
                  <a:pt x="9310" y="12278"/>
                  <a:pt x="9319" y="12278"/>
                  <a:pt x="9327" y="12278"/>
                </a:cubicBezTo>
              </a:path>
              <a:path w="3226" h="894">
                <a:moveTo>
                  <a:pt x="9798" y="12278"/>
                </a:moveTo>
                <a:lnTo>
                  <a:pt x="9798" y="12278"/>
                </a:lnTo>
              </a:path>
              <a:path w="3226" h="894">
                <a:moveTo>
                  <a:pt x="9947" y="12055"/>
                </a:moveTo>
                <a:cubicBezTo>
                  <a:pt x="9957" y="12147"/>
                  <a:pt x="9987" y="12235"/>
                  <a:pt x="9996" y="12328"/>
                </a:cubicBezTo>
              </a:path>
              <a:path w="3226" h="894">
                <a:moveTo>
                  <a:pt x="10170" y="12105"/>
                </a:moveTo>
                <a:cubicBezTo>
                  <a:pt x="10170" y="12240"/>
                  <a:pt x="10150" y="12273"/>
                  <a:pt x="10294" y="12278"/>
                </a:cubicBezTo>
                <a:cubicBezTo>
                  <a:pt x="10390" y="12278"/>
                  <a:pt x="10421" y="12281"/>
                  <a:pt x="10443" y="12204"/>
                </a:cubicBezTo>
              </a:path>
              <a:path w="3226" h="894">
                <a:moveTo>
                  <a:pt x="10443" y="12030"/>
                </a:moveTo>
                <a:cubicBezTo>
                  <a:pt x="10433" y="12148"/>
                  <a:pt x="10418" y="12259"/>
                  <a:pt x="10418" y="12378"/>
                </a:cubicBezTo>
              </a:path>
              <a:path w="3226" h="894">
                <a:moveTo>
                  <a:pt x="10790" y="11857"/>
                </a:moveTo>
                <a:cubicBezTo>
                  <a:pt x="10704" y="11983"/>
                  <a:pt x="10461" y="12247"/>
                  <a:pt x="10616" y="12402"/>
                </a:cubicBezTo>
                <a:cubicBezTo>
                  <a:pt x="10708" y="12425"/>
                  <a:pt x="10733" y="12436"/>
                  <a:pt x="10790" y="12402"/>
                </a:cubicBezTo>
              </a:path>
              <a:path w="3226" h="894">
                <a:moveTo>
                  <a:pt x="10864" y="11981"/>
                </a:moveTo>
                <a:cubicBezTo>
                  <a:pt x="10850" y="12080"/>
                  <a:pt x="10824" y="12178"/>
                  <a:pt x="10815" y="12278"/>
                </a:cubicBezTo>
                <a:cubicBezTo>
                  <a:pt x="10952" y="12309"/>
                  <a:pt x="10998" y="12251"/>
                  <a:pt x="11038" y="12129"/>
                </a:cubicBezTo>
                <a:cubicBezTo>
                  <a:pt x="11007" y="12139"/>
                  <a:pt x="10772" y="12277"/>
                  <a:pt x="10889" y="12328"/>
                </a:cubicBezTo>
                <a:cubicBezTo>
                  <a:pt x="10914" y="12328"/>
                  <a:pt x="10939" y="12328"/>
                  <a:pt x="10964" y="12328"/>
                </a:cubicBezTo>
              </a:path>
              <a:path w="3226" h="894">
                <a:moveTo>
                  <a:pt x="11187" y="11931"/>
                </a:moveTo>
                <a:cubicBezTo>
                  <a:pt x="11263" y="11912"/>
                  <a:pt x="11392" y="11867"/>
                  <a:pt x="11361" y="12005"/>
                </a:cubicBezTo>
                <a:cubicBezTo>
                  <a:pt x="11336" y="12055"/>
                  <a:pt x="11328" y="12072"/>
                  <a:pt x="11311" y="12105"/>
                </a:cubicBezTo>
                <a:cubicBezTo>
                  <a:pt x="11294" y="12105"/>
                  <a:pt x="11278" y="12105"/>
                  <a:pt x="11261" y="12105"/>
                </a:cubicBezTo>
                <a:cubicBezTo>
                  <a:pt x="11321" y="12025"/>
                  <a:pt x="11435" y="12080"/>
                  <a:pt x="11410" y="12204"/>
                </a:cubicBezTo>
                <a:cubicBezTo>
                  <a:pt x="11374" y="12381"/>
                  <a:pt x="11195" y="12261"/>
                  <a:pt x="11137" y="12204"/>
                </a:cubicBezTo>
              </a:path>
              <a:path w="3226" h="894">
                <a:moveTo>
                  <a:pt x="11410" y="11633"/>
                </a:moveTo>
                <a:cubicBezTo>
                  <a:pt x="11554" y="11837"/>
                  <a:pt x="11639" y="12050"/>
                  <a:pt x="11534" y="12303"/>
                </a:cubicBezTo>
                <a:cubicBezTo>
                  <a:pt x="11449" y="12431"/>
                  <a:pt x="11433" y="12464"/>
                  <a:pt x="11361" y="1252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09960" y="4589640"/>
            <a:ext cx="1571400" cy="206280"/>
          </a:xfrm>
          <a:custGeom>
            <a:avLst/>
            <a:gdLst/>
            <a:ahLst/>
            <a:rect l="l" t="t" r="r" b="b"/>
            <a:pathLst>
              <a:path w="4367" h="571">
                <a:moveTo>
                  <a:pt x="8632" y="12874"/>
                </a:moveTo>
                <a:cubicBezTo>
                  <a:pt x="8640" y="12890"/>
                  <a:pt x="8649" y="12907"/>
                  <a:pt x="8657" y="12923"/>
                </a:cubicBezTo>
                <a:cubicBezTo>
                  <a:pt x="8657" y="12867"/>
                  <a:pt x="8666" y="12777"/>
                  <a:pt x="8582" y="12799"/>
                </a:cubicBezTo>
                <a:cubicBezTo>
                  <a:pt x="8406" y="12845"/>
                  <a:pt x="8251" y="13165"/>
                  <a:pt x="8434" y="13295"/>
                </a:cubicBezTo>
                <a:cubicBezTo>
                  <a:pt x="8573" y="13394"/>
                  <a:pt x="8708" y="13268"/>
                  <a:pt x="8806" y="13196"/>
                </a:cubicBezTo>
              </a:path>
              <a:path w="4367" h="571">
                <a:moveTo>
                  <a:pt x="8880" y="12998"/>
                </a:moveTo>
                <a:cubicBezTo>
                  <a:pt x="8953" y="12973"/>
                  <a:pt x="8977" y="12965"/>
                  <a:pt x="9029" y="12973"/>
                </a:cubicBezTo>
              </a:path>
              <a:path w="4367" h="571">
                <a:moveTo>
                  <a:pt x="8905" y="13122"/>
                </a:moveTo>
                <a:cubicBezTo>
                  <a:pt x="9045" y="13098"/>
                  <a:pt x="9086" y="13090"/>
                  <a:pt x="9178" y="13097"/>
                </a:cubicBezTo>
              </a:path>
              <a:path w="4367" h="571">
                <a:moveTo>
                  <a:pt x="9426" y="12824"/>
                </a:moveTo>
                <a:cubicBezTo>
                  <a:pt x="9444" y="12925"/>
                  <a:pt x="9397" y="13225"/>
                  <a:pt x="9475" y="13295"/>
                </a:cubicBezTo>
                <a:cubicBezTo>
                  <a:pt x="9483" y="13287"/>
                  <a:pt x="9492" y="13279"/>
                  <a:pt x="9500" y="13271"/>
                </a:cubicBezTo>
              </a:path>
              <a:path w="4367" h="571">
                <a:moveTo>
                  <a:pt x="9897" y="12998"/>
                </a:moveTo>
                <a:cubicBezTo>
                  <a:pt x="9936" y="12933"/>
                  <a:pt x="9906" y="12774"/>
                  <a:pt x="9798" y="12774"/>
                </a:cubicBezTo>
                <a:cubicBezTo>
                  <a:pt x="9669" y="12774"/>
                  <a:pt x="9507" y="13084"/>
                  <a:pt x="9699" y="13072"/>
                </a:cubicBezTo>
                <a:cubicBezTo>
                  <a:pt x="9837" y="13064"/>
                  <a:pt x="9819" y="13004"/>
                  <a:pt x="9872" y="12923"/>
                </a:cubicBezTo>
                <a:cubicBezTo>
                  <a:pt x="9820" y="12992"/>
                  <a:pt x="9831" y="13159"/>
                  <a:pt x="9823" y="13246"/>
                </a:cubicBezTo>
                <a:cubicBezTo>
                  <a:pt x="9823" y="13262"/>
                  <a:pt x="9823" y="13279"/>
                  <a:pt x="9823" y="13295"/>
                </a:cubicBezTo>
              </a:path>
              <a:path w="4367" h="571">
                <a:moveTo>
                  <a:pt x="9996" y="12849"/>
                </a:moveTo>
                <a:cubicBezTo>
                  <a:pt x="10120" y="12849"/>
                  <a:pt x="10244" y="12849"/>
                  <a:pt x="10368" y="12849"/>
                </a:cubicBezTo>
                <a:cubicBezTo>
                  <a:pt x="10291" y="12990"/>
                  <a:pt x="10261" y="13136"/>
                  <a:pt x="10244" y="13295"/>
                </a:cubicBezTo>
              </a:path>
              <a:path w="4367" h="571">
                <a:moveTo>
                  <a:pt x="10517" y="13246"/>
                </a:moveTo>
                <a:lnTo>
                  <a:pt x="10517" y="13246"/>
                </a:lnTo>
                <a:lnTo>
                  <a:pt x="10517" y="13246"/>
                </a:lnTo>
              </a:path>
              <a:path w="4367" h="571">
                <a:moveTo>
                  <a:pt x="10517" y="13246"/>
                </a:moveTo>
                <a:lnTo>
                  <a:pt x="10517" y="13246"/>
                </a:lnTo>
              </a:path>
              <a:path w="4367" h="571">
                <a:moveTo>
                  <a:pt x="10964" y="12750"/>
                </a:moveTo>
                <a:cubicBezTo>
                  <a:pt x="10778" y="12934"/>
                  <a:pt x="10929" y="12927"/>
                  <a:pt x="11038" y="13122"/>
                </a:cubicBezTo>
                <a:cubicBezTo>
                  <a:pt x="11080" y="13197"/>
                  <a:pt x="10973" y="13192"/>
                  <a:pt x="10939" y="13196"/>
                </a:cubicBezTo>
                <a:cubicBezTo>
                  <a:pt x="10979" y="13056"/>
                  <a:pt x="11053" y="12982"/>
                  <a:pt x="11162" y="12874"/>
                </a:cubicBezTo>
              </a:path>
              <a:path w="4367" h="571">
                <a:moveTo>
                  <a:pt x="11410" y="12799"/>
                </a:moveTo>
                <a:cubicBezTo>
                  <a:pt x="11566" y="12890"/>
                  <a:pt x="11635" y="13013"/>
                  <a:pt x="11534" y="13196"/>
                </a:cubicBezTo>
                <a:cubicBezTo>
                  <a:pt x="11461" y="13270"/>
                  <a:pt x="11437" y="13295"/>
                  <a:pt x="11361" y="13246"/>
                </a:cubicBezTo>
                <a:cubicBezTo>
                  <a:pt x="11343" y="13138"/>
                  <a:pt x="11345" y="13014"/>
                  <a:pt x="11485" y="13122"/>
                </a:cubicBezTo>
                <a:cubicBezTo>
                  <a:pt x="11556" y="13193"/>
                  <a:pt x="11578" y="13213"/>
                  <a:pt x="11609" y="13271"/>
                </a:cubicBezTo>
              </a:path>
              <a:path w="4367" h="571">
                <a:moveTo>
                  <a:pt x="11881" y="13047"/>
                </a:moveTo>
                <a:cubicBezTo>
                  <a:pt x="11921" y="13034"/>
                  <a:pt x="11906" y="13029"/>
                  <a:pt x="11906" y="12973"/>
                </a:cubicBezTo>
                <a:cubicBezTo>
                  <a:pt x="11828" y="13006"/>
                  <a:pt x="11596" y="13164"/>
                  <a:pt x="11757" y="13271"/>
                </a:cubicBezTo>
                <a:cubicBezTo>
                  <a:pt x="11900" y="13294"/>
                  <a:pt x="11944" y="13304"/>
                  <a:pt x="12030" y="13246"/>
                </a:cubicBezTo>
              </a:path>
              <a:path w="4367" h="571">
                <a:moveTo>
                  <a:pt x="12204" y="13072"/>
                </a:moveTo>
                <a:cubicBezTo>
                  <a:pt x="12217" y="13149"/>
                  <a:pt x="12222" y="13233"/>
                  <a:pt x="12254" y="13295"/>
                </a:cubicBezTo>
                <a:cubicBezTo>
                  <a:pt x="12263" y="13230"/>
                  <a:pt x="12272" y="13044"/>
                  <a:pt x="12378" y="13072"/>
                </a:cubicBezTo>
                <a:cubicBezTo>
                  <a:pt x="12452" y="13122"/>
                  <a:pt x="12477" y="13139"/>
                  <a:pt x="12502" y="13196"/>
                </a:cubicBezTo>
                <a:cubicBezTo>
                  <a:pt x="12502" y="13204"/>
                  <a:pt x="12502" y="13213"/>
                  <a:pt x="12502" y="13221"/>
                </a:cubicBezTo>
                <a:cubicBezTo>
                  <a:pt x="12513" y="13164"/>
                  <a:pt x="12558" y="12987"/>
                  <a:pt x="12650" y="13022"/>
                </a:cubicBezTo>
                <a:cubicBezTo>
                  <a:pt x="12752" y="13061"/>
                  <a:pt x="12712" y="13226"/>
                  <a:pt x="12700" y="1329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2280" y="4429080"/>
            <a:ext cx="973080" cy="1401840"/>
          </a:xfrm>
          <a:custGeom>
            <a:avLst/>
            <a:gdLst/>
            <a:ahLst/>
            <a:rect l="l" t="t" r="r" b="b"/>
            <a:pathLst>
              <a:path w="2704" h="3895">
                <a:moveTo>
                  <a:pt x="1339" y="12650"/>
                </a:moveTo>
                <a:cubicBezTo>
                  <a:pt x="1407" y="12641"/>
                  <a:pt x="1549" y="12581"/>
                  <a:pt x="1538" y="12700"/>
                </a:cubicBezTo>
                <a:cubicBezTo>
                  <a:pt x="1514" y="12772"/>
                  <a:pt x="1507" y="12795"/>
                  <a:pt x="1463" y="12824"/>
                </a:cubicBezTo>
                <a:cubicBezTo>
                  <a:pt x="1504" y="12814"/>
                  <a:pt x="1621" y="12771"/>
                  <a:pt x="1588" y="12874"/>
                </a:cubicBezTo>
                <a:cubicBezTo>
                  <a:pt x="1558" y="12966"/>
                  <a:pt x="1428" y="13016"/>
                  <a:pt x="1339" y="12998"/>
                </a:cubicBezTo>
                <a:cubicBezTo>
                  <a:pt x="1296" y="12976"/>
                  <a:pt x="1275" y="12972"/>
                  <a:pt x="1315" y="12948"/>
                </a:cubicBezTo>
              </a:path>
              <a:path w="2704" h="3895">
                <a:moveTo>
                  <a:pt x="1960" y="12948"/>
                </a:moveTo>
                <a:lnTo>
                  <a:pt x="1960" y="12948"/>
                </a:lnTo>
              </a:path>
              <a:path w="2704" h="3895">
                <a:moveTo>
                  <a:pt x="2232" y="12725"/>
                </a:moveTo>
                <a:cubicBezTo>
                  <a:pt x="2232" y="12791"/>
                  <a:pt x="2218" y="12823"/>
                  <a:pt x="2257" y="12849"/>
                </a:cubicBezTo>
              </a:path>
              <a:path w="2704" h="3895">
                <a:moveTo>
                  <a:pt x="2480" y="12601"/>
                </a:moveTo>
                <a:cubicBezTo>
                  <a:pt x="2493" y="12667"/>
                  <a:pt x="2556" y="12734"/>
                  <a:pt x="2629" y="12750"/>
                </a:cubicBezTo>
                <a:cubicBezTo>
                  <a:pt x="2725" y="12750"/>
                  <a:pt x="2756" y="12752"/>
                  <a:pt x="2803" y="12700"/>
                </a:cubicBezTo>
              </a:path>
              <a:path w="2704" h="3895">
                <a:moveTo>
                  <a:pt x="2778" y="12526"/>
                </a:moveTo>
                <a:cubicBezTo>
                  <a:pt x="2764" y="12643"/>
                  <a:pt x="2758" y="12764"/>
                  <a:pt x="2729" y="12874"/>
                </a:cubicBezTo>
              </a:path>
              <a:path w="2704" h="3895">
                <a:moveTo>
                  <a:pt x="2208" y="12551"/>
                </a:moveTo>
                <a:cubicBezTo>
                  <a:pt x="2247" y="12565"/>
                  <a:pt x="2284" y="12642"/>
                  <a:pt x="2282" y="12700"/>
                </a:cubicBezTo>
                <a:cubicBezTo>
                  <a:pt x="2274" y="12733"/>
                  <a:pt x="2265" y="12766"/>
                  <a:pt x="2257" y="12799"/>
                </a:cubicBezTo>
              </a:path>
              <a:path w="2704" h="3895">
                <a:moveTo>
                  <a:pt x="794" y="13246"/>
                </a:moveTo>
                <a:cubicBezTo>
                  <a:pt x="841" y="13370"/>
                  <a:pt x="882" y="13491"/>
                  <a:pt x="918" y="13618"/>
                </a:cubicBezTo>
              </a:path>
              <a:path w="2704" h="3895">
                <a:moveTo>
                  <a:pt x="967" y="13196"/>
                </a:moveTo>
                <a:cubicBezTo>
                  <a:pt x="883" y="13314"/>
                  <a:pt x="806" y="13493"/>
                  <a:pt x="695" y="13568"/>
                </a:cubicBezTo>
              </a:path>
              <a:path w="2704" h="3895">
                <a:moveTo>
                  <a:pt x="2257" y="13097"/>
                </a:moveTo>
                <a:cubicBezTo>
                  <a:pt x="2249" y="13194"/>
                  <a:pt x="2175" y="13385"/>
                  <a:pt x="2332" y="13395"/>
                </a:cubicBezTo>
                <a:cubicBezTo>
                  <a:pt x="2406" y="13400"/>
                  <a:pt x="2593" y="13252"/>
                  <a:pt x="2530" y="13221"/>
                </a:cubicBezTo>
                <a:cubicBezTo>
                  <a:pt x="2446" y="13180"/>
                  <a:pt x="2431" y="13340"/>
                  <a:pt x="2406" y="13395"/>
                </a:cubicBezTo>
              </a:path>
              <a:path w="2704" h="3895">
                <a:moveTo>
                  <a:pt x="2803" y="13022"/>
                </a:moveTo>
                <a:cubicBezTo>
                  <a:pt x="2908" y="13022"/>
                  <a:pt x="2956" y="12984"/>
                  <a:pt x="2877" y="13097"/>
                </a:cubicBezTo>
                <a:cubicBezTo>
                  <a:pt x="2869" y="13105"/>
                  <a:pt x="2861" y="13114"/>
                  <a:pt x="2853" y="13122"/>
                </a:cubicBezTo>
                <a:cubicBezTo>
                  <a:pt x="2894" y="13122"/>
                  <a:pt x="2919" y="13122"/>
                  <a:pt x="2952" y="13122"/>
                </a:cubicBezTo>
                <a:cubicBezTo>
                  <a:pt x="2952" y="13267"/>
                  <a:pt x="2942" y="13279"/>
                  <a:pt x="2803" y="13295"/>
                </a:cubicBezTo>
                <a:cubicBezTo>
                  <a:pt x="2795" y="13295"/>
                  <a:pt x="2786" y="13295"/>
                  <a:pt x="2778" y="13295"/>
                </a:cubicBezTo>
              </a:path>
              <a:path w="2704" h="3895">
                <a:moveTo>
                  <a:pt x="918" y="13692"/>
                </a:moveTo>
                <a:cubicBezTo>
                  <a:pt x="1123" y="13692"/>
                  <a:pt x="1334" y="13677"/>
                  <a:pt x="1538" y="13667"/>
                </a:cubicBezTo>
                <a:cubicBezTo>
                  <a:pt x="1975" y="13646"/>
                  <a:pt x="2423" y="13597"/>
                  <a:pt x="2853" y="13519"/>
                </a:cubicBezTo>
                <a:cubicBezTo>
                  <a:pt x="2878" y="13511"/>
                  <a:pt x="2902" y="13502"/>
                  <a:pt x="2927" y="13494"/>
                </a:cubicBezTo>
              </a:path>
              <a:path w="2704" h="3895">
                <a:moveTo>
                  <a:pt x="2778" y="13841"/>
                </a:moveTo>
                <a:cubicBezTo>
                  <a:pt x="2833" y="13786"/>
                  <a:pt x="2909" y="13791"/>
                  <a:pt x="3001" y="13791"/>
                </a:cubicBezTo>
                <a:cubicBezTo>
                  <a:pt x="2968" y="13936"/>
                  <a:pt x="2895" y="14016"/>
                  <a:pt x="2778" y="14114"/>
                </a:cubicBezTo>
                <a:cubicBezTo>
                  <a:pt x="2894" y="14114"/>
                  <a:pt x="2995" y="14090"/>
                  <a:pt x="3101" y="14039"/>
                </a:cubicBezTo>
                <a:cubicBezTo>
                  <a:pt x="3109" y="14031"/>
                  <a:pt x="3117" y="14023"/>
                  <a:pt x="3125" y="14015"/>
                </a:cubicBezTo>
              </a:path>
              <a:path w="2704" h="3895">
                <a:moveTo>
                  <a:pt x="2133" y="12303"/>
                </a:moveTo>
                <a:cubicBezTo>
                  <a:pt x="2133" y="12361"/>
                  <a:pt x="2133" y="12369"/>
                  <a:pt x="2133" y="12402"/>
                </a:cubicBezTo>
              </a:path>
              <a:path w="2704" h="3895">
                <a:moveTo>
                  <a:pt x="2257" y="13841"/>
                </a:moveTo>
                <a:cubicBezTo>
                  <a:pt x="2257" y="13923"/>
                  <a:pt x="2248" y="13988"/>
                  <a:pt x="2232" y="14064"/>
                </a:cubicBezTo>
                <a:cubicBezTo>
                  <a:pt x="2232" y="14072"/>
                  <a:pt x="2232" y="14081"/>
                  <a:pt x="2232" y="14089"/>
                </a:cubicBezTo>
                <a:cubicBezTo>
                  <a:pt x="2297" y="14100"/>
                  <a:pt x="2389" y="14142"/>
                  <a:pt x="2456" y="14114"/>
                </a:cubicBezTo>
                <a:cubicBezTo>
                  <a:pt x="2464" y="14106"/>
                  <a:pt x="2472" y="14097"/>
                  <a:pt x="2480" y="14089"/>
                </a:cubicBezTo>
              </a:path>
              <a:path w="2704" h="3895">
                <a:moveTo>
                  <a:pt x="2456" y="13841"/>
                </a:moveTo>
                <a:cubicBezTo>
                  <a:pt x="2423" y="13973"/>
                  <a:pt x="2396" y="14100"/>
                  <a:pt x="2381" y="14238"/>
                </a:cubicBezTo>
                <a:cubicBezTo>
                  <a:pt x="2381" y="14255"/>
                  <a:pt x="2381" y="14271"/>
                  <a:pt x="2381" y="14288"/>
                </a:cubicBezTo>
              </a:path>
              <a:path w="2704" h="3895">
                <a:moveTo>
                  <a:pt x="1637" y="14039"/>
                </a:moveTo>
                <a:cubicBezTo>
                  <a:pt x="1637" y="13960"/>
                  <a:pt x="1638" y="13939"/>
                  <a:pt x="1588" y="13866"/>
                </a:cubicBezTo>
                <a:cubicBezTo>
                  <a:pt x="1508" y="13749"/>
                  <a:pt x="1415" y="13972"/>
                  <a:pt x="1389" y="14015"/>
                </a:cubicBezTo>
                <a:cubicBezTo>
                  <a:pt x="1513" y="14119"/>
                  <a:pt x="1560" y="14037"/>
                  <a:pt x="1637" y="13915"/>
                </a:cubicBezTo>
                <a:cubicBezTo>
                  <a:pt x="1645" y="13907"/>
                  <a:pt x="1654" y="13899"/>
                  <a:pt x="1662" y="13891"/>
                </a:cubicBezTo>
                <a:cubicBezTo>
                  <a:pt x="1662" y="14046"/>
                  <a:pt x="1628" y="14169"/>
                  <a:pt x="1588" y="14312"/>
                </a:cubicBezTo>
                <a:cubicBezTo>
                  <a:pt x="1588" y="14320"/>
                  <a:pt x="1588" y="14329"/>
                  <a:pt x="1588" y="14337"/>
                </a:cubicBezTo>
              </a:path>
              <a:path w="2704" h="3895">
                <a:moveTo>
                  <a:pt x="3101" y="14511"/>
                </a:moveTo>
                <a:cubicBezTo>
                  <a:pt x="3093" y="14486"/>
                  <a:pt x="3016" y="14457"/>
                  <a:pt x="2977" y="14486"/>
                </a:cubicBezTo>
                <a:cubicBezTo>
                  <a:pt x="2880" y="14558"/>
                  <a:pt x="2798" y="14705"/>
                  <a:pt x="2828" y="14808"/>
                </a:cubicBezTo>
                <a:cubicBezTo>
                  <a:pt x="2968" y="14819"/>
                  <a:pt x="3095" y="14764"/>
                  <a:pt x="3101" y="14585"/>
                </a:cubicBezTo>
                <a:cubicBezTo>
                  <a:pt x="3103" y="14509"/>
                  <a:pt x="3031" y="14494"/>
                  <a:pt x="2977" y="14461"/>
                </a:cubicBezTo>
              </a:path>
              <a:path w="2704" h="3895">
                <a:moveTo>
                  <a:pt x="2307" y="14486"/>
                </a:moveTo>
                <a:cubicBezTo>
                  <a:pt x="2289" y="14574"/>
                  <a:pt x="2238" y="14640"/>
                  <a:pt x="2183" y="14709"/>
                </a:cubicBezTo>
                <a:cubicBezTo>
                  <a:pt x="2273" y="14748"/>
                  <a:pt x="2331" y="14717"/>
                  <a:pt x="2431" y="14709"/>
                </a:cubicBezTo>
                <a:cubicBezTo>
                  <a:pt x="2439" y="14709"/>
                  <a:pt x="2448" y="14709"/>
                  <a:pt x="2456" y="14709"/>
                </a:cubicBezTo>
              </a:path>
              <a:path w="2704" h="3895">
                <a:moveTo>
                  <a:pt x="2505" y="14461"/>
                </a:moveTo>
                <a:cubicBezTo>
                  <a:pt x="2443" y="14624"/>
                  <a:pt x="2378" y="14792"/>
                  <a:pt x="2332" y="14957"/>
                </a:cubicBezTo>
              </a:path>
              <a:path w="2704" h="3895">
                <a:moveTo>
                  <a:pt x="1984" y="12303"/>
                </a:moveTo>
                <a:cubicBezTo>
                  <a:pt x="2042" y="12303"/>
                  <a:pt x="2100" y="12303"/>
                  <a:pt x="2158" y="12303"/>
                </a:cubicBezTo>
                <a:cubicBezTo>
                  <a:pt x="2124" y="12363"/>
                  <a:pt x="2096" y="12422"/>
                  <a:pt x="2059" y="12477"/>
                </a:cubicBezTo>
                <a:cubicBezTo>
                  <a:pt x="2148" y="12477"/>
                  <a:pt x="2234" y="12431"/>
                  <a:pt x="2307" y="12378"/>
                </a:cubicBezTo>
                <a:cubicBezTo>
                  <a:pt x="2323" y="12361"/>
                  <a:pt x="2340" y="12345"/>
                  <a:pt x="2356" y="12328"/>
                </a:cubicBezTo>
              </a:path>
              <a:path w="2704" h="3895">
                <a:moveTo>
                  <a:pt x="1612" y="14610"/>
                </a:moveTo>
                <a:cubicBezTo>
                  <a:pt x="1598" y="14566"/>
                  <a:pt x="1505" y="14574"/>
                  <a:pt x="1463" y="14610"/>
                </a:cubicBezTo>
                <a:cubicBezTo>
                  <a:pt x="1379" y="14682"/>
                  <a:pt x="1412" y="14759"/>
                  <a:pt x="1463" y="14833"/>
                </a:cubicBezTo>
                <a:cubicBezTo>
                  <a:pt x="1495" y="14880"/>
                  <a:pt x="1592" y="14938"/>
                  <a:pt x="1588" y="15007"/>
                </a:cubicBezTo>
                <a:cubicBezTo>
                  <a:pt x="1580" y="15023"/>
                  <a:pt x="1571" y="15040"/>
                  <a:pt x="1563" y="15056"/>
                </a:cubicBezTo>
                <a:cubicBezTo>
                  <a:pt x="1515" y="15075"/>
                  <a:pt x="1418" y="15053"/>
                  <a:pt x="1463" y="14957"/>
                </a:cubicBezTo>
                <a:cubicBezTo>
                  <a:pt x="1520" y="14836"/>
                  <a:pt x="1636" y="14729"/>
                  <a:pt x="1687" y="14610"/>
                </a:cubicBezTo>
              </a:path>
              <a:path w="2704" h="3895">
                <a:moveTo>
                  <a:pt x="546" y="14709"/>
                </a:moveTo>
                <a:cubicBezTo>
                  <a:pt x="546" y="14826"/>
                  <a:pt x="544" y="14967"/>
                  <a:pt x="521" y="15081"/>
                </a:cubicBezTo>
                <a:cubicBezTo>
                  <a:pt x="500" y="15186"/>
                  <a:pt x="518" y="15125"/>
                  <a:pt x="620" y="15007"/>
                </a:cubicBezTo>
              </a:path>
              <a:path w="2704" h="3895">
                <a:moveTo>
                  <a:pt x="943" y="14684"/>
                </a:moveTo>
                <a:cubicBezTo>
                  <a:pt x="902" y="14714"/>
                  <a:pt x="792" y="14828"/>
                  <a:pt x="794" y="14858"/>
                </a:cubicBezTo>
                <a:cubicBezTo>
                  <a:pt x="801" y="14949"/>
                  <a:pt x="954" y="14980"/>
                  <a:pt x="967" y="15056"/>
                </a:cubicBezTo>
                <a:cubicBezTo>
                  <a:pt x="943" y="15106"/>
                  <a:pt x="935" y="15123"/>
                  <a:pt x="918" y="15156"/>
                </a:cubicBezTo>
                <a:cubicBezTo>
                  <a:pt x="827" y="15080"/>
                  <a:pt x="886" y="14988"/>
                  <a:pt x="943" y="14883"/>
                </a:cubicBezTo>
                <a:cubicBezTo>
                  <a:pt x="959" y="14858"/>
                  <a:pt x="976" y="14833"/>
                  <a:pt x="992" y="14808"/>
                </a:cubicBezTo>
              </a:path>
              <a:path w="2704" h="3895">
                <a:moveTo>
                  <a:pt x="422" y="15404"/>
                </a:moveTo>
                <a:cubicBezTo>
                  <a:pt x="572" y="15396"/>
                  <a:pt x="716" y="15381"/>
                  <a:pt x="868" y="15379"/>
                </a:cubicBezTo>
                <a:cubicBezTo>
                  <a:pt x="1225" y="15375"/>
                  <a:pt x="1578" y="15400"/>
                  <a:pt x="1935" y="15404"/>
                </a:cubicBezTo>
                <a:cubicBezTo>
                  <a:pt x="2109" y="15406"/>
                  <a:pt x="2282" y="15404"/>
                  <a:pt x="2456" y="15404"/>
                </a:cubicBezTo>
              </a:path>
              <a:path w="2704" h="3895">
                <a:moveTo>
                  <a:pt x="2208" y="15453"/>
                </a:moveTo>
                <a:cubicBezTo>
                  <a:pt x="2321" y="15406"/>
                  <a:pt x="2524" y="15387"/>
                  <a:pt x="2654" y="15379"/>
                </a:cubicBezTo>
                <a:cubicBezTo>
                  <a:pt x="2761" y="15373"/>
                  <a:pt x="3032" y="15352"/>
                  <a:pt x="3101" y="15404"/>
                </a:cubicBezTo>
              </a:path>
              <a:path w="2704" h="3895">
                <a:moveTo>
                  <a:pt x="2853" y="15677"/>
                </a:moveTo>
                <a:cubicBezTo>
                  <a:pt x="2891" y="15600"/>
                  <a:pt x="2993" y="15601"/>
                  <a:pt x="3051" y="15677"/>
                </a:cubicBezTo>
                <a:cubicBezTo>
                  <a:pt x="3153" y="15809"/>
                  <a:pt x="3044" y="15938"/>
                  <a:pt x="2902" y="15974"/>
                </a:cubicBezTo>
                <a:cubicBezTo>
                  <a:pt x="2815" y="15996"/>
                  <a:pt x="2794" y="15985"/>
                  <a:pt x="2778" y="15925"/>
                </a:cubicBezTo>
                <a:cubicBezTo>
                  <a:pt x="2830" y="15899"/>
                  <a:pt x="2961" y="15869"/>
                  <a:pt x="3001" y="15949"/>
                </a:cubicBezTo>
                <a:cubicBezTo>
                  <a:pt x="3001" y="15966"/>
                  <a:pt x="3001" y="15982"/>
                  <a:pt x="3001" y="15999"/>
                </a:cubicBezTo>
              </a:path>
              <a:path w="2704" h="3895">
                <a:moveTo>
                  <a:pt x="2332" y="15751"/>
                </a:moveTo>
                <a:cubicBezTo>
                  <a:pt x="2292" y="15711"/>
                  <a:pt x="2271" y="15730"/>
                  <a:pt x="2208" y="15751"/>
                </a:cubicBezTo>
                <a:cubicBezTo>
                  <a:pt x="2225" y="15840"/>
                  <a:pt x="2299" y="15892"/>
                  <a:pt x="2332" y="15974"/>
                </a:cubicBezTo>
                <a:cubicBezTo>
                  <a:pt x="2380" y="16093"/>
                  <a:pt x="2349" y="16100"/>
                  <a:pt x="2257" y="16123"/>
                </a:cubicBezTo>
                <a:cubicBezTo>
                  <a:pt x="2273" y="15962"/>
                  <a:pt x="2347" y="15926"/>
                  <a:pt x="2431" y="15801"/>
                </a:cubicBezTo>
                <a:cubicBezTo>
                  <a:pt x="2431" y="15793"/>
                  <a:pt x="2431" y="15784"/>
                  <a:pt x="2431" y="15776"/>
                </a:cubicBezTo>
              </a:path>
              <a:path w="2704" h="3895">
                <a:moveTo>
                  <a:pt x="1612" y="15701"/>
                </a:moveTo>
                <a:cubicBezTo>
                  <a:pt x="1675" y="15701"/>
                  <a:pt x="1725" y="15720"/>
                  <a:pt x="1786" y="15726"/>
                </a:cubicBezTo>
                <a:cubicBezTo>
                  <a:pt x="1794" y="15726"/>
                  <a:pt x="1803" y="15726"/>
                  <a:pt x="1811" y="15726"/>
                </a:cubicBezTo>
                <a:cubicBezTo>
                  <a:pt x="1839" y="15769"/>
                  <a:pt x="1766" y="15989"/>
                  <a:pt x="1736" y="16073"/>
                </a:cubicBezTo>
                <a:cubicBezTo>
                  <a:pt x="1700" y="16147"/>
                  <a:pt x="1683" y="16151"/>
                  <a:pt x="1687" y="16197"/>
                </a:cubicBezTo>
              </a:path>
              <a:path w="2704" h="3895">
                <a:moveTo>
                  <a:pt x="893" y="13965"/>
                </a:moveTo>
                <a:cubicBezTo>
                  <a:pt x="893" y="14069"/>
                  <a:pt x="861" y="14190"/>
                  <a:pt x="868" y="14288"/>
                </a:cubicBezTo>
                <a:cubicBezTo>
                  <a:pt x="876" y="14304"/>
                  <a:pt x="885" y="14321"/>
                  <a:pt x="893" y="14337"/>
                </a:cubicBezTo>
              </a:path>
              <a:path w="2704" h="3895">
                <a:moveTo>
                  <a:pt x="1166" y="15801"/>
                </a:moveTo>
                <a:cubicBezTo>
                  <a:pt x="1154" y="15752"/>
                  <a:pt x="1093" y="15693"/>
                  <a:pt x="1042" y="15677"/>
                </a:cubicBezTo>
                <a:cubicBezTo>
                  <a:pt x="932" y="15643"/>
                  <a:pt x="905" y="15861"/>
                  <a:pt x="893" y="15925"/>
                </a:cubicBezTo>
                <a:cubicBezTo>
                  <a:pt x="1042" y="15938"/>
                  <a:pt x="1007" y="15869"/>
                  <a:pt x="1091" y="15776"/>
                </a:cubicBezTo>
                <a:cubicBezTo>
                  <a:pt x="1099" y="15776"/>
                  <a:pt x="1108" y="15776"/>
                  <a:pt x="1116" y="15776"/>
                </a:cubicBezTo>
                <a:cubicBezTo>
                  <a:pt x="1112" y="15850"/>
                  <a:pt x="1107" y="16222"/>
                  <a:pt x="1067" y="16123"/>
                </a:cubicBezTo>
                <a:cubicBezTo>
                  <a:pt x="1044" y="16056"/>
                  <a:pt x="1033" y="16038"/>
                  <a:pt x="1067" y="15999"/>
                </a:cubicBezTo>
              </a:path>
              <a:path w="2704" h="3895">
                <a:moveTo>
                  <a:pt x="521" y="15776"/>
                </a:moveTo>
                <a:cubicBezTo>
                  <a:pt x="505" y="15874"/>
                  <a:pt x="485" y="15974"/>
                  <a:pt x="471" y="16073"/>
                </a:cubicBezTo>
                <a:cubicBezTo>
                  <a:pt x="464" y="16124"/>
                  <a:pt x="480" y="15974"/>
                  <a:pt x="496" y="15925"/>
                </a:cubicBezTo>
              </a:path>
              <a:path w="2704" h="3895">
                <a:moveTo>
                  <a:pt x="2084" y="16098"/>
                </a:moveTo>
                <a:cubicBezTo>
                  <a:pt x="2084" y="16090"/>
                  <a:pt x="2084" y="16081"/>
                  <a:pt x="2084" y="1607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813800" y="411120"/>
            <a:ext cx="125280" cy="214200"/>
          </a:xfrm>
          <a:custGeom>
            <a:avLst/>
            <a:gdLst/>
            <a:ahLst/>
            <a:rect l="l" t="t" r="r" b="b"/>
            <a:pathLst>
              <a:path w="348" h="596">
                <a:moveTo>
                  <a:pt x="21803" y="1191"/>
                </a:moveTo>
                <a:cubicBezTo>
                  <a:pt x="21825" y="1254"/>
                  <a:pt x="21932" y="1157"/>
                  <a:pt x="21977" y="1141"/>
                </a:cubicBezTo>
                <a:cubicBezTo>
                  <a:pt x="21985" y="1141"/>
                  <a:pt x="21994" y="1141"/>
                  <a:pt x="22002" y="1141"/>
                </a:cubicBezTo>
                <a:cubicBezTo>
                  <a:pt x="22022" y="1269"/>
                  <a:pt x="22006" y="1329"/>
                  <a:pt x="21927" y="1439"/>
                </a:cubicBezTo>
                <a:cubicBezTo>
                  <a:pt x="21881" y="1439"/>
                  <a:pt x="21955" y="1436"/>
                  <a:pt x="21977" y="1463"/>
                </a:cubicBezTo>
                <a:cubicBezTo>
                  <a:pt x="22081" y="1589"/>
                  <a:pt x="22048" y="1706"/>
                  <a:pt x="21878" y="1736"/>
                </a:cubicBezTo>
                <a:cubicBezTo>
                  <a:pt x="21760" y="1757"/>
                  <a:pt x="21712" y="1731"/>
                  <a:pt x="21754" y="166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035920" y="5889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22324" y="1637"/>
                </a:moveTo>
                <a:lnTo>
                  <a:pt x="22324" y="1637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134200" y="438120"/>
            <a:ext cx="27000" cy="150840"/>
          </a:xfrm>
          <a:custGeom>
            <a:avLst/>
            <a:gdLst/>
            <a:ahLst/>
            <a:rect l="l" t="t" r="r" b="b"/>
            <a:pathLst>
              <a:path w="75" h="423">
                <a:moveTo>
                  <a:pt x="22597" y="1215"/>
                </a:moveTo>
                <a:cubicBezTo>
                  <a:pt x="22630" y="1348"/>
                  <a:pt x="22654" y="1473"/>
                  <a:pt x="22671" y="1612"/>
                </a:cubicBezTo>
                <a:cubicBezTo>
                  <a:pt x="22671" y="1620"/>
                  <a:pt x="22671" y="1629"/>
                  <a:pt x="22671" y="16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242200" y="455760"/>
            <a:ext cx="108000" cy="63360"/>
          </a:xfrm>
          <a:custGeom>
            <a:avLst/>
            <a:gdLst/>
            <a:ahLst/>
            <a:rect l="l" t="t" r="r" b="b"/>
            <a:pathLst>
              <a:path w="298" h="175">
                <a:moveTo>
                  <a:pt x="22895" y="1265"/>
                </a:moveTo>
                <a:cubicBezTo>
                  <a:pt x="22907" y="1339"/>
                  <a:pt x="22907" y="1413"/>
                  <a:pt x="22994" y="1439"/>
                </a:cubicBezTo>
                <a:cubicBezTo>
                  <a:pt x="23114" y="1474"/>
                  <a:pt x="23147" y="1340"/>
                  <a:pt x="23192" y="126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313840" y="401760"/>
            <a:ext cx="17280" cy="223560"/>
          </a:xfrm>
          <a:custGeom>
            <a:avLst/>
            <a:gdLst/>
            <a:ahLst/>
            <a:rect l="l" t="t" r="r" b="b"/>
            <a:pathLst>
              <a:path w="51" h="621">
                <a:moveTo>
                  <a:pt x="23143" y="1116"/>
                </a:moveTo>
                <a:cubicBezTo>
                  <a:pt x="23143" y="1292"/>
                  <a:pt x="23144" y="1488"/>
                  <a:pt x="23118" y="1662"/>
                </a:cubicBezTo>
                <a:cubicBezTo>
                  <a:pt x="23110" y="1687"/>
                  <a:pt x="23101" y="1711"/>
                  <a:pt x="23093" y="173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535880" y="696960"/>
            <a:ext cx="90360" cy="115920"/>
          </a:xfrm>
          <a:custGeom>
            <a:avLst/>
            <a:gdLst/>
            <a:ahLst/>
            <a:rect l="l" t="t" r="r" b="b"/>
            <a:pathLst>
              <a:path w="249" h="323">
                <a:moveTo>
                  <a:pt x="20935" y="1935"/>
                </a:moveTo>
                <a:cubicBezTo>
                  <a:pt x="20981" y="1995"/>
                  <a:pt x="21111" y="2243"/>
                  <a:pt x="21183" y="2257"/>
                </a:cubicBezTo>
                <a:cubicBezTo>
                  <a:pt x="21183" y="2249"/>
                  <a:pt x="21183" y="2240"/>
                  <a:pt x="21183" y="223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545240" y="669960"/>
            <a:ext cx="90720" cy="160200"/>
          </a:xfrm>
          <a:custGeom>
            <a:avLst/>
            <a:gdLst/>
            <a:ahLst/>
            <a:rect l="l" t="t" r="r" b="b"/>
            <a:pathLst>
              <a:path w="249" h="448">
                <a:moveTo>
                  <a:pt x="21208" y="1860"/>
                </a:moveTo>
                <a:cubicBezTo>
                  <a:pt x="21114" y="2008"/>
                  <a:pt x="21033" y="2148"/>
                  <a:pt x="20960" y="230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099280" y="642960"/>
            <a:ext cx="108000" cy="160200"/>
          </a:xfrm>
          <a:custGeom>
            <a:avLst/>
            <a:gdLst/>
            <a:ahLst/>
            <a:rect l="l" t="t" r="r" b="b"/>
            <a:pathLst>
              <a:path w="299" h="447">
                <a:moveTo>
                  <a:pt x="22746" y="1910"/>
                </a:moveTo>
                <a:cubicBezTo>
                  <a:pt x="22746" y="1877"/>
                  <a:pt x="22746" y="1844"/>
                  <a:pt x="22746" y="1811"/>
                </a:cubicBezTo>
                <a:cubicBezTo>
                  <a:pt x="22621" y="1797"/>
                  <a:pt x="22564" y="1872"/>
                  <a:pt x="22498" y="1984"/>
                </a:cubicBezTo>
                <a:cubicBezTo>
                  <a:pt x="22613" y="2019"/>
                  <a:pt x="22706" y="2008"/>
                  <a:pt x="22796" y="1910"/>
                </a:cubicBezTo>
                <a:cubicBezTo>
                  <a:pt x="22796" y="1902"/>
                  <a:pt x="22796" y="1893"/>
                  <a:pt x="22796" y="1885"/>
                </a:cubicBezTo>
                <a:cubicBezTo>
                  <a:pt x="22796" y="1984"/>
                  <a:pt x="22801" y="2115"/>
                  <a:pt x="22771" y="2208"/>
                </a:cubicBezTo>
                <a:cubicBezTo>
                  <a:pt x="22763" y="2216"/>
                  <a:pt x="22754" y="2224"/>
                  <a:pt x="22746" y="223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286840" y="677880"/>
            <a:ext cx="81000" cy="108000"/>
          </a:xfrm>
          <a:custGeom>
            <a:avLst/>
            <a:gdLst/>
            <a:ahLst/>
            <a:rect l="l" t="t" r="r" b="b"/>
            <a:pathLst>
              <a:path w="224" h="299">
                <a:moveTo>
                  <a:pt x="23143" y="1885"/>
                </a:moveTo>
                <a:cubicBezTo>
                  <a:pt x="23048" y="1968"/>
                  <a:pt x="23019" y="2035"/>
                  <a:pt x="23044" y="2158"/>
                </a:cubicBezTo>
                <a:cubicBezTo>
                  <a:pt x="23190" y="2169"/>
                  <a:pt x="23298" y="2113"/>
                  <a:pt x="23217" y="1935"/>
                </a:cubicBezTo>
                <a:cubicBezTo>
                  <a:pt x="23161" y="1878"/>
                  <a:pt x="23135" y="1861"/>
                  <a:pt x="23068" y="188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823160" y="830160"/>
            <a:ext cx="598680" cy="27000"/>
          </a:xfrm>
          <a:custGeom>
            <a:avLst/>
            <a:gdLst/>
            <a:ahLst/>
            <a:rect l="l" t="t" r="r" b="b"/>
            <a:pathLst>
              <a:path w="1663" h="75">
                <a:moveTo>
                  <a:pt x="21729" y="2381"/>
                </a:moveTo>
                <a:cubicBezTo>
                  <a:pt x="22219" y="2373"/>
                  <a:pt x="22703" y="2329"/>
                  <a:pt x="23192" y="2307"/>
                </a:cubicBezTo>
                <a:cubicBezTo>
                  <a:pt x="23320" y="2307"/>
                  <a:pt x="23345" y="2274"/>
                  <a:pt x="23391" y="233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251920" y="928800"/>
            <a:ext cx="98280" cy="81000"/>
          </a:xfrm>
          <a:custGeom>
            <a:avLst/>
            <a:gdLst/>
            <a:ahLst/>
            <a:rect l="l" t="t" r="r" b="b"/>
            <a:pathLst>
              <a:path w="273" h="224">
                <a:moveTo>
                  <a:pt x="23192" y="2629"/>
                </a:moveTo>
                <a:cubicBezTo>
                  <a:pt x="23178" y="2608"/>
                  <a:pt x="23069" y="2553"/>
                  <a:pt x="23019" y="2580"/>
                </a:cubicBezTo>
                <a:cubicBezTo>
                  <a:pt x="22907" y="2640"/>
                  <a:pt x="22929" y="2708"/>
                  <a:pt x="22944" y="2803"/>
                </a:cubicBezTo>
                <a:cubicBezTo>
                  <a:pt x="22991" y="2794"/>
                  <a:pt x="23234" y="2753"/>
                  <a:pt x="23192" y="2654"/>
                </a:cubicBezTo>
                <a:cubicBezTo>
                  <a:pt x="23136" y="2596"/>
                  <a:pt x="23109" y="2577"/>
                  <a:pt x="23044" y="258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055000" y="911160"/>
            <a:ext cx="106200" cy="98640"/>
          </a:xfrm>
          <a:custGeom>
            <a:avLst/>
            <a:gdLst/>
            <a:ahLst/>
            <a:rect l="l" t="t" r="r" b="b"/>
            <a:pathLst>
              <a:path w="298" h="274">
                <a:moveTo>
                  <a:pt x="22547" y="2555"/>
                </a:moveTo>
                <a:cubicBezTo>
                  <a:pt x="22445" y="2572"/>
                  <a:pt x="22310" y="2653"/>
                  <a:pt x="22399" y="2778"/>
                </a:cubicBezTo>
                <a:cubicBezTo>
                  <a:pt x="22471" y="2879"/>
                  <a:pt x="22696" y="2742"/>
                  <a:pt x="22671" y="2629"/>
                </a:cubicBezTo>
                <a:cubicBezTo>
                  <a:pt x="22620" y="2551"/>
                  <a:pt x="22599" y="2526"/>
                  <a:pt x="22523" y="253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831080" y="911160"/>
            <a:ext cx="81000" cy="88920"/>
          </a:xfrm>
          <a:custGeom>
            <a:avLst/>
            <a:gdLst/>
            <a:ahLst/>
            <a:rect l="l" t="t" r="r" b="b"/>
            <a:pathLst>
              <a:path w="224" h="249">
                <a:moveTo>
                  <a:pt x="21878" y="2555"/>
                </a:moveTo>
                <a:cubicBezTo>
                  <a:pt x="21804" y="2604"/>
                  <a:pt x="21770" y="2660"/>
                  <a:pt x="21754" y="2753"/>
                </a:cubicBezTo>
                <a:cubicBezTo>
                  <a:pt x="21876" y="2772"/>
                  <a:pt x="22012" y="2772"/>
                  <a:pt x="21952" y="2604"/>
                </a:cubicBezTo>
                <a:cubicBezTo>
                  <a:pt x="21940" y="2571"/>
                  <a:pt x="21878" y="2544"/>
                  <a:pt x="21853" y="253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232840" y="1009800"/>
            <a:ext cx="90360" cy="61920"/>
          </a:xfrm>
          <a:custGeom>
            <a:avLst/>
            <a:gdLst/>
            <a:ahLst/>
            <a:rect l="l" t="t" r="r" b="b"/>
            <a:pathLst>
              <a:path w="249" h="175">
                <a:moveTo>
                  <a:pt x="23019" y="2927"/>
                </a:moveTo>
                <a:cubicBezTo>
                  <a:pt x="22947" y="2918"/>
                  <a:pt x="22931" y="2931"/>
                  <a:pt x="22870" y="2977"/>
                </a:cubicBezTo>
                <a:cubicBezTo>
                  <a:pt x="22994" y="2966"/>
                  <a:pt x="23060" y="2968"/>
                  <a:pt x="23118" y="2853"/>
                </a:cubicBezTo>
                <a:cubicBezTo>
                  <a:pt x="23067" y="2802"/>
                  <a:pt x="23049" y="2786"/>
                  <a:pt x="22994" y="280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55000" y="1071720"/>
            <a:ext cx="142920" cy="107640"/>
          </a:xfrm>
          <a:custGeom>
            <a:avLst/>
            <a:gdLst/>
            <a:ahLst/>
            <a:rect l="l" t="t" r="r" b="b"/>
            <a:pathLst>
              <a:path w="398" h="298">
                <a:moveTo>
                  <a:pt x="22473" y="2977"/>
                </a:moveTo>
                <a:cubicBezTo>
                  <a:pt x="22400" y="2995"/>
                  <a:pt x="22384" y="3103"/>
                  <a:pt x="22374" y="3175"/>
                </a:cubicBezTo>
                <a:cubicBezTo>
                  <a:pt x="22353" y="3323"/>
                  <a:pt x="22558" y="3286"/>
                  <a:pt x="22647" y="3249"/>
                </a:cubicBezTo>
                <a:cubicBezTo>
                  <a:pt x="22712" y="3222"/>
                  <a:pt x="22755" y="3162"/>
                  <a:pt x="22771" y="3101"/>
                </a:cubicBezTo>
                <a:cubicBezTo>
                  <a:pt x="22629" y="3120"/>
                  <a:pt x="22626" y="3120"/>
                  <a:pt x="22572" y="3225"/>
                </a:cubicBezTo>
                <a:cubicBezTo>
                  <a:pt x="22564" y="3233"/>
                  <a:pt x="22555" y="3241"/>
                  <a:pt x="22547" y="324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62920" y="322200"/>
            <a:ext cx="73080" cy="98640"/>
          </a:xfrm>
          <a:custGeom>
            <a:avLst/>
            <a:gdLst/>
            <a:ahLst/>
            <a:rect l="l" t="t" r="r" b="b"/>
            <a:pathLst>
              <a:path w="199" h="274">
                <a:moveTo>
                  <a:pt x="22399" y="992"/>
                </a:moveTo>
                <a:cubicBezTo>
                  <a:pt x="22412" y="969"/>
                  <a:pt x="22493" y="861"/>
                  <a:pt x="22547" y="893"/>
                </a:cubicBezTo>
                <a:cubicBezTo>
                  <a:pt x="22593" y="920"/>
                  <a:pt x="22483" y="1029"/>
                  <a:pt x="22473" y="1042"/>
                </a:cubicBezTo>
                <a:cubicBezTo>
                  <a:pt x="22473" y="1050"/>
                  <a:pt x="22473" y="1059"/>
                  <a:pt x="22473" y="1067"/>
                </a:cubicBezTo>
                <a:cubicBezTo>
                  <a:pt x="22515" y="1035"/>
                  <a:pt x="22541" y="1042"/>
                  <a:pt x="22597" y="1042"/>
                </a:cubicBezTo>
                <a:cubicBezTo>
                  <a:pt x="22562" y="1147"/>
                  <a:pt x="22526" y="1154"/>
                  <a:pt x="22423" y="116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840800" y="1098720"/>
            <a:ext cx="9360" cy="107640"/>
          </a:xfrm>
          <a:custGeom>
            <a:avLst/>
            <a:gdLst/>
            <a:ahLst/>
            <a:rect l="l" t="t" r="r" b="b"/>
            <a:pathLst>
              <a:path w="25" h="299">
                <a:moveTo>
                  <a:pt x="21779" y="3076"/>
                </a:moveTo>
                <a:cubicBezTo>
                  <a:pt x="21779" y="3008"/>
                  <a:pt x="21800" y="3254"/>
                  <a:pt x="21803" y="3274"/>
                </a:cubicBezTo>
                <a:cubicBezTo>
                  <a:pt x="21806" y="3298"/>
                  <a:pt x="21803" y="3325"/>
                  <a:pt x="21803" y="334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777080" y="1089000"/>
            <a:ext cx="144720" cy="152280"/>
          </a:xfrm>
          <a:custGeom>
            <a:avLst/>
            <a:gdLst/>
            <a:ahLst/>
            <a:rect l="l" t="t" r="r" b="b"/>
            <a:pathLst>
              <a:path w="398" h="423">
                <a:moveTo>
                  <a:pt x="21605" y="3101"/>
                </a:moveTo>
                <a:cubicBezTo>
                  <a:pt x="21611" y="3083"/>
                  <a:pt x="21667" y="3033"/>
                  <a:pt x="21679" y="3026"/>
                </a:cubicBezTo>
                <a:cubicBezTo>
                  <a:pt x="21687" y="3026"/>
                  <a:pt x="21696" y="3026"/>
                  <a:pt x="21704" y="3026"/>
                </a:cubicBezTo>
                <a:cubicBezTo>
                  <a:pt x="21734" y="3056"/>
                  <a:pt x="21776" y="3082"/>
                  <a:pt x="21779" y="3125"/>
                </a:cubicBezTo>
                <a:cubicBezTo>
                  <a:pt x="21782" y="3171"/>
                  <a:pt x="21792" y="3264"/>
                  <a:pt x="21754" y="3299"/>
                </a:cubicBezTo>
                <a:cubicBezTo>
                  <a:pt x="21723" y="3327"/>
                  <a:pt x="21665" y="3376"/>
                  <a:pt x="21654" y="3398"/>
                </a:cubicBezTo>
                <a:cubicBezTo>
                  <a:pt x="21627" y="3452"/>
                  <a:pt x="21627" y="3445"/>
                  <a:pt x="21679" y="3423"/>
                </a:cubicBezTo>
                <a:cubicBezTo>
                  <a:pt x="21734" y="3399"/>
                  <a:pt x="21745" y="3373"/>
                  <a:pt x="21803" y="3373"/>
                </a:cubicBezTo>
                <a:cubicBezTo>
                  <a:pt x="21878" y="3373"/>
                  <a:pt x="21913" y="3423"/>
                  <a:pt x="21977" y="3373"/>
                </a:cubicBezTo>
                <a:cubicBezTo>
                  <a:pt x="21985" y="3365"/>
                  <a:pt x="21994" y="3357"/>
                  <a:pt x="22002" y="334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670880" y="374760"/>
            <a:ext cx="1440" cy="90360"/>
          </a:xfrm>
          <a:custGeom>
            <a:avLst/>
            <a:gdLst/>
            <a:ahLst/>
            <a:rect l="l" t="t" r="r" b="b"/>
            <a:pathLst>
              <a:path w="1" h="249">
                <a:moveTo>
                  <a:pt x="21307" y="1067"/>
                </a:moveTo>
                <a:cubicBezTo>
                  <a:pt x="21307" y="993"/>
                  <a:pt x="21307" y="1166"/>
                  <a:pt x="21307" y="1240"/>
                </a:cubicBezTo>
                <a:cubicBezTo>
                  <a:pt x="21307" y="1257"/>
                  <a:pt x="21307" y="1273"/>
                  <a:pt x="21307" y="129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439040" y="1133640"/>
            <a:ext cx="98280" cy="117360"/>
          </a:xfrm>
          <a:custGeom>
            <a:avLst/>
            <a:gdLst/>
            <a:ahLst/>
            <a:rect l="l" t="t" r="r" b="b"/>
            <a:pathLst>
              <a:path w="274" h="324">
                <a:moveTo>
                  <a:pt x="20811" y="3150"/>
                </a:moveTo>
                <a:cubicBezTo>
                  <a:pt x="20868" y="3150"/>
                  <a:pt x="20905" y="3186"/>
                  <a:pt x="20886" y="3274"/>
                </a:cubicBezTo>
                <a:cubicBezTo>
                  <a:pt x="20859" y="3398"/>
                  <a:pt x="20760" y="3428"/>
                  <a:pt x="20662" y="3473"/>
                </a:cubicBezTo>
                <a:cubicBezTo>
                  <a:pt x="20662" y="3434"/>
                  <a:pt x="20641" y="3334"/>
                  <a:pt x="20712" y="3349"/>
                </a:cubicBezTo>
                <a:cubicBezTo>
                  <a:pt x="20802" y="3367"/>
                  <a:pt x="20851" y="3436"/>
                  <a:pt x="20935" y="344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572240" y="1108080"/>
            <a:ext cx="71640" cy="133200"/>
          </a:xfrm>
          <a:custGeom>
            <a:avLst/>
            <a:gdLst/>
            <a:ahLst/>
            <a:rect l="l" t="t" r="r" b="b"/>
            <a:pathLst>
              <a:path w="200" h="373">
                <a:moveTo>
                  <a:pt x="21183" y="3076"/>
                </a:moveTo>
                <a:cubicBezTo>
                  <a:pt x="21141" y="3097"/>
                  <a:pt x="20997" y="3166"/>
                  <a:pt x="21059" y="3225"/>
                </a:cubicBezTo>
                <a:cubicBezTo>
                  <a:pt x="21114" y="3277"/>
                  <a:pt x="21178" y="3319"/>
                  <a:pt x="21233" y="3373"/>
                </a:cubicBezTo>
                <a:cubicBezTo>
                  <a:pt x="21190" y="3416"/>
                  <a:pt x="21159" y="3435"/>
                  <a:pt x="21109" y="3448"/>
                </a:cubicBezTo>
                <a:cubicBezTo>
                  <a:pt x="21120" y="3369"/>
                  <a:pt x="21144" y="3267"/>
                  <a:pt x="21183" y="3200"/>
                </a:cubicBezTo>
                <a:cubicBezTo>
                  <a:pt x="21191" y="3192"/>
                  <a:pt x="21200" y="3183"/>
                  <a:pt x="21208" y="317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2040" y="687240"/>
            <a:ext cx="100080" cy="115920"/>
          </a:xfrm>
          <a:custGeom>
            <a:avLst/>
            <a:gdLst/>
            <a:ahLst/>
            <a:rect l="l" t="t" r="r" b="b"/>
            <a:pathLst>
              <a:path w="274" h="323">
                <a:moveTo>
                  <a:pt x="1091" y="1984"/>
                </a:moveTo>
                <a:cubicBezTo>
                  <a:pt x="1186" y="1940"/>
                  <a:pt x="1326" y="1833"/>
                  <a:pt x="1364" y="1984"/>
                </a:cubicBezTo>
                <a:cubicBezTo>
                  <a:pt x="1394" y="2106"/>
                  <a:pt x="1289" y="2199"/>
                  <a:pt x="1191" y="223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9840" y="901800"/>
            <a:ext cx="44280" cy="9360"/>
          </a:xfrm>
          <a:custGeom>
            <a:avLst/>
            <a:gdLst/>
            <a:ahLst/>
            <a:rect l="l" t="t" r="r" b="b"/>
            <a:pathLst>
              <a:path w="125" h="26">
                <a:moveTo>
                  <a:pt x="1067" y="2530"/>
                </a:moveTo>
                <a:cubicBezTo>
                  <a:pt x="989" y="2530"/>
                  <a:pt x="971" y="2546"/>
                  <a:pt x="943" y="250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17680" y="8668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439" y="2406"/>
                </a:moveTo>
                <a:lnTo>
                  <a:pt x="1439" y="2406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39840" y="812880"/>
            <a:ext cx="160200" cy="108000"/>
          </a:xfrm>
          <a:custGeom>
            <a:avLst/>
            <a:gdLst/>
            <a:ahLst/>
            <a:rect l="l" t="t" r="r" b="b"/>
            <a:pathLst>
              <a:path w="447" h="299">
                <a:moveTo>
                  <a:pt x="1290" y="2307"/>
                </a:moveTo>
                <a:cubicBezTo>
                  <a:pt x="1254" y="2307"/>
                  <a:pt x="1166" y="2309"/>
                  <a:pt x="1191" y="2282"/>
                </a:cubicBezTo>
                <a:cubicBezTo>
                  <a:pt x="1238" y="2231"/>
                  <a:pt x="1329" y="2277"/>
                  <a:pt x="1364" y="2332"/>
                </a:cubicBezTo>
                <a:cubicBezTo>
                  <a:pt x="1428" y="2432"/>
                  <a:pt x="1353" y="2497"/>
                  <a:pt x="1265" y="2530"/>
                </a:cubicBezTo>
                <a:cubicBezTo>
                  <a:pt x="1151" y="2572"/>
                  <a:pt x="1077" y="2540"/>
                  <a:pt x="967" y="2530"/>
                </a:cubicBezTo>
                <a:cubicBezTo>
                  <a:pt x="959" y="2530"/>
                  <a:pt x="951" y="2530"/>
                  <a:pt x="943" y="253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61960" y="884160"/>
            <a:ext cx="9720" cy="1800"/>
          </a:xfrm>
          <a:custGeom>
            <a:avLst/>
            <a:gdLst/>
            <a:ahLst/>
            <a:rect l="l" t="t" r="r" b="b"/>
            <a:pathLst>
              <a:path w="26" h="1">
                <a:moveTo>
                  <a:pt x="1588" y="2456"/>
                </a:moveTo>
                <a:cubicBezTo>
                  <a:pt x="1580" y="2456"/>
                  <a:pt x="1571" y="2456"/>
                  <a:pt x="1563" y="24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04880" y="696960"/>
            <a:ext cx="9360" cy="152280"/>
          </a:xfrm>
          <a:custGeom>
            <a:avLst/>
            <a:gdLst/>
            <a:ahLst/>
            <a:rect l="l" t="t" r="r" b="b"/>
            <a:pathLst>
              <a:path w="25" h="422">
                <a:moveTo>
                  <a:pt x="1984" y="1935"/>
                </a:moveTo>
                <a:cubicBezTo>
                  <a:pt x="1984" y="2079"/>
                  <a:pt x="1974" y="2215"/>
                  <a:pt x="1960" y="23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68240" y="714240"/>
            <a:ext cx="88920" cy="54000"/>
          </a:xfrm>
          <a:custGeom>
            <a:avLst/>
            <a:gdLst/>
            <a:ahLst/>
            <a:rect l="l" t="t" r="r" b="b"/>
            <a:pathLst>
              <a:path w="249" h="150">
                <a:moveTo>
                  <a:pt x="2133" y="1984"/>
                </a:moveTo>
                <a:cubicBezTo>
                  <a:pt x="2140" y="2017"/>
                  <a:pt x="2148" y="2120"/>
                  <a:pt x="2183" y="2133"/>
                </a:cubicBezTo>
                <a:cubicBezTo>
                  <a:pt x="2251" y="2159"/>
                  <a:pt x="2330" y="2088"/>
                  <a:pt x="2381" y="205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12880" y="633240"/>
            <a:ext cx="27000" cy="196920"/>
          </a:xfrm>
          <a:custGeom>
            <a:avLst/>
            <a:gdLst/>
            <a:ahLst/>
            <a:rect l="l" t="t" r="r" b="b"/>
            <a:pathLst>
              <a:path w="76" h="547">
                <a:moveTo>
                  <a:pt x="2332" y="1761"/>
                </a:moveTo>
                <a:cubicBezTo>
                  <a:pt x="2274" y="1956"/>
                  <a:pt x="2256" y="2086"/>
                  <a:pt x="2282" y="2282"/>
                </a:cubicBezTo>
                <a:cubicBezTo>
                  <a:pt x="2282" y="2290"/>
                  <a:pt x="2282" y="2299"/>
                  <a:pt x="2282" y="230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85880" y="874800"/>
            <a:ext cx="81000" cy="135000"/>
          </a:xfrm>
          <a:custGeom>
            <a:avLst/>
            <a:gdLst/>
            <a:ahLst/>
            <a:rect l="l" t="t" r="r" b="b"/>
            <a:pathLst>
              <a:path w="224" h="373">
                <a:moveTo>
                  <a:pt x="2356" y="2456"/>
                </a:moveTo>
                <a:cubicBezTo>
                  <a:pt x="2251" y="2456"/>
                  <a:pt x="2251" y="2473"/>
                  <a:pt x="2183" y="2555"/>
                </a:cubicBezTo>
                <a:cubicBezTo>
                  <a:pt x="2236" y="2590"/>
                  <a:pt x="2384" y="2615"/>
                  <a:pt x="2406" y="2679"/>
                </a:cubicBezTo>
                <a:cubicBezTo>
                  <a:pt x="2440" y="2776"/>
                  <a:pt x="2369" y="2787"/>
                  <a:pt x="2307" y="2803"/>
                </a:cubicBezTo>
                <a:cubicBezTo>
                  <a:pt x="2265" y="2678"/>
                  <a:pt x="2310" y="2594"/>
                  <a:pt x="2381" y="2480"/>
                </a:cubicBezTo>
                <a:cubicBezTo>
                  <a:pt x="2404" y="2458"/>
                  <a:pt x="2412" y="2453"/>
                  <a:pt x="2406" y="24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30120" y="1081080"/>
            <a:ext cx="615960" cy="115920"/>
          </a:xfrm>
          <a:custGeom>
            <a:avLst/>
            <a:gdLst/>
            <a:ahLst/>
            <a:rect l="l" t="t" r="r" b="b"/>
            <a:pathLst>
              <a:path w="1712" h="324">
                <a:moveTo>
                  <a:pt x="918" y="3324"/>
                </a:moveTo>
                <a:cubicBezTo>
                  <a:pt x="1149" y="3281"/>
                  <a:pt x="1379" y="3234"/>
                  <a:pt x="1612" y="3200"/>
                </a:cubicBezTo>
                <a:cubicBezTo>
                  <a:pt x="1950" y="3150"/>
                  <a:pt x="2272" y="3074"/>
                  <a:pt x="2604" y="3001"/>
                </a:cubicBezTo>
                <a:cubicBezTo>
                  <a:pt x="2612" y="3001"/>
                  <a:pt x="2621" y="3001"/>
                  <a:pt x="2629" y="300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84160" y="1177920"/>
            <a:ext cx="108000" cy="125280"/>
          </a:xfrm>
          <a:custGeom>
            <a:avLst/>
            <a:gdLst/>
            <a:ahLst/>
            <a:rect l="l" t="t" r="r" b="b"/>
            <a:pathLst>
              <a:path w="298" h="348">
                <a:moveTo>
                  <a:pt x="2480" y="3349"/>
                </a:moveTo>
                <a:cubicBezTo>
                  <a:pt x="2505" y="3299"/>
                  <a:pt x="2513" y="3282"/>
                  <a:pt x="2555" y="3274"/>
                </a:cubicBezTo>
                <a:cubicBezTo>
                  <a:pt x="2636" y="3396"/>
                  <a:pt x="2581" y="3433"/>
                  <a:pt x="2505" y="3547"/>
                </a:cubicBezTo>
                <a:cubicBezTo>
                  <a:pt x="2383" y="3730"/>
                  <a:pt x="2683" y="3554"/>
                  <a:pt x="2753" y="352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88960" y="509760"/>
            <a:ext cx="81000" cy="125280"/>
          </a:xfrm>
          <a:custGeom>
            <a:avLst/>
            <a:gdLst/>
            <a:ahLst/>
            <a:rect l="l" t="t" r="r" b="b"/>
            <a:pathLst>
              <a:path w="224" h="348">
                <a:moveTo>
                  <a:pt x="1637" y="1488"/>
                </a:moveTo>
                <a:cubicBezTo>
                  <a:pt x="1690" y="1475"/>
                  <a:pt x="1727" y="1425"/>
                  <a:pt x="1786" y="1414"/>
                </a:cubicBezTo>
                <a:cubicBezTo>
                  <a:pt x="1903" y="1393"/>
                  <a:pt x="1748" y="1572"/>
                  <a:pt x="1736" y="1588"/>
                </a:cubicBezTo>
                <a:cubicBezTo>
                  <a:pt x="1770" y="1520"/>
                  <a:pt x="1850" y="1506"/>
                  <a:pt x="1860" y="1637"/>
                </a:cubicBezTo>
                <a:cubicBezTo>
                  <a:pt x="1869" y="1748"/>
                  <a:pt x="1782" y="1748"/>
                  <a:pt x="1712" y="176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23960" y="1214280"/>
            <a:ext cx="17280" cy="135000"/>
          </a:xfrm>
          <a:custGeom>
            <a:avLst/>
            <a:gdLst/>
            <a:ahLst/>
            <a:rect l="l" t="t" r="r" b="b"/>
            <a:pathLst>
              <a:path w="51" h="374">
                <a:moveTo>
                  <a:pt x="2059" y="3398"/>
                </a:moveTo>
                <a:cubicBezTo>
                  <a:pt x="2059" y="3331"/>
                  <a:pt x="2046" y="3481"/>
                  <a:pt x="2034" y="3547"/>
                </a:cubicBezTo>
                <a:cubicBezTo>
                  <a:pt x="2015" y="3663"/>
                  <a:pt x="2006" y="3679"/>
                  <a:pt x="2009" y="37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01760" y="509760"/>
            <a:ext cx="1440" cy="79200"/>
          </a:xfrm>
          <a:custGeom>
            <a:avLst/>
            <a:gdLst/>
            <a:ahLst/>
            <a:rect l="l" t="t" r="r" b="b"/>
            <a:pathLst>
              <a:path w="1" h="224">
                <a:moveTo>
                  <a:pt x="1116" y="1414"/>
                </a:moveTo>
                <a:cubicBezTo>
                  <a:pt x="1116" y="1488"/>
                  <a:pt x="1116" y="1563"/>
                  <a:pt x="1116" y="16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85840" y="1276200"/>
            <a:ext cx="152280" cy="144720"/>
          </a:xfrm>
          <a:custGeom>
            <a:avLst/>
            <a:gdLst/>
            <a:ahLst/>
            <a:rect l="l" t="t" r="r" b="b"/>
            <a:pathLst>
              <a:path w="422" h="398">
                <a:moveTo>
                  <a:pt x="794" y="3572"/>
                </a:moveTo>
                <a:cubicBezTo>
                  <a:pt x="895" y="3558"/>
                  <a:pt x="1034" y="3514"/>
                  <a:pt x="1091" y="3646"/>
                </a:cubicBezTo>
                <a:cubicBezTo>
                  <a:pt x="1127" y="3729"/>
                  <a:pt x="1038" y="3925"/>
                  <a:pt x="943" y="3944"/>
                </a:cubicBezTo>
                <a:cubicBezTo>
                  <a:pt x="935" y="3936"/>
                  <a:pt x="926" y="3927"/>
                  <a:pt x="918" y="3919"/>
                </a:cubicBezTo>
                <a:cubicBezTo>
                  <a:pt x="936" y="3780"/>
                  <a:pt x="1000" y="3809"/>
                  <a:pt x="1116" y="3870"/>
                </a:cubicBezTo>
                <a:cubicBezTo>
                  <a:pt x="1173" y="3907"/>
                  <a:pt x="1176" y="3923"/>
                  <a:pt x="1215" y="391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55760" y="1251000"/>
            <a:ext cx="98280" cy="133200"/>
          </a:xfrm>
          <a:custGeom>
            <a:avLst/>
            <a:gdLst/>
            <a:ahLst/>
            <a:rect l="l" t="t" r="r" b="b"/>
            <a:pathLst>
              <a:path w="274" h="373">
                <a:moveTo>
                  <a:pt x="1463" y="3473"/>
                </a:moveTo>
                <a:cubicBezTo>
                  <a:pt x="1393" y="3473"/>
                  <a:pt x="1320" y="3457"/>
                  <a:pt x="1290" y="3497"/>
                </a:cubicBezTo>
                <a:cubicBezTo>
                  <a:pt x="1250" y="3550"/>
                  <a:pt x="1253" y="3598"/>
                  <a:pt x="1290" y="3646"/>
                </a:cubicBezTo>
                <a:cubicBezTo>
                  <a:pt x="1353" y="3562"/>
                  <a:pt x="1410" y="3601"/>
                  <a:pt x="1488" y="3646"/>
                </a:cubicBezTo>
                <a:cubicBezTo>
                  <a:pt x="1629" y="3727"/>
                  <a:pt x="1436" y="3845"/>
                  <a:pt x="1339" y="3845"/>
                </a:cubicBezTo>
                <a:cubicBezTo>
                  <a:pt x="1331" y="3837"/>
                  <a:pt x="1323" y="3828"/>
                  <a:pt x="1315" y="382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42960" y="135720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786" y="3770"/>
                </a:moveTo>
                <a:lnTo>
                  <a:pt x="1786" y="3770"/>
                </a:lnTo>
                <a:lnTo>
                  <a:pt x="1786" y="3770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e Workbook pg. 135   6 – 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7T13:50:49Z</dcterms:created>
  <dc:creator>deanne elizabeth mcgrath</dc:creator>
  <dc:description/>
  <dc:language>en-US</dc:language>
  <cp:lastModifiedBy>deanne elizabeth mcgrath</cp:lastModifiedBy>
  <dcterms:modified xsi:type="dcterms:W3CDTF">2011-02-17T19:07:34Z</dcterms:modified>
  <cp:revision>3</cp:revision>
  <dc:subject/>
  <dc:title>Warm-up:  MSA Practice Day 6</dc:title>
</cp:coreProperties>
</file>